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0F6-D0E3-464B-8FB4-DFCE1A9C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3E6-8C8B-4F03-A1BD-9C19D2F2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52A-C5A8-41C8-B1DA-86351263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48A-1D00-40FB-A850-98D4E2C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A98-5434-4606-A8E2-D7672C74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9D7-7DF1-4128-A820-B6BE184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480-4411-4146-9347-8407B27C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3E7C-B769-4B66-B3E5-CE833AAC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B515-5A8F-47D0-9980-FA539EC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A6D-C088-4480-B8A5-7B0D1CB5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D76-0D1E-4F63-A3F4-14CF35E0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B880-2329-4C13-83F0-112C387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3AC9-E9CE-4358-B9E7-614DC9E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70B-6565-4C23-A23F-FE430BEB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CF9-574C-4125-99F7-63D6114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1BC9-A541-47EF-94E2-959CA3F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BE1-5501-4AC3-9A9B-3E3F26C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B50-A6E8-4527-83A8-BBF94238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A70-01DA-4CC1-9810-23CDE851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0589-1DFE-4E2E-BA32-CFCB5E23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63F0-2C83-424D-A0C1-F195447B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7F6F-03D6-485A-84A8-0DEFD874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44F2-AD06-4B27-AEAE-08E0CBF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71AC-42E6-4D5D-82B8-13F7929C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B50-C93A-4ADC-A4F1-21D1F4F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18E9-5CFE-4A2C-BB0B-1F8497BC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FCDC-53C7-4557-9395-130B123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F5B4-3B3D-4153-AE69-9274D8E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0129-7488-446D-A79C-8EB43AA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C639-E3F6-4769-AEE0-AD1CEBD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5B4E-77F4-4DC7-B681-9EFF129E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A416-2851-4646-B05C-28896B70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5452-7526-47B2-AE20-546EAD5E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F96E9-ACA8-464F-94EE-517A9419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FDD3-2881-47AE-AF76-73E4F429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B76-E72A-45F5-B36C-67B43A0D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D6FB-CB18-4B91-9A3F-3E532FB6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ADB1-54D7-44B3-B725-393029E5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D861B-D04F-4662-96CD-309D328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684B-12B8-4EEE-AA55-8299DA8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9ECF-E433-4A10-81F6-51EE786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5B92-B6B9-440D-9191-0282ADA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D326-C031-4A52-B8AD-7956EBF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67E0-B809-43A0-84B3-1DE01B18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95AC-EF08-4475-82C7-7E70624E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2F0AC-57FC-4193-B470-B893DD90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CD7-8BE3-4BE5-8CF8-50AE964D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98B2-5551-4521-89AD-8F55ADD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61B5-A895-4933-A7A5-0FCD0E2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3568-CCEB-4D61-B2C0-1E0B301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2E88-1D32-48A0-9AC8-1F95537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CC394-1106-4E45-8AF6-AA79211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1968-886F-4CC0-B747-96A25C7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DDD2-23F4-4FCD-893B-2C735B37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3685-8ACC-478D-A509-00951336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52CF-0762-4ADE-8A9A-2DD59B1F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A368-0F12-4D28-B155-D3A6B589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9B2-9896-4A78-9DB3-FF5975C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D3D9-9666-4D7A-B56B-011F7E9C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DE9-6A4D-42DE-BB92-3CA8CB6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6E9-C6D3-4836-8BBA-BB8AFF5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3DC-0E5C-46CB-934B-15E3E49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210-F4C4-454A-A23B-BD9A940E5246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140-549C-4D5E-9072-AC194C285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25B-9ECE-4AFC-877E-2314D3F51184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22E0-8AC0-4A8C-A8C6-9C7FEE1FDD8C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CF8-3146-4735-A99B-C81B01FCB385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ngelina Bare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bruary 6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verall Academic Performance: Lo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YP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th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ading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9-2010 School Year: 81% Free/Reduced Lun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tle 1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IF/Literacy Nigh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ccessMaker Lab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riangle Proce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ighes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0 year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n district averag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50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January 2009-2010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School Enrollment Repor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Kindergarten: 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ergarten: 5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6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5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Indian: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ian: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ack: 9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ispanic: 13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: 8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9560" indent="-26496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happened to me, was happening for thes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only no other infl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ortant to teach from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 feels comfor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 people like them in the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ocentric .vs. Eurocentr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 there something I did not s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 (continu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were so many people neg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 from a culture everything would be ok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ould teach from every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such thing as one cultu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very person, situation, and time are differ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27880" indent="-198720">
              <a:spcBef>
                <a:spcPts val="49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I knew this, then why did I think the children were going through the same thing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knew culture was not ethnicity, but I was more influenced by ethnicity (marginalized .vs. privileg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6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ngelina\Pictures\2010-01-04\015.JPG"/>
          <p:cNvPicPr/>
          <p:nvPr/>
        </p:nvPicPr>
        <p:blipFill>
          <a:blip r:embed="rId2"/>
          <a:stretch/>
        </p:blipFill>
        <p:spPr>
          <a:xfrm>
            <a:off x="1522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ngelina\Pictures\2010-01-04\016.JPG"/>
          <p:cNvPicPr/>
          <p:nvPr/>
        </p:nvPicPr>
        <p:blipFill>
          <a:blip r:embed="rId3"/>
          <a:stretch/>
        </p:blipFill>
        <p:spPr>
          <a:xfrm>
            <a:off x="152280" y="457200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Angelina\Pictures\2010-01-04\040.JPG"/>
          <p:cNvPicPr/>
          <p:nvPr/>
        </p:nvPicPr>
        <p:blipFill>
          <a:blip r:embed="rId4"/>
          <a:stretch/>
        </p:blipFill>
        <p:spPr>
          <a:xfrm>
            <a:off x="5715000" y="1828800"/>
            <a:ext cx="3276720" cy="487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Angelina\Pictures\2010-01-04\039.JPG"/>
          <p:cNvPicPr/>
          <p:nvPr/>
        </p:nvPicPr>
        <p:blipFill>
          <a:blip r:embed="rId5"/>
          <a:stretch/>
        </p:blipFill>
        <p:spPr>
          <a:xfrm>
            <a:off x="3124080" y="2666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Sample (Religious and Federal Holiday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nted to try and touch on one Religious Holiday from every reli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Veterans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ilitary famil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ked who had someone in the milit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lked about some Ethnic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sed a lot of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ethnic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randparents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religiou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bor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 to do something not already set-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of my 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d I do to please or infor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ittle of both in the beginning, but the “reflection-on-action” shows it was more to in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was I trying to pl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Graders, the know the basic Holidays (Christmas, Halloween, and maybe Valentine’s Day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b13f9a"/>
                </a:solidFill>
                <a:latin typeface="Calibri"/>
              </a:rPr>
              <a:t>Where is a student’s culture coming from?</a:t>
            </a:r>
            <a:endParaRPr b="0" lang="en-US" sz="2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24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i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Content Placeholder 6" descr=""/>
          <p:cNvPicPr/>
          <p:nvPr/>
        </p:nvPicPr>
        <p:blipFill>
          <a:blip r:embed="rId1"/>
          <a:stretch/>
        </p:blipFill>
        <p:spPr>
          <a:xfrm>
            <a:off x="365040" y="1792440"/>
            <a:ext cx="4213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combined (home, school, and commun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 school programs and clim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family services and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parents’ skills and lead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 families in the school and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a partnership and a caring community for the stud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one is invol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ibility of every layer/value/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view of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zzles of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Prior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Evidential Artifac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ffects Teaching an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be more than a triangle maybe a square or a venn dia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 instead of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on of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and Community invol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for life long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 the Child as a Stu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separation between school and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-Like Famili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ce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-Like School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come all famil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can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not teach from all cul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be aware of different cultures and try not to off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, Transmitted Knowledge, and Core 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necessarily the same experi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6 Types of Invol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2" descr="C:\Users\Public\Pictures\Sample Pictures\sfcp-chart.gif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44720" y="1752480"/>
            <a:ext cx="4041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 types of involv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s a better partnership (school, family, and community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have a positive impact on child, teacher, and par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“perfect” program will include all 6 Types (portions of) and be connected to the schools go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tion on the culture si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451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me do not like childrearing involve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hen .vs. Now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1" name="Isosceles Triangle 3"/>
          <p:cNvSpPr/>
          <p:nvPr/>
        </p:nvSpPr>
        <p:spPr>
          <a:xfrm>
            <a:off x="152280" y="3048120"/>
            <a:ext cx="2057400" cy="1676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4"/>
          <p:cNvSpPr/>
          <p:nvPr/>
        </p:nvSpPr>
        <p:spPr>
          <a:xfrm>
            <a:off x="2438280" y="3429000"/>
            <a:ext cx="1524240" cy="990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Content Placeholder 6" descr=""/>
          <p:cNvPicPr/>
          <p:nvPr/>
        </p:nvPicPr>
        <p:blipFill>
          <a:blip r:embed="rId2"/>
          <a:stretch/>
        </p:blipFill>
        <p:spPr>
          <a:xfrm>
            <a:off x="4645080" y="3090960"/>
            <a:ext cx="3895560" cy="3724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Public\Pictures\Sample Pictures\epsteinovals(1).jpg"/>
          <p:cNvPicPr/>
          <p:nvPr/>
        </p:nvPicPr>
        <p:blipFill>
          <a:blip r:embed="rId3"/>
          <a:stretch/>
        </p:blipFill>
        <p:spPr>
          <a:xfrm>
            <a:off x="5943600" y="8380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. joyce eptstein’s model. Retrieved on February 3, 2010, from http://www.naperville203.org/parents-students/EpsteinModelPS.as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80916 zip code detailed profile. Retrieved on February 2, 2010, from http://www.citydata.com/zips/80916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d, D. Y., Moore, J. L., &amp; Harmon, D. A. (2005, Spring). Integrating multicultural and gifted education: A curricular framework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ory into Practice, 4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), 125-137. Retrieved January 31, 2010, from http://search.ebscohost.com/login.aspx?direct=true&amp;db=aph&amp;AN=16805890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es-Snipes, P. R. (2005, July). The effect of african culture on african american students’ achievement on selected geometry topics in the elementary mathematics classroom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egro Educational Review, 56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/3), 147-166. Retrieved January 21, 2010, from http://search.ebscohost.com/login.aspx?direct=true&amp;db=aph&amp;AN=20195447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lapping spheres of influence. Retrieved on February 3, 2010, from http://www.ncrel.org/sdrs/areas/issues/envrnmnt/famncomm/pa3lk3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terson, P. J., &amp; Montfort, L. (2004, Fall). Creating culturally dynamic materials for rural culturally and linguistically diverse exceptional students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ural Special Education Quarterly, 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4), 25-29. Retrieved January 31, 2010, from http://search.ebscohost.com.dml.regis.edu/login.aspx?direct=true&amp;db=aph&amp;AN=16110024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umbull, E., Rothstein-Fisch, C., Greenfield, P. M., &amp; Quiroz, B. (2001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ridging cultures between home and school: A guide for teacher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eicherner, K. M., &amp; Liston, D. P. (1996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flective teaching: An int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br>
              <a:rPr sz="4500"/>
            </a:b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Larger Community Overview—Levels of Infl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Classroom Community Over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tretch/>
        </p:blipFill>
        <p:spPr>
          <a:xfrm>
            <a:off x="450720" y="2481120"/>
            <a:ext cx="4054680" cy="39862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7" descr=""/>
          <p:cNvPicPr/>
          <p:nvPr/>
        </p:nvPicPr>
        <p:blipFill>
          <a:blip r:embed="rId2"/>
          <a:stretch/>
        </p:blipFill>
        <p:spPr>
          <a:xfrm>
            <a:off x="4638600" y="2498760"/>
            <a:ext cx="40546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 in the Field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53" name="Picture 2" descr="C:\Users\Public\Pictures\Sample Pictures\epsteinovals(1)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nt Range, 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iverse Low 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ylor Elementary (Pre-K throug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35000"/>
          <a:ext cx="8229600" cy="741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District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in 18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5 Schools in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4 Element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K-8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Middle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 High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lternative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dult and Family Educ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Charter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tal District Revenue: $103,233,10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Community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Demographic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Zip Code .vs. C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dian Household Income: $45,628 .vs. $56,2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gle Mother Household: 14.1% .vs. 7.9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low Poverty Level:       16.8% .vs. 8.7%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54:41Z</dcterms:created>
  <dc:creator>Angelina Barela</dc:creator>
  <dc:description/>
  <dc:language>en-US</dc:language>
  <cp:lastModifiedBy>kwoodrow</cp:lastModifiedBy>
  <dcterms:modified xsi:type="dcterms:W3CDTF">2010-03-13T23:48:34Z</dcterms:modified>
  <cp:revision>50</cp:revision>
  <dc:subject/>
  <dc:title>Community Connection</dc:title>
</cp:coreProperties>
</file>