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2792-9957-4EB2-8553-9D446C9E9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DA30-9C73-4EE4-931E-97B97F186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6D4B-5F23-4FE2-A177-84C4DFD7E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0356-A132-4397-9D48-6E6F6EAB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D08D-5C21-4304-8BCF-0935A1511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DFBB-F9A6-487B-BEED-130D8EEA0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03B4-B5F3-4C9A-BEE7-3800FE4E3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5043-CCF7-4307-8FB3-3DB5CF98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0A31-F6A6-4EC3-B4BB-81759765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B2FC-43A4-499E-ABAC-47880F5F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6F2F-4C13-4293-A45B-81F361CB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5A06-ED47-44B0-B435-91380DA0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67E4-AFA7-48D4-8F78-FA3EF5B9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B2BD-F12A-4CCD-A238-AD79E39E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EFD5-179C-4A78-9665-EE3F58BC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3EA9-0D52-4353-BDAF-6ECD46A4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4BFA-71FA-485D-92E1-8AE96C42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B190-F0B2-4C77-98C1-BAF7D4FB1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5727-D861-44AB-AD92-C1DA63C33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BE672-9370-4B64-9EE5-A52A4BC63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68B79-3CE3-491F-B364-92B89642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19684-9407-4A5B-AFF1-180493C3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C668D-5B19-4062-BE32-1DD5D1BE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E0D78-BDB4-4D6C-B18A-39D1A1A1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8711-6820-4F87-9C81-19857B35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3BF77-F642-4596-8590-F428BD91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D2AD2-B0D8-4DFE-890B-55D07F6F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6AF3E-7C2A-4E7A-B5DA-3D7C36EC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DD4FF-0ECE-4737-81E1-FB95636E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DC337-C979-4E09-9D3D-82F48CA4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B5D08-909A-432C-987D-8EBF3ECD2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43FE1-8052-4554-8DF3-7AC322433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9BA7A-00CB-473B-A566-022AE9220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77017-DC9D-4865-B2C9-1BE8D14C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2FF1B-EE85-4DB1-9C49-E443B316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D062-09EF-44D2-945B-3DA4421E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EEA14-6C1C-4330-B52B-8FC120A5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1166A-4762-4AC8-85C5-3B3195B4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AE130-7F26-4D9B-8418-F0CEFB63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A7BA9-7797-426B-AF16-156A4B24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A5DF8-180A-4AE9-BEB3-324C106E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B3C87-2644-41B1-A229-B1EF8948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8976B-E41F-4ADA-A7BA-7A134855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7E7F9-990C-41B7-8C28-0EABA8EFC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71015-DF13-40F9-8BC0-45F1363F9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EC02F-056F-404E-A2E9-E19B3B482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87E9-91C6-4639-917C-A264BB4C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84C16-0C18-4406-B4D6-30AB9CCD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E9A97-979A-4355-BF13-4B422B14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5C6A2-8C9D-429D-97FC-B610BCDF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F79A0-F204-4911-942A-033EFE69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A1FDE-CD27-4DDE-A557-C31892F8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30A80-81AB-4FD5-B816-68DE6E76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4582E-0104-423A-9AE0-B165CEA7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FDB6E-FA24-4D50-8667-0DAB5324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8E03D-9C79-4BF3-931D-69013249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3BA71-34F3-4A29-9C1D-5378AEF29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220F-DFBF-45A6-888E-6A46A754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F4CB8-3996-4514-889C-AE7BE0927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0AD5-20D4-4A6B-8A14-55A3A71B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F3A5-AC5D-48FB-82AB-1EFC81E1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5950-0FF7-45B6-9BCF-5D33D80E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A0BE-19A2-4FEC-953E-14352515F1EC}" type="slidenum">
              <a:rPr b="0" lang="en-US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595D-D6A9-498A-91CD-89FCAC83FE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9dce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C57A-EA36-48E8-90EB-19248F0619E4}" type="slidenum">
              <a:rPr b="0" lang="en-US" sz="1200" spc="-1" strike="noStrike">
                <a:solidFill>
                  <a:srgbClr val="e9dce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9dce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CB76-E064-4FD6-AB97-CD3E991FDABF}" type="slidenum">
              <a:rPr b="0" lang="en-US" sz="1200" spc="-1" strike="noStrike">
                <a:solidFill>
                  <a:srgbClr val="e9dce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D375-A3A5-4BC1-9816-9AEABC81D71F}" type="slidenum">
              <a:rPr b="0" lang="en-US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 Angelina Barel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ebruary 6, 201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b13f9a"/>
                </a:solidFill>
                <a:latin typeface="Calibri"/>
              </a:rPr>
              <a:t>Background Information</a:t>
            </a:r>
            <a:br>
              <a:rPr sz="4500"/>
            </a:br>
            <a:r>
              <a:rPr b="0" lang="en-US" sz="4500" spc="-1" strike="noStrike">
                <a:solidFill>
                  <a:srgbClr val="b13f9a"/>
                </a:solidFill>
                <a:latin typeface="Calibri"/>
              </a:rPr>
              <a:t>School Information</a:t>
            </a:r>
            <a:endParaRPr b="0" lang="en-US" sz="4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AR 2007-20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verall Academic Performance: Low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YP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Math-Ye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Reading-Ye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2009-2010 School Year: 81% Free/Reduced Lunc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itle 1 Schoo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RIF/Literacy Night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SuccessMaker Lab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A Triangle Proces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ighest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In 10 year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Than district average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550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Background Information</a:t>
            </a:r>
            <a:br>
              <a:rPr sz="4000"/>
            </a:b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January 2009-2010 </a:t>
            </a:r>
            <a:br>
              <a:rPr sz="4000"/>
            </a:b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School Enrollment Report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25905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e-Kindergarten: 25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Kindergarten: 57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 68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nstantia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 51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nstantia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 49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 48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 34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merican Indian: 1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sian: 1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lack: 91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ispanic: 135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hite: 84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Teaching Practices (Prior Experience)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rsonal Experi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529560" indent="-264960">
              <a:spcBef>
                <a:spcPts val="524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What happened to me, was happening for these student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me and School only no other influe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mportant to teach from cult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udent feels comfortab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e people like them in the less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thnocentric .vs. Eurocentri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ransmitted Knowled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as there something I did not se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Teaching Practices (Prior Experience)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ransmitted Knowledge (continued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y were so many people negati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alu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each from a culture everything would be oka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 could teach from every cul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spcBef>
                <a:spcPts val="524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No such thing as one cultur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spcBef>
                <a:spcPts val="524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Every person, situation, and time are different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27880" indent="-198720">
              <a:spcBef>
                <a:spcPts val="49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f I knew this, then why did I think the children were going through the same thing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 knew culture was not ethnicity, but I was more influenced by ethnicity (marginalized .vs. privileged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“</a:t>
            </a: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Puzzles of Practice”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re is a student’s culture coming from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w do each layer/value/community affect a child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 what degre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If a layer/value/community was taken away would the student still make achievement gains? 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Title 6" descr=""/>
          <p:cNvPicPr/>
          <p:nvPr/>
        </p:nvPicPr>
        <p:blipFill>
          <a:blip r:embed="rId1"/>
          <a:stretch/>
        </p:blipFill>
        <p:spPr>
          <a:xfrm>
            <a:off x="109440" y="298440"/>
            <a:ext cx="8663040" cy="15541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C:\Users\Angelina\Pictures\2010-01-04\015.JPG"/>
          <p:cNvPicPr/>
          <p:nvPr/>
        </p:nvPicPr>
        <p:blipFill>
          <a:blip r:embed="rId2"/>
          <a:stretch/>
        </p:blipFill>
        <p:spPr>
          <a:xfrm>
            <a:off x="152280" y="1981080"/>
            <a:ext cx="2895840" cy="1905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ngelina\Pictures\2010-01-04\016.JPG"/>
          <p:cNvPicPr/>
          <p:nvPr/>
        </p:nvPicPr>
        <p:blipFill>
          <a:blip r:embed="rId3"/>
          <a:stretch/>
        </p:blipFill>
        <p:spPr>
          <a:xfrm>
            <a:off x="152280" y="4572000"/>
            <a:ext cx="2895840" cy="20574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C:\Users\Angelina\Pictures\2010-01-04\040.JPG"/>
          <p:cNvPicPr/>
          <p:nvPr/>
        </p:nvPicPr>
        <p:blipFill>
          <a:blip r:embed="rId4"/>
          <a:stretch/>
        </p:blipFill>
        <p:spPr>
          <a:xfrm>
            <a:off x="5715000" y="1828800"/>
            <a:ext cx="3276720" cy="4876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C:\Users\Angelina\Pictures\2010-01-04\039.JPG"/>
          <p:cNvPicPr/>
          <p:nvPr/>
        </p:nvPicPr>
        <p:blipFill>
          <a:blip r:embed="rId5"/>
          <a:stretch/>
        </p:blipFill>
        <p:spPr>
          <a:xfrm>
            <a:off x="3124080" y="2666880"/>
            <a:ext cx="25146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Teaching Practices</a:t>
            </a:r>
            <a:br>
              <a:rPr sz="5000"/>
            </a:b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(Evidential Artifacts)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ork Sample (Religious and Federal Holiday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anted to try and touch on one Religious Holiday from every relig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scussed Veterans Da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524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ilitary famili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524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sked who had someone in the militar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alked about some Ethnic Holiday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issed a lot of Holiday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524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Other ethniciti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524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Grandparents Da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524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Other religious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524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Labor Da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Teaching Practices</a:t>
            </a:r>
            <a:br>
              <a:rPr sz="5000"/>
            </a:b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(Evidential Artifacts)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anted to do something not already set-u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mething of my ow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d I do to please or inform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little of both in the beginning, but the “reflection-on-action” shows it was more to infor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Who was I trying to pleas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Graders, the know the basic Holidays (Christmas, Halloween, and maybe Valentine’s Day)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US" sz="2600" spc="-1" strike="noStrike">
                <a:solidFill>
                  <a:srgbClr val="b13f9a"/>
                </a:solidFill>
                <a:latin typeface="Calibri"/>
              </a:rPr>
              <a:t>Where is a student’s culture coming from?</a:t>
            </a:r>
            <a:endParaRPr b="0" lang="en-US" sz="26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800240" y="167652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s it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rger Commun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ami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stri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chool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assro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7" name="Content Placeholder 6" descr=""/>
          <p:cNvPicPr/>
          <p:nvPr/>
        </p:nvPicPr>
        <p:blipFill>
          <a:blip r:embed="rId1"/>
          <a:stretch/>
        </p:blipFill>
        <p:spPr>
          <a:xfrm>
            <a:off x="365040" y="1792440"/>
            <a:ext cx="421344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Data Affect Teaching and Learning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n combined (home, school, and community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mprove school programs and clim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vide family services and suppo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crease parents’ skills and leadershi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nect families in the school and commun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reates a partnership and a caring community for the stud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eryone is involv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sponsibility of every layer/value/commun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ommunity Connection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verview of Commun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uzzles of Practice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ckground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aching Practices (Prior Experienc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aching Practices (Evidential Artifact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ta Affects Teaching and Lear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our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Data Affect Teaching and Learning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ybe more than a triangle maybe a square or a venn diagra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ildren instead of stud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tension of the famil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amily and Community involv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lows for life long learn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e the Child as a Stud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re is a separation between school and ho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Data Affect Teaching and Learning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chool-Like Families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mportance of scho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mewor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arning activ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amily-Like Schools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ccept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r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elcome all famil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Data Affect Teaching and Learning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me and School can clas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nnot teach from all cultu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You can be aware of different cultures and try not to offen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rsonal Experience, Transmitted Knowledge, and Core Valu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t necessarily the same experien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Data Affect Teaching and Learning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3f9a"/>
                </a:solidFill>
                <a:latin typeface="Constantia"/>
              </a:rPr>
              <a:t>6 Types of Involve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8" name="Picture 2" descr="C:\Users\Public\Pictures\Sample Pictures\sfcp-chart.gif"/>
          <p:cNvPicPr/>
          <p:nvPr/>
        </p:nvPicPr>
        <p:blipFill>
          <a:blip r:embed="rId1"/>
          <a:stretch/>
        </p:blipFill>
        <p:spPr>
          <a:xfrm>
            <a:off x="380880" y="2514600"/>
            <a:ext cx="4267440" cy="38098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 txBox="1"/>
          <p:nvPr/>
        </p:nvSpPr>
        <p:spPr>
          <a:xfrm>
            <a:off x="4644720" y="1752480"/>
            <a:ext cx="4041720" cy="4608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256320" indent="-256320"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6 types of involvemen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reates a better partnership (school, family, and community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an have a positive impact on child, teacher, and paren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“perfect” program will include all 6 Types (portions of) and be connected to the schools goal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49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aution on the culture sid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451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ome do not like childrearing involvement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5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Then .vs. Now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1" name="Isosceles Triangle 3"/>
          <p:cNvSpPr/>
          <p:nvPr/>
        </p:nvSpPr>
        <p:spPr>
          <a:xfrm>
            <a:off x="152280" y="3048120"/>
            <a:ext cx="2057400" cy="1676160"/>
          </a:xfrm>
          <a:prstGeom prst="triangle">
            <a:avLst>
              <a:gd name="adj" fmla="val 50000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Arrow 4"/>
          <p:cNvSpPr/>
          <p:nvPr/>
        </p:nvSpPr>
        <p:spPr>
          <a:xfrm>
            <a:off x="2438280" y="3429000"/>
            <a:ext cx="1524240" cy="99072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1828800" cy="1676520"/>
          </a:xfrm>
          <a:prstGeom prst="rect">
            <a:avLst/>
          </a:prstGeom>
          <a:ln w="0">
            <a:noFill/>
          </a:ln>
        </p:spPr>
      </p:pic>
      <p:pic>
        <p:nvPicPr>
          <p:cNvPr id="304" name="Content Placeholder 6" descr=""/>
          <p:cNvPicPr/>
          <p:nvPr/>
        </p:nvPicPr>
        <p:blipFill>
          <a:blip r:embed="rId2"/>
          <a:stretch/>
        </p:blipFill>
        <p:spPr>
          <a:xfrm>
            <a:off x="4645080" y="3090960"/>
            <a:ext cx="3895560" cy="37242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Users\Public\Pictures\Sample Pictures\epsteinovals(1).jpg"/>
          <p:cNvPicPr/>
          <p:nvPr/>
        </p:nvPicPr>
        <p:blipFill>
          <a:blip r:embed="rId3"/>
          <a:stretch/>
        </p:blipFill>
        <p:spPr>
          <a:xfrm>
            <a:off x="5943600" y="838080"/>
            <a:ext cx="29718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Resources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r. joyce eptstein’s model. Retrieved on February 3, 2010, from http://www.naperville203.org/parents-students/EpsteinModelPS.as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80916 zip code detailed profile. Retrieved on February 2, 2010, from http://www.citydata.com/zips/80916.htm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rd, D. Y., Moore, J. L., &amp; Harmon, D. A. (2005, Spring). Integrating multicultural and gifted education: A curricular framework.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Theory into Practice, 44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2), 125-137. Retrieved January 31, 2010, from http://search.ebscohost.com/login.aspx?direct=true&amp;db=aph&amp;AN=16805890&amp;site=ehost-liv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ses-Snipes, P. R. (2005, July). The effect of african culture on african american students’ achievement on selected geometry topics in the elementary mathematics classroom.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Negro Educational Review, 56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2/3), 147-166. Retrieved January 21, 2010, from http://search.ebscohost.com/login.aspx?direct=true&amp;db=aph&amp;AN=20195447&amp;site=ehost-liv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Resources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verlapping spheres of influence. Retrieved on February 3, 2010, from http://www.ncrel.org/sdrs/areas/issues/envrnmnt/famncomm/pa3lk3.ht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eterson, P. J., &amp; Montfort, L. (2004, Fall). Creating culturally dynamic materials for rural culturally and linguistically diverse exceptional students.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Rural Special Education Quarterly, 23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4), 25-29. Retrieved January 31, 2010, from http://search.ebscohost.com.dml.regis.edu/login.aspx?direct=true&amp;db=aph&amp;AN=16110024&amp;site=ehost-liv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rumbull, E., Rothstein-Fisch, C., Greenfield, P. M., &amp; Quiroz, B. (2001).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Bridging cultures between home and school: A guide for teachers.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Mahwah, NJ: Lawrence Erlbaum Associat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Zeicherner, K. M., &amp; Liston, D. P. (1996).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Reflective teaching: An introductio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Mahwah, NJ: Lawrence Erlbaum Associat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b13f9a"/>
                </a:solidFill>
                <a:latin typeface="Calibri"/>
              </a:rPr>
              <a:t>Community Connection</a:t>
            </a:r>
            <a:br>
              <a:rPr sz="4500"/>
            </a:br>
            <a:endParaRPr b="0" lang="en-US" sz="4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3f9a"/>
                </a:solidFill>
                <a:latin typeface="Constantia"/>
              </a:rPr>
              <a:t>Larger Community Overview—Levels of Influe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13f9a"/>
                </a:solidFill>
                <a:latin typeface="Constantia"/>
              </a:rPr>
              <a:t>Classroom Community Overview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0" name="Content Placeholder 6" descr=""/>
          <p:cNvPicPr/>
          <p:nvPr/>
        </p:nvPicPr>
        <p:blipFill>
          <a:blip r:embed="rId1"/>
          <a:stretch/>
        </p:blipFill>
        <p:spPr>
          <a:xfrm>
            <a:off x="450720" y="2481120"/>
            <a:ext cx="4054680" cy="3986280"/>
          </a:xfrm>
          <a:prstGeom prst="rect">
            <a:avLst/>
          </a:prstGeom>
          <a:ln w="0">
            <a:noFill/>
          </a:ln>
        </p:spPr>
      </p:pic>
      <p:pic>
        <p:nvPicPr>
          <p:cNvPr id="251" name="Content Placeholder 7" descr=""/>
          <p:cNvPicPr/>
          <p:nvPr/>
        </p:nvPicPr>
        <p:blipFill>
          <a:blip r:embed="rId2"/>
          <a:stretch/>
        </p:blipFill>
        <p:spPr>
          <a:xfrm>
            <a:off x="4638600" y="2498760"/>
            <a:ext cx="405468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ommunity Connection in the Field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253" name="Picture 2" descr="C:\Users\Public\Pictures\Sample Pictures\epsteinovals(1).jpg"/>
          <p:cNvPicPr/>
          <p:nvPr/>
        </p:nvPicPr>
        <p:blipFill>
          <a:blip r:embed="rId1"/>
          <a:stretch/>
        </p:blipFill>
        <p:spPr>
          <a:xfrm>
            <a:off x="1066680" y="1905120"/>
            <a:ext cx="70866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“</a:t>
            </a: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Puzzles of Practice”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re is a student’s culture coming from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w does each layer/value/community affect a child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 what degre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If a layer/value/community was taken away would the student still make achievement gains? 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Background Information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rger Community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ront Range, C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strict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546120" indent="-273240">
              <a:spcBef>
                <a:spcPts val="524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Diverse Low S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chool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aylor Elementary (Pre-K through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Grad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assro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Gra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Background Information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57200" y="1935000"/>
          <a:ext cx="8229600" cy="7416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b13f9a"/>
                </a:solidFill>
                <a:latin typeface="Calibri"/>
              </a:rPr>
              <a:t>Background Information</a:t>
            </a:r>
            <a:br>
              <a:rPr sz="4500"/>
            </a:br>
            <a:r>
              <a:rPr b="0" lang="en-US" sz="4500" spc="-1" strike="noStrike">
                <a:solidFill>
                  <a:srgbClr val="b13f9a"/>
                </a:solidFill>
                <a:latin typeface="Calibri"/>
              </a:rPr>
              <a:t>District Information</a:t>
            </a:r>
            <a:endParaRPr b="0" lang="en-US" sz="4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gan in 187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25 Schools in Distri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14 Elementar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1 K-8 Schoo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3 Middle School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2 High School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1 Alternative Schoo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1 Adult and Family Education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3 Charter School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AR 2007-200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otal District Revenue: $103,233,102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b13f9a"/>
                </a:solidFill>
                <a:latin typeface="Calibri"/>
              </a:rPr>
              <a:t>Background Information</a:t>
            </a:r>
            <a:br>
              <a:rPr sz="4500"/>
            </a:br>
            <a:r>
              <a:rPr b="0" lang="en-US" sz="4500" spc="-1" strike="noStrike">
                <a:solidFill>
                  <a:srgbClr val="b13f9a"/>
                </a:solidFill>
                <a:latin typeface="Calibri"/>
              </a:rPr>
              <a:t>School Community</a:t>
            </a:r>
            <a:endParaRPr b="0" lang="en-US" sz="4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47960" y="1905120"/>
            <a:ext cx="4041720" cy="65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13f9a"/>
                </a:solidFill>
                <a:latin typeface="Constantia"/>
              </a:rPr>
              <a:t>Demographics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13f9a"/>
                </a:solidFill>
                <a:latin typeface="Constantia"/>
              </a:rPr>
              <a:t>Zip Code .vs. Cit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edian Household Income: $45,628 .vs. $56,263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ingle Mother Household: 14.1% .vs. 7.9%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elow Poverty Level:       16.8% .vs. 8.7%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02:54:41Z</dcterms:created>
  <dc:creator>Angelina Barela</dc:creator>
  <dc:description/>
  <dc:language>en-US</dc:language>
  <cp:lastModifiedBy>kwoodrow</cp:lastModifiedBy>
  <dcterms:modified xsi:type="dcterms:W3CDTF">2010-03-13T23:48:34Z</dcterms:modified>
  <cp:revision>50</cp:revision>
  <dc:subject/>
  <dc:title>Community Connection</dc:title>
</cp:coreProperties>
</file>