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CBBD-C616-4363-8DC4-D0961BD7E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E0B7-7136-4F86-959C-70F168DFB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720-8AA5-4FC0-8C67-5769A394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8B1-A5BA-42E5-A088-3051C6A4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CE4-DE61-4C39-960A-72930CA6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2B7-182E-4554-A953-BBE490AE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96ED-5D99-433F-B1BD-EC2983BC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7EA2-3564-4021-ACDA-9E6011EE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7B4E-7DDD-4BAB-B7D0-472AF72D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3D94-2DE7-4B20-9DC5-4A63E6C5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1BC2-DCD1-4798-B06C-29FB9063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6B2F-D209-4A0C-92E6-77DB7AD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9C00-66AF-41F7-B466-439FE22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BB3-F842-4E7F-8D5A-2FA31CF4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D2F7-5D10-4A26-999C-8850F75D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E6B8-8AFB-488C-8BFB-373F232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0A9E-A99B-42EA-8F4E-A768ABFF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B026-43CE-4B24-BDD4-9636F1C0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1B40-3E96-40D4-8FC3-102B1130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E7CB-1865-4B5E-87E4-ADF729D5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07D2-9AF8-404F-ABF4-946BD08D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970C-9E38-4F20-934D-521F2E61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53C2-A032-4261-BF4E-FB010BDE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09E1-DAE9-4FA4-9978-074852E5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909-96E3-4F60-A2E8-05FE8EDC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31F0-912E-4C00-BFEF-B4E66306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1A46-BC0B-4CC4-B04A-534FFCB7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27A2-A883-4E47-B3B0-982B7F94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3F81-F242-4B2B-ADC5-FC263E6D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B0A8-4312-4988-8ECF-4907067E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B47D-96D1-4D87-A08E-F782622A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4ECA-E641-4557-96A6-B0598D77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0C1E-8753-4705-8991-ED32DE57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0727C-8D7A-46AA-A52B-6407FD2C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F9AB-C9B5-4401-92C8-E1A5A2DA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306-ED8C-41BB-AB2B-5557DE18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1CCF-B81E-470A-B0B1-C22FFB7D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7C6C4-D071-41C8-A81B-BF1771EC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2546-45ED-48DD-8312-B9E8110D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6733-78FF-44D6-AA64-225CAE9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101EE-4144-4801-A7AD-A0BB2FB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5CD8-512F-42AA-8AC3-02B41596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F0FCA-D7CB-4362-AC7A-1FBAD939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A00E-92A7-45E8-91FF-D52E7029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D542-1BDE-4C10-A3C4-9DFA8390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5FB9D-DF2B-41A5-9B48-23CA502F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ABC-981A-46D2-9DE4-58E36897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CAFBA-F88D-4960-87A9-71921899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559E1-86FC-4AFB-9ACE-1E46F772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65AA-48A8-4C56-A9FE-9A69AC41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F9F0-03CD-45C1-88B1-C84A1A97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A3B6F-2A7F-4E18-93BE-5F33C11C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2D33-F2D8-404A-8623-5A2AC5C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646F-88A4-49F0-A8DF-33DE02F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2AF8D-C180-45D6-BF46-5511E2C4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A91D7-D9C7-4E9C-A4DB-F977BCA8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4C140-88B2-48E1-B957-D190EEAC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DFA-E8BC-4D78-B9C2-57D91EC3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7DC42-606B-4E6C-9424-265A25B5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01F-BD0A-464A-9F0C-21BFBAD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6AA-660A-4530-9397-A4A0825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BC9-21B1-405D-9B54-6988FE6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6163-6B61-4388-80D8-2690F0ADB9A9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E79A-F679-40FE-8BDC-73C17B3B4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46E7-5047-4ABA-BDC6-E567BB5D0224}" type="slidenum"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5599-63E0-4996-B46F-A58CAA7A2954}" type="slidenum">
              <a:rPr b="0" lang="en-US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8E8-1438-4A4F-B549-763AD873A3BC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Angelina Barel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bruary 6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School Information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R 2007-2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verall Academic Performance: Lo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YP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ath-Y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ading-Y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09-2010 School Year: 81% Free/Reduced Lun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itle 1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IF/Literacy Nigh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uccessMaker Lab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Triangle Proces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ighes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10 year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an district average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550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January 2009-2010 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School Enrollment Repor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-Kindergarten: 2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indergarten: 5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6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5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4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4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n Indian: 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ian: 1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ack: 9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ispanic: 13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ite: 8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 (Prior Experience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29560" indent="-264960">
              <a:spcBef>
                <a:spcPts val="52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at happened to me, was happening for these stud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and School only no other influ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ortant to teach from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 feels comfor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e people like them in the les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ocentric .vs. Eurocentr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ted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s there something I did not s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 (Prior Experience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mitted Knowledge (continu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y were so many people nega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ach from a culture everything would be ok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could teach from every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 such thing as one cultur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very person, situation, and time are differe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27880" indent="-198720">
              <a:spcBef>
                <a:spcPts val="49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f I knew this, then why did I think the children were going through the same thing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knew culture was not ethnicity, but I was more influenced by ethnicity (marginalized .vs. privileg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Puzzles of Practice”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is a student’s culture coming fro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 each layer/value/community affect a chil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what degre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f a layer/value/community was taken away would the student still make achievement gains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6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Angelina\Pictures\2010-01-04\015.JPG"/>
          <p:cNvPicPr/>
          <p:nvPr/>
        </p:nvPicPr>
        <p:blipFill>
          <a:blip r:embed="rId2"/>
          <a:stretch/>
        </p:blipFill>
        <p:spPr>
          <a:xfrm>
            <a:off x="152280" y="198108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ngelina\Pictures\2010-01-04\016.JPG"/>
          <p:cNvPicPr/>
          <p:nvPr/>
        </p:nvPicPr>
        <p:blipFill>
          <a:blip r:embed="rId3"/>
          <a:stretch/>
        </p:blipFill>
        <p:spPr>
          <a:xfrm>
            <a:off x="152280" y="4572000"/>
            <a:ext cx="2895840" cy="2057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Users\Angelina\Pictures\2010-01-04\040.JPG"/>
          <p:cNvPicPr/>
          <p:nvPr/>
        </p:nvPicPr>
        <p:blipFill>
          <a:blip r:embed="rId4"/>
          <a:stretch/>
        </p:blipFill>
        <p:spPr>
          <a:xfrm>
            <a:off x="5715000" y="1828800"/>
            <a:ext cx="3276720" cy="4876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Angelina\Pictures\2010-01-04\039.JPG"/>
          <p:cNvPicPr/>
          <p:nvPr/>
        </p:nvPicPr>
        <p:blipFill>
          <a:blip r:embed="rId5"/>
          <a:stretch/>
        </p:blipFill>
        <p:spPr>
          <a:xfrm>
            <a:off x="3124080" y="2666880"/>
            <a:ext cx="2514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</a:t>
            </a:r>
            <a:br>
              <a:rPr sz="5000"/>
            </a:b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(Evidential Artifacts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 Sample (Religious and Federal Holiday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nted to try and touch on one Religious Holiday from every reli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ed Veterans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ilitary famil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sked who had someone in the milita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lked about some Ethnic Holi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ssed a lot of Holi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ther ethnic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Grandparents D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Other religiou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abor D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eaching Practices</a:t>
            </a:r>
            <a:br>
              <a:rPr sz="5000"/>
            </a:b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(Evidential Artifacts)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nted to do something not already set-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thing of my 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d I do to please or infor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little of both in the beginning, but the “reflection-on-action” shows it was more to in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ho was I trying to plea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Graders, the know the basic Holidays (Christmas, Halloween, and maybe Valentine’s Day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b13f9a"/>
                </a:solidFill>
                <a:latin typeface="Calibri"/>
              </a:rPr>
              <a:t>Where is a student’s culture coming from?</a:t>
            </a:r>
            <a:endParaRPr b="0" lang="en-US" sz="2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240" y="1676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s i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r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ri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Content Placeholder 6" descr=""/>
          <p:cNvPicPr/>
          <p:nvPr/>
        </p:nvPicPr>
        <p:blipFill>
          <a:blip r:embed="rId1"/>
          <a:stretch/>
        </p:blipFill>
        <p:spPr>
          <a:xfrm>
            <a:off x="365040" y="1792440"/>
            <a:ext cx="42134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combined (home, school, and communi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rove school programs and clim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family services and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parents’ skills and leader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nect families in the school and 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s a partnership and a caring community for the stud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one is invol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ponsibility of every layer/value/commun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ommunity Connec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view of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zzles of Practic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kground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ing Practices (Prior Experienc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ing Practices (Evidential Artifac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ffects Teaching an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be more than a triangle maybe a square or a venn dia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ldren instead of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nsion of the fami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mily and Community involv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ows for life long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e the Child as a Stu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is a separation between school and h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-Like Famili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ortance of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y-Like School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p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lcome all famil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and School can cl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not teach from all cul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be aware of different cultures and try not to offe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 Experience, Transmitted Knowledge, and Core Val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 necessarily the same experi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Data Affect Teaching and Learnin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onstantia"/>
              </a:rPr>
              <a:t>6 Types of Invol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2" descr="C:\Users\Public\Pictures\Sample Pictures\sfcp-chart.gif"/>
          <p:cNvPicPr/>
          <p:nvPr/>
        </p:nvPicPr>
        <p:blipFill>
          <a:blip r:embed="rId1"/>
          <a:stretch/>
        </p:blipFill>
        <p:spPr>
          <a:xfrm>
            <a:off x="380880" y="2514600"/>
            <a:ext cx="4267440" cy="3809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644720" y="1752480"/>
            <a:ext cx="4041720" cy="460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 types of involve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es a better partnership (school, family, and community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n have a positive impact on child, teacher, and par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“perfect” program will include all 6 Types (portions of) and be connected to the schools goa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tion on the culture sid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451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me do not like childrearing involvem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Then .vs. Now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1" name="Isosceles Triangle 3"/>
          <p:cNvSpPr/>
          <p:nvPr/>
        </p:nvSpPr>
        <p:spPr>
          <a:xfrm>
            <a:off x="152280" y="3048120"/>
            <a:ext cx="2057400" cy="167616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Arrow 4"/>
          <p:cNvSpPr/>
          <p:nvPr/>
        </p:nvSpPr>
        <p:spPr>
          <a:xfrm>
            <a:off x="2438280" y="3429000"/>
            <a:ext cx="1524240" cy="9907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304" name="Content Placeholder 6" descr=""/>
          <p:cNvPicPr/>
          <p:nvPr/>
        </p:nvPicPr>
        <p:blipFill>
          <a:blip r:embed="rId2"/>
          <a:stretch/>
        </p:blipFill>
        <p:spPr>
          <a:xfrm>
            <a:off x="4645080" y="3090960"/>
            <a:ext cx="3895560" cy="3724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Public\Pictures\Sample Pictures\epsteinovals(1).jpg"/>
          <p:cNvPicPr/>
          <p:nvPr/>
        </p:nvPicPr>
        <p:blipFill>
          <a:blip r:embed="rId3"/>
          <a:stretch/>
        </p:blipFill>
        <p:spPr>
          <a:xfrm>
            <a:off x="5943600" y="838080"/>
            <a:ext cx="29718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. joyce eptstein’s model. Retrieved on February 3, 2010, from http://www.naperville203.org/parents-students/EpsteinModelPS.as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80916 zip code detailed profile. Retrieved on February 2, 2010, from http://www.citydata.com/zips/80916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rd, D. Y., Moore, J. L., &amp; Harmon, D. A. (2005, Spring). Integrating multicultural and gifted education: A curricular framework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heory into Practice, 44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2), 125-137. Retrieved January 31, 2010, from http://search.ebscohost.com/login.aspx?direct=true&amp;db=aph&amp;AN=16805890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es-Snipes, P. R. (2005, July). The effect of african culture on african american students’ achievement on selected geometry topics in the elementary mathematics classroom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egro Educational Review, 56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2/3), 147-166. Retrieved January 21, 2010, from http://search.ebscohost.com/login.aspx?direct=true&amp;db=aph&amp;AN=20195447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verlapping spheres of influence. Retrieved on February 3, 2010, from http://www.ncrel.org/sdrs/areas/issues/envrnmnt/famncomm/pa3lk3.ht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terson, P. J., &amp; Montfort, L. (2004, Fall). Creating culturally dynamic materials for rural culturally and linguistically diverse exceptional students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ural Special Education Quarterly, 23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4), 25-29. Retrieved January 31, 2010, from http://search.ebscohost.com.dml.regis.edu/login.aspx?direct=true&amp;db=aph&amp;AN=16110024&amp;site=ehost-l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umbull, E., Rothstein-Fisch, C., Greenfield, P. M., &amp; Quiroz, B. (2001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Bridging cultures between home and school: A guide for teachers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Mahwah, NJ: Lawrence Erlbaum Associa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Zeicherner, K. M., &amp; Liston, D. P. (1996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Reflective teaching: An introduc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Mahwah, NJ: Lawrence Erlbaum Associat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Community Connection</a:t>
            </a:r>
            <a:br>
              <a:rPr sz="4500"/>
            </a:b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3f9a"/>
                </a:solidFill>
                <a:latin typeface="Constantia"/>
              </a:rPr>
              <a:t>Larger Community Overview—Levels of Influ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Classroom Community Overvie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Content Placeholder 6" descr=""/>
          <p:cNvPicPr/>
          <p:nvPr/>
        </p:nvPicPr>
        <p:blipFill>
          <a:blip r:embed="rId1"/>
          <a:stretch/>
        </p:blipFill>
        <p:spPr>
          <a:xfrm>
            <a:off x="450720" y="2481120"/>
            <a:ext cx="4054680" cy="3986280"/>
          </a:xfrm>
          <a:prstGeom prst="rect">
            <a:avLst/>
          </a:prstGeom>
          <a:ln w="0">
            <a:noFill/>
          </a:ln>
        </p:spPr>
      </p:pic>
      <p:pic>
        <p:nvPicPr>
          <p:cNvPr id="251" name="Content Placeholder 7" descr=""/>
          <p:cNvPicPr/>
          <p:nvPr/>
        </p:nvPicPr>
        <p:blipFill>
          <a:blip r:embed="rId2"/>
          <a:stretch/>
        </p:blipFill>
        <p:spPr>
          <a:xfrm>
            <a:off x="4638600" y="2498760"/>
            <a:ext cx="40546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ommunity Connection in the Field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53" name="Picture 2" descr="C:\Users\Public\Pictures\Sample Pictures\epsteinovals(1).jpg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Puzzles of Practice”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is a student’s culture coming fro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es each layer/value/community affect a chil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what degre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f a layer/value/community was taken away would the student still make achievement gains?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r Communit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nt Range, 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ric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spcBef>
                <a:spcPts val="524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Diverse Low S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ylor Elementary (Pre-K through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ra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35000"/>
          <a:ext cx="8229600" cy="741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District Information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an in 18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5 Schools in Distri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4 Element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K-8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 Middle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 High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Alternative Sch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Adult and Family Educ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 Charter School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R 2007-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tal District Revenue: $103,233,102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Background Information</a:t>
            </a:r>
            <a:br>
              <a:rPr sz="4500"/>
            </a:br>
            <a:r>
              <a:rPr b="0" lang="en-US" sz="4500" spc="-1" strike="noStrike">
                <a:solidFill>
                  <a:srgbClr val="b13f9a"/>
                </a:solidFill>
                <a:latin typeface="Calibri"/>
              </a:rPr>
              <a:t>School Community</a:t>
            </a:r>
            <a:endParaRPr b="0" lang="en-US" sz="45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4041720" cy="65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Demographic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3f9a"/>
                </a:solidFill>
                <a:latin typeface="Constantia"/>
              </a:rPr>
              <a:t>Zip Code .vs. C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edian Household Income: $45,628 .vs. $56,26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ingle Mother Household: 14.1% .vs. 7.9%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low Poverty Level:       16.8% .vs. 8.7%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2:54:41Z</dcterms:created>
  <dc:creator>Angelina Barela</dc:creator>
  <dc:description/>
  <dc:language>en-US</dc:language>
  <cp:lastModifiedBy>kwoodrow</cp:lastModifiedBy>
  <dcterms:modified xsi:type="dcterms:W3CDTF">2010-03-13T23:48:34Z</dcterms:modified>
  <cp:revision>50</cp:revision>
  <dc:subject/>
  <dc:title>Community Connection</dc:title>
</cp:coreProperties>
</file>