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2D10-839E-406F-9302-333289EBE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1EC2-D19A-40E9-9888-1F03FA02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C07-E89D-4413-9CFB-4AD2E6AC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0C0-3553-4266-A3DA-12B35E25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965-F739-4632-92B8-29857A62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926-1339-47EA-B03E-18AF93BD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73B6-34C5-43F4-9940-46FC4189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649E-8C61-401F-8C01-861E431C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9B70-C6C1-4AFC-BD08-229A22E3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3B97-D6CE-49E6-9ADA-EF42ECED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DD46-F023-40DF-B91B-600B41DF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A041-43DE-44CF-8346-33AB4CC9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038B-E09A-4F30-BA42-DDF2861F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D5F-41C2-4906-8253-B874B6D3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955F-A65C-4036-AA91-CE8930B3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AA33-6345-417B-B57C-AC717431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F450-512B-431E-B147-6B066F4A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92F0-7E6A-4C02-9B69-781004FD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5EFF-0442-4E44-B1F7-4DF4CD7D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550D-353D-4338-8585-04A45CA5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29E2-9FEE-433E-AC81-09E7BE42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D3F52-6C23-4326-AC23-35FC060C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A5F5-740E-4936-AB31-E08287BE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9248-8DAE-4130-BE94-B587B263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6FB-7010-42AD-8CA5-8502FD65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FE55-E96A-4216-A41C-6D89646C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4D53-3494-454E-A96E-94638079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2697-B02E-4CB3-AB73-99B41564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D900-0F2E-4079-AE09-B90BBE19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BBCE-4598-4834-8922-A30FD262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6C34D-A1B6-425C-A1AA-0969472D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A758E-198F-4F20-937A-F072302B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47310-2E59-4E20-9D18-2FA9DFEB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B7C4-7F10-4186-ABD5-94B779BD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6F6F-DD5A-4CBC-8067-3EBAD357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EFA-0A84-497E-A9DC-C56938B0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21E9-259E-411D-955C-B4B08CF4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23D80-4AF1-416A-86ED-1AD2DB41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56F35-5CD9-4CC0-A158-ADDF4A3A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22409-054D-4F2E-BAD4-FE6DDA9B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25DE3-81C1-4045-865E-AD30A693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67817-A4E1-4699-AA9F-9801FEA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EF8F0-A769-4690-8636-5667C539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672C-A6B4-413E-846F-FEB17F38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43E5C-9D45-4117-A1E5-6A1796DD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E18C6-2A10-43BB-B905-F280042F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3EC-88FF-461A-BEDB-4D0A678A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2B30B-35B1-46C5-AAF1-41935727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3F503-6925-42C5-9093-12A5965C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782C1-159A-4D36-82EF-935F2D5B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B1157-26D8-43AA-B80F-6FF18EC0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20CB8-A25C-496E-9854-0BA46A95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873DE-8C0A-4E6E-BEF5-6E76CE26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0AE6-56C5-4A76-9EDA-9B6D9C9B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96E11-FD4B-4C1C-8109-FC4D851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0E893-587D-47E5-8F37-7F60015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347E0-7838-4893-BA0D-32F4D10E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3CE-04F4-423C-932D-3A4B4D56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75B38-1DF5-4A79-AD17-87514BB9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47F-EB29-4AB0-AE03-886BDDCC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C56-0220-414B-80A5-F0BE5247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0EF-105D-4A4A-8277-18A6284E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6344-E82F-43DC-B2D2-81411D703EBD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DE8D-F076-436C-9727-B6797D5446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1B5B-BADE-4BA1-A978-8B901300EBC4}" type="slidenum"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59F7-C33A-43C9-9C1B-E073B95CBE3A}" type="slidenum"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F237-A12C-4419-A423-56670F248DB4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Angelina Barel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ebruary 6,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School Information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R 2007-2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verall Academic Performance: Lo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YP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ath-Y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ading-Y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009-2010 School Year: 81% Free/Reduced Lun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itle 1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IF/Literacy Nigh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uccessMaker Lab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Triangle Proces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ighes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10 year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an district average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50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January 2009-2010 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School Enrollment Repor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Kindergarten: 2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indergarten: 57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6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5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4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4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merican Indian: 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ian: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ack: 9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ispanic: 13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: 8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 (Prior Experience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29560" indent="-264960">
              <a:spcBef>
                <a:spcPts val="524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at happened to me, was happening for these studen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 and School only no other influ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ortant to teach from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 feels comfor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e people like them in the less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thnocentric .vs. Eurocentr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mitted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s there something I did not s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 (Prior Experience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mitted Knowledge (continu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y were so many people nega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l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ach from a culture everything would be ok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could teach from every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 such thing as one cultur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very person, situation, and time are differ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27880" indent="-198720">
              <a:spcBef>
                <a:spcPts val="49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f I knew this, then why did I think the children were going through the same thing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knew culture was not ethnicity, but I was more influenced by ethnicity (marginalized .vs. privilege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Puzzles of Practice”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is a student’s culture coming fro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 each layer/value/community affect a chil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what degre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f a layer/value/community was taken away would the student still make achievement gains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6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Angelina\Pictures\2010-01-04\015.JPG"/>
          <p:cNvPicPr/>
          <p:nvPr/>
        </p:nvPicPr>
        <p:blipFill>
          <a:blip r:embed="rId2"/>
          <a:stretch/>
        </p:blipFill>
        <p:spPr>
          <a:xfrm>
            <a:off x="152280" y="1981080"/>
            <a:ext cx="2895840" cy="190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ngelina\Pictures\2010-01-04\016.JPG"/>
          <p:cNvPicPr/>
          <p:nvPr/>
        </p:nvPicPr>
        <p:blipFill>
          <a:blip r:embed="rId3"/>
          <a:stretch/>
        </p:blipFill>
        <p:spPr>
          <a:xfrm>
            <a:off x="152280" y="4572000"/>
            <a:ext cx="2895840" cy="2057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:\Users\Angelina\Pictures\2010-01-04\040.JPG"/>
          <p:cNvPicPr/>
          <p:nvPr/>
        </p:nvPicPr>
        <p:blipFill>
          <a:blip r:embed="rId4"/>
          <a:stretch/>
        </p:blipFill>
        <p:spPr>
          <a:xfrm>
            <a:off x="5715000" y="1828800"/>
            <a:ext cx="3276720" cy="4876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:\Users\Angelina\Pictures\2010-01-04\039.JPG"/>
          <p:cNvPicPr/>
          <p:nvPr/>
        </p:nvPicPr>
        <p:blipFill>
          <a:blip r:embed="rId5"/>
          <a:stretch/>
        </p:blipFill>
        <p:spPr>
          <a:xfrm>
            <a:off x="3124080" y="2666880"/>
            <a:ext cx="2514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</a:t>
            </a:r>
            <a:br>
              <a:rPr sz="5000"/>
            </a:b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(Evidential Artifacts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 Sample (Religious and Federal Holiday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nted to try and touch on one Religious Holiday from every relig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ed Veterans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ilitary famil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ked who had someone in the militar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lked about some Ethnic Holi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ssed a lot of Holi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ther ethnic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Grandparents D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ther religiou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abor D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</a:t>
            </a:r>
            <a:br>
              <a:rPr sz="5000"/>
            </a:b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(Evidential Artifacts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nted to do something not already set-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thing of my 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d I do to please or infor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little of both in the beginning, but the “reflection-on-action” shows it was more to in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o was I trying to plea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Graders, the know the basic Holidays (Christmas, Halloween, and maybe Valentine’s Day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b13f9a"/>
                </a:solidFill>
                <a:latin typeface="Calibri"/>
              </a:rPr>
              <a:t>Where is a student’s culture coming from?</a:t>
            </a:r>
            <a:endParaRPr b="0" lang="en-US" sz="2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240" y="16765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s i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r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m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ri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Content Placeholder 6" descr=""/>
          <p:cNvPicPr/>
          <p:nvPr/>
        </p:nvPicPr>
        <p:blipFill>
          <a:blip r:embed="rId1"/>
          <a:stretch/>
        </p:blipFill>
        <p:spPr>
          <a:xfrm>
            <a:off x="365040" y="1792440"/>
            <a:ext cx="42134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combined (home, school, and commun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rove school programs and clim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family services and suppo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parents’ skills and leader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 families in the school and 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s a partnership and a caring community for the stud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one is invol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onsibility of every layer/value/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ommunity Connec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view of Commun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zzles of Practic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kground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ing Practices (Prior Experienc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ing Practices (Evidential Artifac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Affects Teaching an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be more than a triangle maybe a square or a venn diag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ldren instead of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nsion of the fami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mily and Community involv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ows for life long 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e the Child as a Stud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is a separation between school and h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-Like Famili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ortance of sch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rning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mily-Like School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p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lcome all famil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 and School can cl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not teach from all cul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be aware of different cultures and try not to offe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 Experience, Transmitted Knowledge, and Core Val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 necessarily the same experi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Constantia"/>
              </a:rPr>
              <a:t>6 Types of Invol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2" descr="C:\Users\Public\Pictures\Sample Pictures\sfcp-chart.gif"/>
          <p:cNvPicPr/>
          <p:nvPr/>
        </p:nvPicPr>
        <p:blipFill>
          <a:blip r:embed="rId1"/>
          <a:stretch/>
        </p:blipFill>
        <p:spPr>
          <a:xfrm>
            <a:off x="380880" y="2514600"/>
            <a:ext cx="4267440" cy="3809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644720" y="1752480"/>
            <a:ext cx="4041720" cy="460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 types of involve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reates a better partnership (school, family, and community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n have a positive impact on child, teacher, and par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“perfect” program will include all 6 Types (portions of) and be connected to the schools goa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tion on the culture sid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451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me do not like childrearing involve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hen .vs. Now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1" name="Isosceles Triangle 3"/>
          <p:cNvSpPr/>
          <p:nvPr/>
        </p:nvSpPr>
        <p:spPr>
          <a:xfrm>
            <a:off x="152280" y="3048120"/>
            <a:ext cx="2057400" cy="167616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Arrow 4"/>
          <p:cNvSpPr/>
          <p:nvPr/>
        </p:nvSpPr>
        <p:spPr>
          <a:xfrm>
            <a:off x="2438280" y="3429000"/>
            <a:ext cx="1524240" cy="9907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304" name="Content Placeholder 6" descr=""/>
          <p:cNvPicPr/>
          <p:nvPr/>
        </p:nvPicPr>
        <p:blipFill>
          <a:blip r:embed="rId2"/>
          <a:stretch/>
        </p:blipFill>
        <p:spPr>
          <a:xfrm>
            <a:off x="4645080" y="3090960"/>
            <a:ext cx="3895560" cy="3724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Public\Pictures\Sample Pictures\epsteinovals(1).jpg"/>
          <p:cNvPicPr/>
          <p:nvPr/>
        </p:nvPicPr>
        <p:blipFill>
          <a:blip r:embed="rId3"/>
          <a:stretch/>
        </p:blipFill>
        <p:spPr>
          <a:xfrm>
            <a:off x="5943600" y="838080"/>
            <a:ext cx="2971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. joyce eptstein’s model. Retrieved on February 3, 2010, from http://www.naperville203.org/parents-students/EpsteinModelPS.as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80916 zip code detailed profile. Retrieved on February 2, 2010, from http://www.citydata.com/zips/80916.htm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d, D. Y., Moore, J. L., &amp; Harmon, D. A. (2005, Spring). Integrating multicultural and gifted education: A curricular framework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eory into Practice, 4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2), 125-137. Retrieved January 31, 2010, from http://search.ebscohost.com/login.aspx?direct=true&amp;db=aph&amp;AN=16805890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es-Snipes, P. R. (2005, July). The effect of african culture on african american students’ achievement on selected geometry topics in the elementary mathematics classroom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Negro Educational Review, 56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2/3), 147-166. Retrieved January 21, 2010, from http://search.ebscohost.com/login.aspx?direct=true&amp;db=aph&amp;AN=20195447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verlapping spheres of influence. Retrieved on February 3, 2010, from http://www.ncrel.org/sdrs/areas/issues/envrnmnt/famncomm/pa3lk3.ht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terson, P. J., &amp; Montfort, L. (2004, Fall). Creating culturally dynamic materials for rural culturally and linguistically diverse exceptional students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ural Special Education Quarterly, 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4), 25-29. Retrieved January 31, 2010, from http://search.ebscohost.com.dml.regis.edu/login.aspx?direct=true&amp;db=aph&amp;AN=16110024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umbull, E., Rothstein-Fisch, C., Greenfield, P. M., &amp; Quiroz, B. (2001)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Bridging cultures between home and school: A guide for teachers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Mahwah, NJ: Lawrence Erlbaum Associa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Zeicherner, K. M., &amp; Liston, D. P. (1996)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eflective teaching: An introdu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Mahwah, NJ: Lawrence Erlbaum Associa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Community Connection</a:t>
            </a:r>
            <a:br>
              <a:rPr sz="4500"/>
            </a:b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Constantia"/>
              </a:rPr>
              <a:t>Larger Community Overview—Levels of Influ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Classroom Community Overvie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Content Placeholder 6" descr=""/>
          <p:cNvPicPr/>
          <p:nvPr/>
        </p:nvPicPr>
        <p:blipFill>
          <a:blip r:embed="rId1"/>
          <a:stretch/>
        </p:blipFill>
        <p:spPr>
          <a:xfrm>
            <a:off x="450720" y="2481120"/>
            <a:ext cx="4054680" cy="3986280"/>
          </a:xfrm>
          <a:prstGeom prst="rect">
            <a:avLst/>
          </a:prstGeom>
          <a:ln w="0">
            <a:noFill/>
          </a:ln>
        </p:spPr>
      </p:pic>
      <p:pic>
        <p:nvPicPr>
          <p:cNvPr id="251" name="Content Placeholder 7" descr=""/>
          <p:cNvPicPr/>
          <p:nvPr/>
        </p:nvPicPr>
        <p:blipFill>
          <a:blip r:embed="rId2"/>
          <a:stretch/>
        </p:blipFill>
        <p:spPr>
          <a:xfrm>
            <a:off x="4638600" y="2498760"/>
            <a:ext cx="40546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ommunity Connection in the Field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53" name="Picture 2" descr="C:\Users\Public\Pictures\Sample Pictures\epsteinovals(1).jpg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Puzzles of Practice”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is a student’s culture coming fro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es each layer/value/community affect a chil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what degre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f a layer/value/community was taken away would the student still make achievement gains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r Communit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nt Range, 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ric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spcBef>
                <a:spcPts val="524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iverse Low 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ylor Elementary (Pre-K throug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ra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935000"/>
          <a:ext cx="8229600" cy="7416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District Information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an in 18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5 Schools in Distri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4 Elementa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K-8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 Middle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 High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Alternative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Adult and Family Educ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 Charter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R 2007-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tal District Revenue: $103,233,102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School Community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Demographic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Zip Code .vs. C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edian Household Income: $45,628 .vs. $56,26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ingle Mother Household: 14.1% .vs. 7.9%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low Poverty Level:       16.8% .vs. 8.7%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2:54:41Z</dcterms:created>
  <dc:creator>Angelina Barela</dc:creator>
  <dc:description/>
  <dc:language>en-US</dc:language>
  <cp:lastModifiedBy>kwoodrow</cp:lastModifiedBy>
  <dcterms:modified xsi:type="dcterms:W3CDTF">2010-03-13T23:48:34Z</dcterms:modified>
  <cp:revision>50</cp:revision>
  <dc:subject/>
  <dc:title>Community Connection</dc:title>
</cp:coreProperties>
</file>