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move the slide</a:t>
            </a:r>
            <a:endParaRPr b="0" lang="en-US" sz="4400" spc="-1" strike="noStrike">
              <a:solidFill>
                <a:srgbClr val="fbeec9"/>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C2F0-418A-4C12-879B-65CBD362D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5F2D3-7514-485E-AA76-3EA0575DE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available at: http://varenne.tc.columbia.edu/bib/texts/mcdrmr0p006cultwork.pdf</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90CA-820F-43EC-9DA7-F93C1731C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DCC0B-D1D8-4D8E-8624-F5E1A5CCD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5F09D-C96B-4CF7-8E20-E16472DFB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B309A-CC1D-4866-BD66-D6AD344AF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99080-D74A-46EC-99ED-8184497AA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1B93D-3105-4F35-AEDB-E105E5480B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15DBE-4368-4C00-A4B4-A4BD3F9EB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C02FD-81FE-4B47-9879-671B85AFA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13134-941C-4240-A1FF-169A11306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3A0A0-7A90-422C-8EB4-E3456E07F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91596-B3A5-4E53-8C0B-5B545F452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92F7A-4A1A-466C-A4AC-E96A5A63B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4B402-7BF1-450A-A576-31B807EDF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DECD1-D7F3-4EF8-9BC8-A2282010E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7DEC9-3A68-4A32-A81E-31D96E390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55A11-A747-4D91-8049-BEAC9E919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BB2D9-96CC-430F-9169-4AD14C889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CCDA6-8A52-44F6-9FC3-34CB8F150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EE03F59-CC70-4D54-87CA-57066461E8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F266A3D-E846-42AD-B259-AC51802F42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F11CC2-52A0-4854-A8C7-947F284634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66D9411-63CD-4910-A95A-1FAA3327C7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A5848A3-AF66-4BC6-8391-9032E9C6AC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17D4D-C408-4D2B-AE6E-863480ADB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F96AC7-DAD3-40AB-8387-4FEC245FE9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B6D5F4-EA15-464B-95EC-DC8167C20C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56B437-DC36-40D3-B110-CFB690F959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4EF4A9A-9E15-4EAB-BE5D-B640FC8735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2AD1A0-5A07-4C4D-932A-33D17537DF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656BB05-5E3B-4208-BA22-D8590CDDD7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0FBAEB2-87E6-4A0B-BC8A-491A72A919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79728F3-A585-4397-9CB6-20237FAE23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BB37B43-2079-45EF-9AFF-4954E2CA1D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CBB1950-7304-4319-A3E2-0818BA7145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3FF7A-186F-4DC9-8C1A-AAECF36FE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EEACA97-BB68-449A-A13F-9E54C2576A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477BC6-50C8-4792-BE03-CE99FDB68F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BA67D53-2C51-4193-ACDE-EA2C2E0C3A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F8015DF-B821-4B05-A564-06E4125A6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FE452C-FAF9-45AE-9A3B-ECE81A0080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918BF3-E36C-4CE9-8A6D-3440E73046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858A721-F478-452A-8509-9C0C75A718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268EBDB-D463-4A3B-A52E-CD054B1EE5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39CEC25-B58E-4606-9031-D5EAA865D0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A84C79A-AD79-4191-B095-3C86BDD0AA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38D9D-76D8-4731-999C-86A29F55D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8EA00FE-3248-43BD-9086-29506D88BC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7AED1E0-CC10-4547-BD81-BBC47C3970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33E71C5-0E66-4430-A8AB-0B2C99D517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BEBFE69-161F-4249-83D8-C88AAB1702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A45E984-465C-4041-87B6-F7A4E4119C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50393D-F1F4-4391-B716-7C71C70C22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EB8A6D-402D-4727-A212-2961CA42E3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844FD3-A73D-4BEA-B601-3DDD75DB2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A4B493-14A6-405C-939B-E83BD8939E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C095181-E028-49E4-A017-863A8FBC06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E8E18-40B6-4A52-82CC-2FDC170FA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69F7138-1F7B-462E-B38C-5EC08BA429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C7F381-AAE8-43BB-B70E-B7AE665D03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0C3A08-346D-417B-B2B4-32129BE049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4EEB87-4F18-4B1E-80DF-0B9FA9FAFB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FF6DB1-70C6-4C4E-8EF5-AAD9A06EF8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8FEE2A-BFEB-458F-924A-62EDCF1F7F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F7E7F6-D555-4A13-B51B-1577290BB8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C23D49-C71D-4B7C-BC3D-3C0529446C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7E0EFF-08B7-4676-A46F-149F23142A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C552EE-BA1E-421A-A68C-3DD64177A9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291D6-298B-4609-84F7-05541536C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8E19DE-B3F2-40EC-9FE7-E66FBBAD4C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B89B3D-BE47-44D0-A572-FE7A9323D0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0A733D-1776-4AB9-A8FC-F2E00A6AE2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1919F3D-B8DD-405F-A323-1EF5ECAB37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81E1D35-9B1C-409D-A261-446C8E1DA9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0BA83CE-B4CB-4A38-9737-89FD5F2FCE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AE505C9-FA16-41A8-91CE-1F390D358C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1A27577-9D5E-4E06-B0BA-6BD28BC82B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9B239FD-70F2-4762-8D0B-E591A14868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B95A933-AEB6-43EC-ACB6-F27B68D762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9E73C-E729-4910-99D0-CEFE14C82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F577B53-187B-4218-8CF6-3DA4039658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5262C89-2CEB-41A5-A66F-6766D72989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E83778A-4E49-4540-AFBE-F7F835F43B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B8909BA-111F-45D7-B3B2-E486B908D7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C6A23CA-31AC-4F6F-BFF7-F19FE61244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869312-09FB-4CCC-ACA1-44FAF6C97F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A78067-E263-42C4-A4CC-FD52B608CC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39B03C-25E3-4910-8AE2-F6ABB0C02F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0B400C-7439-4101-B95A-9B096CF64D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A452D3-76EA-4910-883F-E1A586A32D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0EEF9-C5B6-4A1B-9CBD-27E849770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0951E2-E9CD-4D54-850E-B8C3FF7F47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B638A7-8C4B-448B-A6D7-61A4F6C717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BB9DFC-2F3A-4453-A9B7-A7E20E23C1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8E06BA-6DC5-4443-AA29-EB82F31075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75F47B-5CAA-42C7-905D-FB070BB7E9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D7DCE9-C102-4123-BEC8-D751A9823F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5E7249-936A-4390-8780-C3F748691DA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F78E-9FB5-4196-A96F-50721A48ABA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edit the title text format</a:t>
            </a:r>
            <a:endParaRPr b="0" lang="en-US" sz="4400" spc="-1" strike="noStrike">
              <a:solidFill>
                <a:srgbClr val="fbee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F7EF-0231-4D46-A915-9E24046F48EA}" type="slidenum">
              <a:rPr b="1" lang="en-US" sz="1400" spc="-1" strike="noStrike">
                <a:solidFill>
                  <a:srgbClr val="fbee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F136-6141-483A-A176-4FBC63634A55}"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ECA2-0C73-4F0F-B33F-A229965C3ED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4F0D-0C90-4319-8AB1-CBA39CDC535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3b3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3BAB-C94B-4F9E-BF8E-93F3F3BFA4D2}" type="slidenum">
              <a:rPr b="1" lang="en-US" sz="1400" spc="-1" strike="noStrike">
                <a:solidFill>
                  <a:srgbClr val="4e3b3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5446-E238-4A27-9D2C-47FC66F73E1B}"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69E9-A103-4A37-B761-43088EBBC7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EDRS 698</a:t>
            </a:r>
            <a:endParaRPr b="0" lang="en-US" sz="4400" spc="-1" strike="noStrike">
              <a:solidFill>
                <a:srgbClr val="fbeec9"/>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7                    2/2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Agenda</a:t>
            </a:r>
            <a:endParaRPr b="0" lang="en-US" sz="4400" spc="-1" strike="noStrike">
              <a:solidFill>
                <a:srgbClr val="4e3b30"/>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87000"/>
          </a:bodyPr>
          <a:p>
            <a:pPr lvl="1" marL="298440" indent="-298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9:00-9:15  Discuss final presentation; questions etc.; Electronic community connection log and student in context reflections.</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9:15-10:45 Data Presentation Technology</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0:45-11:00 STEP 8 Debrief, Questions, Cross Share</a:t>
            </a:r>
            <a:endParaRPr b="0" lang="en-US" sz="2400" spc="-1" strike="noStrike">
              <a:solidFill>
                <a:srgbClr val="000000"/>
              </a:solidFill>
              <a:latin typeface="Tw Cen MT"/>
            </a:endParaRPr>
          </a:p>
          <a:p>
            <a:pPr lvl="1"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1:00-1:00 Reading and discussion of article to help further develop the idea of the normalization of practices, policies etc. One of the initial questions in Zeichner and Liston asked also pointed to this, “In what ways might the structures of classrooms and schools contribute to or discourage teacher reflexivity? (p. 12)”</a:t>
            </a:r>
            <a:endParaRPr b="0" lang="en-US" sz="2400" spc="-1" strike="noStrike">
              <a:solidFill>
                <a:srgbClr val="000000"/>
              </a:solidFill>
              <a:latin typeface="Tw Cen MT"/>
            </a:endParaRPr>
          </a:p>
          <a:p>
            <a:pPr lvl="1" marL="298440" indent="-29844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a5644e"/>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Technology—Group protocol</a:t>
            </a:r>
            <a:endParaRPr b="0" lang="en-US" sz="4400" spc="-1" strike="noStrike">
              <a:solidFill>
                <a:srgbClr val="4e3b30"/>
              </a:solidFill>
              <a:latin typeface="Tw Cen MT"/>
            </a:endParaRPr>
          </a:p>
        </p:txBody>
      </p:sp>
      <p:sp>
        <p:nvSpPr>
          <p:cNvPr id="362" name=""/>
          <p:cNvSpPr txBox="1"/>
          <p:nvPr/>
        </p:nvSpPr>
        <p:spPr>
          <a:xfrm>
            <a:off x="609120" y="1600200"/>
            <a:ext cx="8153640" cy="4495680"/>
          </a:xfrm>
          <a:prstGeom prst="rect">
            <a:avLst/>
          </a:prstGeom>
          <a:noFill/>
          <a:ln w="0">
            <a:noFill/>
          </a:ln>
        </p:spPr>
        <p:txBody>
          <a:bodyPr anchor="t">
            <a:normAutofit fontScale="92000"/>
          </a:bodyPr>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1.</a:t>
            </a:r>
            <a:r>
              <a:rPr b="0" lang="en-US" sz="1800" spc="-1" strike="noStrike">
                <a:solidFill>
                  <a:srgbClr val="000000"/>
                </a:solidFill>
                <a:latin typeface="Tw Cen MT"/>
              </a:rPr>
              <a:t>  20-30 minutes—</a:t>
            </a:r>
            <a:r>
              <a:rPr b="0" lang="en-US" sz="1800" spc="-1" strike="noStrike" u="sng">
                <a:solidFill>
                  <a:srgbClr val="000000"/>
                </a:solidFill>
                <a:uFillTx/>
                <a:latin typeface="Tw Cen MT"/>
              </a:rPr>
              <a:t>Presente</a:t>
            </a:r>
            <a:r>
              <a:rPr b="0" lang="en-US" sz="1800" spc="-1" strike="noStrike">
                <a:solidFill>
                  <a:srgbClr val="000000"/>
                </a:solidFill>
                <a:latin typeface="Tw Cen MT"/>
              </a:rPr>
              <a:t>r distributes the an overview or outline of their work.  Presenter then discusses </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2.</a:t>
            </a:r>
            <a:r>
              <a:rPr b="0" lang="en-US" sz="1800" spc="-1" strike="noStrike">
                <a:solidFill>
                  <a:srgbClr val="000000"/>
                </a:solidFill>
                <a:latin typeface="Tw Cen MT"/>
              </a:rPr>
              <a:t>  2 minutes PEERS formulate their probing questions; write on paper, submit to presenter, and read to group. </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3.</a:t>
            </a:r>
            <a:r>
              <a:rPr b="0" lang="en-US" sz="1800" spc="-1" strike="noStrike">
                <a:solidFill>
                  <a:srgbClr val="000000"/>
                </a:solidFill>
                <a:latin typeface="Tw Cen MT"/>
              </a:rPr>
              <a:t> 10 minutes—PEERS ask clarifying questions, Presenter responds.</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4. </a:t>
            </a:r>
            <a:r>
              <a:rPr b="0" lang="en-US" sz="18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5. </a:t>
            </a:r>
            <a:r>
              <a:rPr b="0" lang="en-US" sz="1800" spc="-1" strike="noStrike">
                <a:solidFill>
                  <a:srgbClr val="000000"/>
                </a:solidFill>
                <a:latin typeface="Tw Cen MT"/>
              </a:rPr>
              <a:t>5 minutes—The </a:t>
            </a:r>
            <a:r>
              <a:rPr b="0" lang="en-US" sz="1800" spc="-1" strike="noStrike" u="sng">
                <a:solidFill>
                  <a:srgbClr val="000000"/>
                </a:solidFill>
                <a:uFillTx/>
                <a:latin typeface="Tw Cen MT"/>
              </a:rPr>
              <a:t>presenter</a:t>
            </a:r>
            <a:r>
              <a:rPr b="0" lang="en-US" sz="1800" spc="-1" strike="noStrike">
                <a:solidFill>
                  <a:srgbClr val="000000"/>
                </a:solidFill>
                <a:latin typeface="Tw Cen MT"/>
              </a:rPr>
              <a:t> responds to what they heard.</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6.</a:t>
            </a:r>
            <a:r>
              <a:rPr b="0" lang="en-US" sz="18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7.</a:t>
            </a:r>
            <a:r>
              <a:rPr b="0" lang="en-US" sz="1800" spc="-1" strike="noStrike">
                <a:solidFill>
                  <a:srgbClr val="000000"/>
                </a:solidFill>
                <a:latin typeface="Tw Cen MT"/>
              </a:rPr>
              <a:t> 10 minutes each person presents key points from your written thoughts—small group discussion encouraged here.</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8.</a:t>
            </a:r>
            <a:r>
              <a:rPr b="0" lang="en-US" sz="18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8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ultural Work of Learning Disabilities</a:t>
            </a:r>
            <a:endParaRPr b="0" lang="en-US" sz="4400" spc="-1" strike="noStrike">
              <a:solidFill>
                <a:srgbClr val="4e3b30"/>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pend 40 minutes reading </a:t>
            </a:r>
            <a:r>
              <a:rPr b="0" i="1" lang="en-US" sz="2600" spc="-1" strike="noStrike">
                <a:solidFill>
                  <a:srgbClr val="000000"/>
                </a:solidFill>
                <a:latin typeface="Tw Cen MT"/>
              </a:rPr>
              <a:t>The Cultural Work of Learning Disabilities</a:t>
            </a:r>
            <a:endParaRPr b="0" lang="en-US" sz="26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are the key points made in the article?</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kind of cultural constructions were being problematized?</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are the implications for other teaching practices?</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How can you apply these notions to your final presentation?</a:t>
            </a:r>
            <a:endParaRPr b="0" lang="en-US" sz="28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Nieto (2003)  Teachers make a diff</a:t>
            </a:r>
            <a:endParaRPr b="0" lang="en-US" sz="4400" spc="-1" strike="noStrike">
              <a:solidFill>
                <a:srgbClr val="4e3b30"/>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achers need to elaborate a more critical approach to education so that they may understand the context in which their work takes place and learn to think strategically about how to change not only the context of their own classroom, but also the broader context of teaching” (p. 20)</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3:06:40Z</dcterms:modified>
  <cp:revision>64</cp:revision>
  <dc:subject/>
  <dc:title>EDRS 698</dc:title>
</cp:coreProperties>
</file>