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move the slide</a:t>
            </a:r>
            <a:endParaRPr b="0" lang="en-US" sz="4400" spc="-1" strike="noStrike">
              <a:solidFill>
                <a:srgbClr val="fefac9"/>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11B9-AA91-435B-9CB5-0C1938320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C090-7D8D-443F-A443-55F42C663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1B18E-8E80-48AB-87A6-341073635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5AC82-91EA-450B-BA10-DD7A000E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C687C-9354-4A91-B140-47748BFCB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2235-9515-40B7-B3DC-D395B66E8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53AFB-6401-4DDB-A832-2BE40BCD2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859DD-E2DC-4FB1-86C8-63136D2E7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5686A-2ADB-4461-B6FC-C28471A44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1D2BE-9C85-4CF1-B0D3-0FB0BDF49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2DFEF-D49C-4EF0-8F62-696BAC498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31BF6-02D6-44C0-816A-F04CF696C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8634B-67CA-46AA-93CB-6DD12C550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D81D-DB00-425D-AA3F-705B1C4D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106B-1C67-4C2C-BBA5-7713B7F31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80CD5-AB72-4CDB-B16B-4F2266333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644AD-57FB-447E-95C7-CB2CA0ACF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F307F-C6ED-49FA-AE05-D198B03AC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238D2-9CFC-422C-847E-E74E92B32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B4F959-B5AB-45E7-9970-27903E755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14526C-2F00-4EFD-A30F-311C062F6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9E5726-F628-42C1-9265-9FF5E77E2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F1C091-851C-4F1D-A613-7C0AA0848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F784CC-C564-4143-BF12-4E8442DF6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E7B18-CE6C-44FE-B2DB-9FA38A86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8D821E-8E1A-4A35-A1DF-0F5DF8449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AE591E-C7EE-4802-9E66-0EE713C8B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34A189-A092-4809-8564-02FA636C7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E7F152-DC6A-4B6F-8CA6-0FD8F85FD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55FDF7-06E8-4A9C-9CEB-0AB4A87E2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3E95110-C708-4672-8732-2FBADFB4CF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FB9D39-F056-4FA1-854C-E04BB5144D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322B0A-7AA9-41C0-8A8D-1EBFDD3D3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0B3313-D9C5-4F02-9606-334688395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10F16F-0262-41FA-A0F0-76DED6F575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EEE42-7326-4563-8E44-CD6091553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C26C7B-E253-48CF-9CAC-60CBF68EC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0B2997-2B58-41EF-8E19-49310957C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F817C3-C90A-430C-998E-9E1D5A352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37E6E4-EBC6-4AFE-A480-B746DF3CD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2FD293-246F-46EC-A5FB-30A6C3E6F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04F096-1759-435D-BCA7-7851DB908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DB5122-C6FA-445A-B9CC-E55037573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A94E0EF-FA11-4F7C-A5B5-489A57983B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3283930-992B-4F9A-B95A-65C2B0C66A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E9E7C8-464B-490C-9D6C-131E55F75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C582-586B-4450-9FD8-034C36F4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4C4139-CC11-4263-BC5F-3A29E9BEE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D91B4B-061D-4579-9AB9-C74BE04DD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675906-246D-47B3-B48B-74841ED66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B369F8-74EE-4ED2-AA89-603014487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D84A39-56E8-47FA-A611-00A15319E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162571-3E45-4B75-9EC6-933ED2152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ECBE77-A1A8-4E95-8D0A-496120312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D8A4BB-A43B-422E-B293-A9F90065E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A4F00D-F8AB-48BB-8CFE-832FAFF18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85BFC85-4C4E-43B6-A733-134B6AEB8A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9C85-40FA-4FAD-A2B6-57F5B53C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DCCFD1-1105-4C58-984F-7F6034215F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331CBE-397C-462D-8035-EB1D374CC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73464-5800-4F43-8E98-1A5650574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916F6-18FD-47FE-91E0-016E36B04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96412-736D-4B2D-B73B-F50C0DDDC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D8F8B-346C-4E44-92ED-99731F5BD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4DD02-C4B9-4694-89F2-21371AAD6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477A24-463A-4C41-A309-BD84C17CA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4246E-9F81-446D-B792-EE20B1EAD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10276-314C-4EAA-88C8-9ED9A3B65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F461-8281-4AF5-AD43-910240988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57C7BF-C32D-4A7A-8E73-B1FB7F1B1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1EB9E7-5572-4F50-AD21-D96EF5685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B6EF0A-8057-4DD5-A6A5-F4A91BA83E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6BD6CAF-9729-4D87-98DC-E6A802D5F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873710-8B88-4E11-A200-B89FE16E53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29CF3D-6616-47A7-8E8D-9015D4A00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B179846-C111-41FF-BB0F-E12BB8CB5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EB0A3C4-4804-46D1-B321-8DF1447D9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06EAAD9-5E93-4E6E-9C79-D69357D2D5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EDD81C-F506-40C2-BC54-03F77C26F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A15D-31FD-4E75-8CFE-6D74B9249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D5F781-7B32-4EF9-A595-9B818827A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8C42BB-DFC8-43F1-8B55-2EC79FF5F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954380A-75AB-4C35-8DD0-FE74685BB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5657FC0-7202-4300-A3E5-F58EE4A48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4C013D4-499D-4B3B-9747-75DF8DFC84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C62228-6424-45C8-B66D-EA6EFB6882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58CD5-496C-429F-B3CE-60FB3CF310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D6ACE-C725-4190-8E6F-178B8F3B6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263E71-745A-4ADC-A7AB-A9B398300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32C9D-3097-49EC-B2C3-BAD1D38B4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3421-1716-4565-8CC4-58C631823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7F98E-9FEC-4402-86A4-C872DE41E3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4CF78F-34A7-4737-BBC8-9418DEC10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F008B3-4C35-4D5E-B1AA-94983A890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D2749C-00F8-46D9-930B-DEC60F8EC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DACEC-0F6B-41C6-8A85-0BDF74826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7D6C23-5553-4936-ADBD-3192518F62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4d2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BD5A79-E4BF-4D0A-875B-864FBD2653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D911-57E4-4ABD-B3C1-E72BAF3DD6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d26"/>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Click to edit the title text format</a:t>
            </a:r>
            <a:endParaRPr b="0" lang="en-US" sz="4400" spc="-1" strike="noStrike">
              <a:solidFill>
                <a:srgbClr val="fefa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DA99-2A1A-44A7-83B8-5E28F1148F90}" type="slidenum">
              <a:rPr b="1" lang="en-US" sz="1400" spc="-1" strike="noStrike">
                <a:solidFill>
                  <a:srgbClr val="fefa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0859-96D4-479C-BB9A-4CDD3B2765C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F981-D893-4B22-875B-8D3C1C2318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12D7-606A-46E4-9279-7A6D05DD55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A4E6-C62E-456F-B542-489A495051D5}" type="slidenum">
              <a:rPr b="1" lang="en-US" sz="1400" spc="-1" strike="noStrike">
                <a:solidFill>
                  <a:srgbClr val="444d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680C-BAB5-4DCF-A2DC-158B209E6EC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a5b5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Click to edit the title text format</a:t>
            </a:r>
            <a:endParaRPr b="0" lang="en-US" sz="4400" spc="-1" strike="noStrike">
              <a:solidFill>
                <a:srgbClr val="444d2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f3a4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4d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4A67-47AC-4B34-9170-218AEBF59E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ac9"/>
                </a:solidFill>
                <a:latin typeface="Tw Cen MT"/>
              </a:rPr>
              <a:t>EDRS 698</a:t>
            </a:r>
            <a:endParaRPr b="0" lang="en-US" sz="4400" spc="-1" strike="noStrike">
              <a:solidFill>
                <a:srgbClr val="fefac9"/>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3                    1/30/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Agenda</a:t>
            </a:r>
            <a:endParaRPr b="0" lang="en-US" sz="4400" spc="-1" strike="noStrike">
              <a:solidFill>
                <a:srgbClr val="444d26"/>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fontScale="89000"/>
          </a:bodyPr>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10:00 </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Artifact Inventory Checklis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lvl="1" marL="305280" indent="-30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0:00-11:30 Data Presentation Student in Context</a:t>
            </a:r>
            <a:endParaRPr b="0" lang="en-US" sz="2800" spc="-1" strike="noStrike">
              <a:solidFill>
                <a:srgbClr val="000000"/>
              </a:solidFill>
              <a:latin typeface="Tw Cen MT"/>
            </a:endParaRPr>
          </a:p>
          <a:p>
            <a:pPr lvl="1" marL="305280" indent="-305280">
              <a:spcBef>
                <a:spcPts val="550"/>
              </a:spcBef>
              <a:buClr>
                <a:srgbClr val="a5b59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REAK</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1:40-1 Debrief, Questions, Cross Share, Refine the data presentation protocol and Presenter/Peer consultant eval criteria</a:t>
            </a:r>
            <a:endParaRPr b="0" lang="en-US" sz="28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f3a4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w Cen MT"/>
              </a:rPr>
              <a:t>Examining and defining reflective writing</a:t>
            </a:r>
            <a:endParaRPr b="0" lang="en-US" sz="4000" spc="-1" strike="noStrike">
              <a:solidFill>
                <a:srgbClr val="444d26"/>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f3a44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d092a7"/>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44d26"/>
                </a:solidFill>
                <a:latin typeface="Tw Cen MT"/>
              </a:rPr>
              <a:t>The 7 Norms of Collaborative Work</a:t>
            </a:r>
            <a:br>
              <a:rPr sz="4000"/>
            </a:br>
            <a:endParaRPr b="0" lang="en-US" sz="4000" spc="-1" strike="noStrike">
              <a:solidFill>
                <a:srgbClr val="444d26"/>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d26"/>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Student in context—Group protocol</a:t>
            </a:r>
            <a:endParaRPr b="0" lang="en-US" sz="4400" spc="-1" strike="noStrike">
              <a:solidFill>
                <a:srgbClr val="444d26"/>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Tw Cen MT"/>
              </a:rPr>
              <a:t>Evaluation for data presentation</a:t>
            </a:r>
            <a:endParaRPr b="0" lang="en-US" sz="4400" spc="-1" strike="noStrike">
              <a:solidFill>
                <a:srgbClr val="444d26"/>
              </a:solidFill>
              <a:latin typeface="Tw Cen MT"/>
            </a:endParaRPr>
          </a:p>
        </p:txBody>
      </p:sp>
      <p:sp>
        <p:nvSpPr>
          <p:cNvPr id="373"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Organized and easy to follow. Handout (more weight)</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306000" indent="-30600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4" name=""/>
          <p:cNvSpPr txBox="1"/>
          <p:nvPr/>
        </p:nvSpPr>
        <p:spPr>
          <a:xfrm>
            <a:off x="4844520" y="1589040"/>
            <a:ext cx="3886200" cy="4572000"/>
          </a:xfrm>
          <a:prstGeom prst="rect">
            <a:avLst/>
          </a:prstGeom>
          <a:noFill/>
          <a:ln w="0">
            <a:noFill/>
          </a:ln>
        </p:spPr>
        <p:txBody>
          <a:bodyPr anchor="t">
            <a:normAutofit fontScale="98000"/>
          </a:bodyPr>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 Well-developed probing question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Prepared with their literature resources.</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312480" indent="-312480">
              <a:spcBef>
                <a:spcPts val="700"/>
              </a:spcBef>
              <a:buClr>
                <a:srgbClr val="f3a4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8:25Z</dcterms:modified>
  <cp:revision>68</cp:revision>
  <dc:subject/>
  <dc:title>EDRS 698</dc:title>
</cp:coreProperties>
</file>