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c2d1"/>
                </a:solidFill>
                <a:latin typeface="Tw Cen MT"/>
              </a:rPr>
              <a:t>Click to move the slide</a:t>
            </a:r>
            <a:endParaRPr b="0" lang="en-US" sz="4400" spc="-1" strike="noStrike">
              <a:solidFill>
                <a:srgbClr val="c9c2d1"/>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39B9-CD5A-46FD-8DFF-02216516A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E69C-9CC7-45B5-8E69-2FE3436B7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BC1F4-3019-4E07-AFB9-28A957CEBC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tep three, Presenter listen for new ideas, perspectives, and approaches. Listen to the group’s analysis of your question/issues. Listen for assumptions — both your own and the group’s — implicit in the conversation. </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0157-6D63-4D6C-8A53-09A6AB4FC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4F275-DE70-469C-8713-EEBD711A1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AE68E-B725-4C79-BFCC-A108D602E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F1E65-9B93-4C16-8433-AF0A31E53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2D4D1-A17B-4D3F-82B8-D6C05C1DA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CAB7E2-C593-47D4-ADF8-93535EE045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D6942-F327-43AD-BA5A-682B89871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19205-CE84-488E-82C7-01AE6849D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9EC69-8FB3-4A47-9B6C-46FCEFCE1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732EA-3450-4E49-A7CF-60616EEFC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06C79-3234-4869-8DFA-E96717EE9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E2AA8-977F-4731-96A7-EF5D5FF74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AA879-5930-44BE-BEAB-EE0F530F4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A4BAF-8825-4508-86D3-878C80810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D27A6-C1FA-471E-8235-3FFA92DEE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0B8E0-E6D1-48B1-9E00-95FE1E642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A9A66-C6D0-4124-94AB-C6817B22BF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2D6675-777F-4029-95E5-807EE5CFE4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181C268-983E-4BA7-83FD-B0F048C428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B022896-B624-40E5-A452-F54A6E3A38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73E6148-ACA7-474B-9CF0-01ABE5CD9C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E854D50-428C-4CEF-BBB2-87F0307455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A96FB3E-9F02-4801-81B8-EAE3073803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5C8A1-C680-48DE-B490-B1A53C5A3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33EEDA9-60B0-466A-A077-A65962A097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A95189E-B61A-42DE-B850-6C9BA09C71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1220E05-022A-48F6-81EE-84FA8CA2E9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C48657-995B-4688-AFA3-89B91E436B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E2DADDE-03A2-4F05-8350-0F39EE77F1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91D26DB-D10D-4EC0-BC0F-7D4443EA4A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184E396-3477-4C9D-A60C-440FD2873F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2F3BE01-F975-4C43-B93B-BDD35168F7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09AAAE8-BD65-44BB-831B-952DFCA8B3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85442FD-26B0-47C1-BB3E-817FEA90D5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04DFB-468A-4B2A-ABD9-AC4684FA5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2E0C1F3-C31C-4732-8286-8224C0C0B1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BFC8C09-9CFC-4661-86CF-05BDDFD158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AB4CCD5-D248-4F6F-A8BD-69442AF9FC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360921B-BFB1-401C-BAF8-E806F014CD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1858386-750D-474F-9060-5BBF68EAAC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D3A193F-4E6F-4068-ACF1-2996585F40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57F0AEF-6D40-44B9-A507-FB3D51A50B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C297AB6-AE44-432F-9B1A-BFC4E91AFF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F589EFB-1527-4E2C-9A91-7741572172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FC7E5F9-A3F3-4B1F-80E6-57238D8BAF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CFD47-7EDA-4D1B-B5E2-D12CC6AD6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05FCE21-6F1D-4C7E-B038-72CD9A1997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21BAED7-A35C-4D76-82AD-DB534A46D0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255F3A5-C507-49CA-9211-616CA01FF9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63D292A-1846-4C63-9442-A2AB593816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EA6BB94-A6BC-4E77-86CB-F524D34300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9E1E03E-BDD5-400A-9FA5-2FA95C2DAC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5F290D9-22FF-4D80-A3DF-29351BC403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23B895-E9C3-4C68-8084-2DC2559EE0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C518BA9-C4DD-49F4-8A1A-0E1712DC03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D86F2A2-C06A-4A09-B8C9-E02A70A010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E954D-553D-4676-89D3-7A64B7233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A1532AF-BB0C-4AC4-B6C0-5843515CFB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EF54BF-A8D9-43E2-85E6-EF90A07542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17AD16-7198-4065-A17F-B9A40B2291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2A5284-FA3C-4D74-876A-B8975DAFA0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CD043E-5524-489B-8057-3BAF0075C8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9E6E0E-26F3-40C8-A6CA-271FFA5978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CC6ECB-123C-4E83-A14B-C14948471D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A473E2-206C-4CAC-A81B-196B7C76FC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A1FF85-F9EE-4FD8-B058-38B9C7CCB9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116145-B0B9-4218-BDD9-105AAB0812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C94E6-0883-41F1-BB10-53F726E7D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2669CB-F725-4885-9B23-CF9DD7EE33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F19624-0BA5-444B-B9DE-9905E19D0D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CB2CE8-97A2-4D5D-9A63-31F7EB24E9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07FB6EB-C3BA-467E-A0FA-B032AE242D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88F70A4-EB14-4E48-A8D1-5665C98A40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D7493AD-9FC8-4A6D-9A24-080DAF791B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6108320-153B-494B-85B9-C27E39C88D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C87FAD2-7EFD-4FAF-B764-875038D67E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EC8034D-E69E-4FCF-85C7-6616C5E3FA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2BD5612-8D67-4F83-B7D0-2796A0915D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1E575-481D-49DE-AB38-EBA77F362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04070F5-48EB-44F8-9E57-79B75A3535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81BDF66-CDEF-47EB-9B6B-ECEEEDB9A5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CCB9DFC-7EDA-400C-97DB-671496EE5F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6A9A0A2-2AB7-429A-BE66-E2490E156D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5CEA760-06A1-4FB9-A28D-1D5ED4A08B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DDD61F-1D0C-4012-8032-924632F970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377910-A219-46D0-9016-FD8166F08D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4F2ACB-5281-4267-AE90-CC736969FF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B9558D-D7EB-4265-B1F3-F5F524DCF6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80D1CB-4A59-4639-AB0B-D7D27ED357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6C03F-5BB5-4868-91DF-F4F1B73FD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1CD5D7-92D2-4610-9315-9F7C933974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9BC86E-D18F-4308-A8D4-0BB22271C2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007660-4ED5-43A4-9339-A9D47FD61B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609BA5-408B-4EEC-8991-D35FEDBD4B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7A25C0-D93E-4F14-ADF0-C04B3951E2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AA3139-2CFE-49FC-ADA9-BC420F5C97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B343D8-7CA5-4AF0-8157-7457C8C53CF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CBF98-B5BA-4A60-9E4E-6859E2B2284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76d"/>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c2d1"/>
                </a:solidFill>
                <a:latin typeface="Tw Cen MT"/>
              </a:rPr>
              <a:t>Click to edit the title text format</a:t>
            </a:r>
            <a:endParaRPr b="0" lang="en-US" sz="4400" spc="-1" strike="noStrike">
              <a:solidFill>
                <a:srgbClr val="c9c2d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c9c2d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0EA2-54AD-4450-BE76-06DA0A6EFD82}" type="slidenum">
              <a:rPr b="1" lang="en-US" sz="1400" spc="-1" strike="noStrike">
                <a:solidFill>
                  <a:srgbClr val="c9c2d1"/>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5A50-67D5-4F7D-A075-EBCF8AE049C2}"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7BF5-B783-4835-974B-7FF927AFC2E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1B439-B770-40EB-BA4B-7C893CF1B38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9676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3883-E6F2-440B-8AC0-6A14E07AFB4D}" type="slidenum">
              <a:rPr b="1" lang="en-US" sz="1400" spc="-1" strike="noStrike">
                <a:solidFill>
                  <a:srgbClr val="69676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42B5-7C2D-40C1-8235-71C429D1BB48}"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9cb0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ick to edit the title text format</a:t>
            </a:r>
            <a:endParaRPr b="0" lang="en-US" sz="4400" spc="-1" strike="noStrike">
              <a:solidFill>
                <a:srgbClr val="69676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cb08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7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0F35-F575-409D-95D8-20757F94FB2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9c2d1"/>
                </a:solidFill>
                <a:latin typeface="Tw Cen MT"/>
              </a:rPr>
              <a:t>EDRS 698</a:t>
            </a:r>
            <a:endParaRPr b="0" lang="en-US" sz="4400" spc="-1" strike="noStrike">
              <a:solidFill>
                <a:srgbClr val="c9c2d1"/>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 Visitors TODAY</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4                    2/06/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Agenda</a:t>
            </a:r>
            <a:endParaRPr b="0" lang="en-US" sz="4400" spc="-1" strike="noStrike">
              <a:solidFill>
                <a:srgbClr val="69676d"/>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the “reflective” writing sample</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view the 7 norms of collaboration; questions etc.</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larifying vs. Probing Questions Review</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Data Presentation Community Connection</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76d"/>
                </a:solidFill>
                <a:latin typeface="Tw Cen MT"/>
              </a:rPr>
              <a:t>Examining and defining reflective writing</a:t>
            </a:r>
            <a:endParaRPr b="0" lang="en-US" sz="4000" spc="-1" strike="noStrike">
              <a:solidFill>
                <a:srgbClr val="69676d"/>
              </a:solidFill>
              <a:latin typeface="Tw Cen MT"/>
            </a:endParaRPr>
          </a:p>
        </p:txBody>
      </p:sp>
      <p:sp>
        <p:nvSpPr>
          <p:cNvPr id="362"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2"/>
          <p:cNvSpPr>
            <a:spLocks noGrp="1"/>
          </p:cNvSpPr>
          <p:nvPr>
            <p:ph/>
          </p:nvPr>
        </p:nvSpPr>
        <p:spPr>
          <a:xfrm>
            <a:off x="609120" y="2133720"/>
            <a:ext cx="3886200" cy="258480"/>
          </a:xfrm>
          <a:prstGeom prst="rect">
            <a:avLst/>
          </a:prstGeom>
          <a:solidFill>
            <a:srgbClr val="9cb084"/>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5" name="PlaceHolder 3"/>
          <p:cNvSpPr>
            <a:spLocks noGrp="1"/>
          </p:cNvSpPr>
          <p:nvPr>
            <p:ph/>
          </p:nvPr>
        </p:nvSpPr>
        <p:spPr>
          <a:xfrm>
            <a:off x="4800240" y="2133720"/>
            <a:ext cx="3886200" cy="258480"/>
          </a:xfrm>
          <a:prstGeom prst="rect">
            <a:avLst/>
          </a:prstGeom>
          <a:solidFill>
            <a:srgbClr val="6585cf"/>
          </a:solidFill>
          <a:ln w="0">
            <a:noFill/>
          </a:ln>
        </p:spPr>
        <p:txBody>
          <a:bodyPr anchor="ctr">
            <a:normAutofit fontScale="5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t>
            </a:r>
            <a:endParaRPr b="0" lang="en-US" sz="2000" spc="-1" strike="noStrike">
              <a:solidFill>
                <a:srgbClr val="000000"/>
              </a:solidFill>
              <a:latin typeface="Tw Cen MT"/>
            </a:endParaRPr>
          </a:p>
        </p:txBody>
      </p:sp>
      <p:sp>
        <p:nvSpPr>
          <p:cNvPr id="366" name="TextBox 6"/>
          <p:cNvSpPr/>
          <p:nvPr/>
        </p:nvSpPr>
        <p:spPr>
          <a:xfrm flipH="1" flipV="1" rot="10800000">
            <a:off x="228600" y="1526760"/>
            <a:ext cx="8763120" cy="916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kinds of things did you notice about the reflective writing sample I shared with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69676d"/>
                </a:solidFill>
                <a:latin typeface="Tw Cen MT"/>
              </a:rPr>
              <a:t>The 7 Norms of Collaborative Work</a:t>
            </a:r>
            <a:br>
              <a:rPr sz="4000"/>
            </a:br>
            <a:endParaRPr b="0" lang="en-US" sz="4000" spc="-1" strike="noStrike">
              <a:solidFill>
                <a:srgbClr val="69676d"/>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9"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76d"/>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Clarifying and probing questions</a:t>
            </a:r>
            <a:endParaRPr b="0" lang="en-US" sz="4400" spc="-1" strike="noStrike">
              <a:solidFill>
                <a:srgbClr val="69676d"/>
              </a:solidFill>
              <a:latin typeface="Tw Cen MT"/>
            </a:endParaRPr>
          </a:p>
        </p:txBody>
      </p:sp>
      <p:sp>
        <p:nvSpPr>
          <p:cNvPr id="371" name=""/>
          <p:cNvSpPr txBox="1"/>
          <p:nvPr/>
        </p:nvSpPr>
        <p:spPr>
          <a:xfrm>
            <a:off x="609120" y="1589040"/>
            <a:ext cx="3886200" cy="4572000"/>
          </a:xfrm>
          <a:prstGeom prst="rect">
            <a:avLst/>
          </a:prstGeom>
          <a:noFill/>
          <a:ln w="0">
            <a:noFill/>
          </a:ln>
        </p:spPr>
        <p:txBody>
          <a:bodyPr anchor="t">
            <a:normAutofit fontScale="97000"/>
          </a:bodyPr>
          <a:p>
            <a:pPr marL="309240" indent="-30924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larifying questions, are those that have brief, factual answers. They are for the person asking them. They ask the presenter “who, what, where, when, and how.” These are not “why” questions. They can be answered quickly and succinctly, often with a phrase or two.</a:t>
            </a:r>
            <a:endParaRPr b="0" lang="en-US" sz="2400" spc="-1" strike="noStrike">
              <a:solidFill>
                <a:srgbClr val="000000"/>
              </a:solidFill>
              <a:latin typeface="Tw Cen MT"/>
            </a:endParaRPr>
          </a:p>
          <a:p>
            <a:pPr marL="309240" indent="-30924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372" name=""/>
          <p:cNvSpPr txBox="1"/>
          <p:nvPr/>
        </p:nvSpPr>
        <p:spPr>
          <a:xfrm>
            <a:off x="4844520" y="1589040"/>
            <a:ext cx="3886200" cy="4572000"/>
          </a:xfrm>
          <a:prstGeom prst="rect">
            <a:avLst/>
          </a:prstGeom>
          <a:noFill/>
          <a:ln w="0">
            <a:noFill/>
          </a:ln>
        </p:spPr>
        <p:txBody>
          <a:bodyPr anchor="t">
            <a:normAutofit fontScale="86000"/>
          </a:bodyPr>
          <a:p>
            <a:pPr marL="273960" indent="-273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robing questions are for the person answering them. They ask the presenter “why” (among other things), and are open-ended. They take longer to answer, and often require deep thought on the part of the presenter. Probing questions should be worded so that they help the presenter clarify and expand his/her thinking about the work that was presented to the group. The goal here is for the presenter to learn more about the question s/he framed or to do some deeper reflection on the data presented. There will be no response to the questions, the presenter will simply note them for further contemplation.</a:t>
            </a:r>
            <a:endParaRPr b="0" lang="en-US" sz="1800" spc="-1" strike="noStrike">
              <a:solidFill>
                <a:srgbClr val="000000"/>
              </a:solidFill>
              <a:latin typeface="Tw Cen MT"/>
            </a:endParaRPr>
          </a:p>
          <a:p>
            <a:pPr marL="273960" indent="-273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76d"/>
                </a:solidFill>
                <a:latin typeface="Tw Cen MT"/>
              </a:rPr>
              <a:t>Community Connection—Group protocol</a:t>
            </a:r>
            <a:endParaRPr b="0" lang="en-US" sz="3600" spc="-1" strike="noStrike">
              <a:solidFill>
                <a:srgbClr val="69676d"/>
              </a:solidFill>
              <a:latin typeface="Tw Cen MT"/>
            </a:endParaRPr>
          </a:p>
        </p:txBody>
      </p:sp>
      <p:sp>
        <p:nvSpPr>
          <p:cNvPr id="374" name=""/>
          <p:cNvSpPr txBox="1"/>
          <p:nvPr/>
        </p:nvSpPr>
        <p:spPr>
          <a:xfrm>
            <a:off x="533520" y="1600200"/>
            <a:ext cx="8153280" cy="4495680"/>
          </a:xfrm>
          <a:prstGeom prst="rect">
            <a:avLst/>
          </a:prstGeom>
          <a:noFill/>
          <a:ln w="0">
            <a:noFill/>
          </a:ln>
        </p:spPr>
        <p:txBody>
          <a:bodyPr anchor="t">
            <a:normAutofit fontScale="89000"/>
          </a:bodyPr>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a:p>
            <a:pPr marL="283680" indent="-283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Debriefing the Strand</a:t>
            </a:r>
            <a:endParaRPr b="0" lang="en-US" sz="4400" spc="-1" strike="noStrike">
              <a:solidFill>
                <a:srgbClr val="69676d"/>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0 min </a:t>
            </a: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pen up cross share—Big Aha’s; Questions that came up for whole group contemplation</a:t>
            </a: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eedback on tasks (Edits; Comments; Particular challenges; Enduring understandings; Recommendations for revisions)</a:t>
            </a:r>
            <a:endParaRPr b="0" lang="en-US" sz="2900" spc="-1" strike="noStrike">
              <a:solidFill>
                <a:srgbClr val="000000"/>
              </a:solidFill>
              <a:latin typeface="Tw Cen MT"/>
            </a:endParaRPr>
          </a:p>
          <a:p>
            <a:pPr marL="318960" indent="-318960">
              <a:spcBef>
                <a:spcPts val="700"/>
              </a:spcBef>
              <a:buClr>
                <a:srgbClr val="9cb084"/>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Tw Cen MT"/>
              </a:rPr>
              <a:t>Evaluation for data presentation</a:t>
            </a:r>
            <a:endParaRPr b="0" lang="en-US" sz="4400" spc="-1" strike="noStrike">
              <a:solidFill>
                <a:srgbClr val="69676d"/>
              </a:solidFill>
              <a:latin typeface="Tw Cen MT"/>
            </a:endParaRPr>
          </a:p>
        </p:txBody>
      </p:sp>
      <p:sp>
        <p:nvSpPr>
          <p:cNvPr id="378" name=""/>
          <p:cNvSpPr txBox="1"/>
          <p:nvPr/>
        </p:nvSpPr>
        <p:spPr>
          <a:xfrm>
            <a:off x="609120" y="1589040"/>
            <a:ext cx="3886200" cy="4572000"/>
          </a:xfrm>
          <a:prstGeom prst="rect">
            <a:avLst/>
          </a:prstGeom>
          <a:noFill/>
          <a:ln w="0">
            <a:noFill/>
          </a:ln>
        </p:spPr>
        <p:txBody>
          <a:bodyPr anchor="t">
            <a:normAutofit fontScale="89000"/>
          </a:bodyPr>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ta Presenter</a:t>
            </a:r>
            <a:endParaRPr b="0" lang="en-US" sz="29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core 1-5 (1 poor, 5 distinguished)</a:t>
            </a:r>
            <a:endParaRPr b="0" lang="en-US" sz="12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lpful orienting document</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spects and values peers contribution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logical connections between the teaching practices and the data. </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rganized and easy to follow.</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cus on trends and their classroom implication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Visual aides; appropriate artifacts</a:t>
            </a:r>
            <a:endParaRPr b="0" lang="en-US" sz="2000" spc="-1" strike="noStrike">
              <a:solidFill>
                <a:srgbClr val="000000"/>
              </a:solidFill>
              <a:latin typeface="Tw Cen MT"/>
            </a:endParaRPr>
          </a:p>
        </p:txBody>
      </p:sp>
      <p:sp>
        <p:nvSpPr>
          <p:cNvPr id="379" name=""/>
          <p:cNvSpPr txBox="1"/>
          <p:nvPr/>
        </p:nvSpPr>
        <p:spPr>
          <a:xfrm>
            <a:off x="4844520" y="1589040"/>
            <a:ext cx="3886200" cy="4572000"/>
          </a:xfrm>
          <a:prstGeom prst="rect">
            <a:avLst/>
          </a:prstGeom>
          <a:noFill/>
          <a:ln w="0">
            <a:noFill/>
          </a:ln>
        </p:spPr>
        <p:txBody>
          <a:bodyPr anchor="t">
            <a:normAutofit fontScale="89000"/>
          </a:bodyPr>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nsultant Peers</a:t>
            </a:r>
            <a:endParaRPr b="0" lang="en-US" sz="29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core 1-5 (1 poor, 5 distinguished)</a:t>
            </a:r>
            <a:endParaRPr b="0" lang="en-US" sz="12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intains focus on the presenter’s information and doesn’t just take the floor.</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nstructive comment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Well-developed probing question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by examining own data. </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epared with their literature resources.</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tentive listening, note taking.</a:t>
            </a:r>
            <a:endParaRPr b="0" lang="en-US" sz="2000" spc="-1" strike="noStrike">
              <a:solidFill>
                <a:srgbClr val="000000"/>
              </a:solidFill>
              <a:latin typeface="Tw Cen MT"/>
            </a:endParaRPr>
          </a:p>
          <a:p>
            <a:pPr marL="283680" indent="-283680">
              <a:spcBef>
                <a:spcPts val="700"/>
              </a:spcBef>
              <a:buClr>
                <a:srgbClr val="9cb08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ctive participan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9:14Z</dcterms:modified>
  <cp:revision>74</cp:revision>
  <dc:subject/>
  <dc:title>EDRS 698</dc:title>
</cp:coreProperties>
</file>