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8F5A-B570-4A94-8B93-42342AE26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4580-DD7B-41D3-B80A-1A6D2BC5A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43845-31FE-4808-A107-4210C931E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C4CE2-3EF7-48EF-B48E-8FD28649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14241-3754-46F5-AD89-E1D7F6D54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D4F68-D08A-41E8-835F-A689B9BCF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051CF-EAAE-418F-96F6-D99250162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7A05A-BE8E-44AD-9E34-B30047DFD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D65DA-944F-42D8-82DA-1882A0231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2BE15-BD9B-459B-9FB2-1EE928840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98F1D-5BDC-4937-AA8E-B59C55726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C879D-80C0-44C5-B37C-BEAA30740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D08FE-31DF-42EA-95DF-DA9CF237D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BB27C-7EF2-45FD-BEBF-6358A452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B7DD-7F69-458B-8C20-A61A2E685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9BAAF-E79C-4117-BD4A-CAABFA48C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AD1D8-709F-4275-843D-46968571C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39784-44E9-4E9C-8653-ACB7F8CF8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59A3A-5714-487D-80D6-2CB3D21D1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39A69E8-CBAE-4ACA-9822-CDBB556F4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B2C587-22BF-4D74-9C51-47308EBE7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C8348A-13F7-4648-9CA7-4B42E2948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AE90AB-5793-47A3-BA01-EB8AEACB61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082AFE-C439-43D1-B7B1-D3CFCA15B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7B3C7-F755-410E-A231-A025AA33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193E1A-DCAB-4970-83AB-D19E55E19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C373A1-778B-40B2-929D-242F37E3F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9B9BD5-1874-4E73-AF81-A80AB96AC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9DDF13-6831-498F-87E2-32B5FE30A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87867C-A77E-4527-AC0F-DF2112E73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68AB6D-97D8-4B15-9AAF-68B26274C5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5CC96C-1C81-4779-8694-97AF395049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FCA9D0C-41AB-49E6-96A0-81B129366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FB7FE4-214B-45C4-888A-689C069E2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402924-376E-4F73-A1B4-5801A655D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DAF04-A8C3-4E6C-ADA7-A2192E6C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2C3F55-7B2C-42CE-B360-A4969B444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FDB531-E423-418E-B7E0-53DC108ED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8FC65E-D9E3-4293-9BED-220B68387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7DEA6B-754F-4700-A834-80B978D36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66BDA8-B69F-40FD-9A2A-A51C7DA32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02D4F1-AD7C-42FB-9A4B-07D487E63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912060-2CFF-4E5B-B695-D4FB53BA0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57AE3D1-DA2F-4167-A245-40636869B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848436-7E57-4263-AB20-ABCE32823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DA22915-8110-4712-A56C-18C088AFCB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F52D-BF76-408C-A8D0-3DACB1B5E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C1205F-6362-4E32-951E-19845A419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1EC7E2-53CC-4DFC-A78A-DF2A36A3F3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9287A1-4D4E-4603-AE19-5D6E3D3329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D6C558-CF95-4BE7-A686-17F766B4D5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AC656A-6A15-49D0-8EEC-F0C744ADA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5390C5-04A3-4E6C-9CBD-4CEE22F14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524498-1EAA-494F-A6E0-D2721620F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8F0425-90FC-47C5-8A36-3830D9C09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43E94E-47F6-473A-BA78-9B864AD6E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386C9C-5C82-4BE1-8F09-71DF63114C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0C8DC-37CE-4C53-9BFA-44AB4786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8532CB-7083-4B2D-9AFB-C0BF412A96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2D580E-7690-4C25-9993-2DE9A60300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5D282-067F-4484-BFF7-2DD0AA9D4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655B64-753D-4AAC-863C-3267CD6B7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46E913-D38E-4541-B1E7-39379B5C0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4638C-9E12-4CD4-89D9-244E2869C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B270B-4BE8-4494-AFB5-5F3856A203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504F5-ED0A-499B-B37B-C01FD42A3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6B8A6-E57E-4A2A-BE74-19BE5A6DC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A3478-403E-46E4-8ED8-8376DC624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3FD0F-7FAC-4ABA-8CC0-F06398980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0EDD1-96B1-4534-9C28-3C4EEA8CE1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F06C18-2CC9-4521-A6AC-DA844F2F33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034F3F-B86A-430B-8B05-EDF4B2C174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6392411-3452-4DD9-AA3D-D167E267C4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3CA51C-FB9B-4848-B509-5CFDC04CF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B7178E2-24FB-4C5D-8575-06814C8F6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ACAF1B-7636-4F02-8BCE-F2E502DFD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18A234-4E29-49D3-A6F0-8665F0E81B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C38AD0F-BF25-4E68-96D9-C0FE146C4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85B491-CBC4-46B5-9985-8946FA178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DA41C-45DB-4148-A5A6-143934EE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9EF766-D6B6-433C-8821-EE45336AF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A1914B-321D-422C-ADB3-0EC401D48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558DECC-A77B-441E-A4E8-C79D42030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DEAB85-95C3-4010-9381-C01E12DE6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AA3399B-80A1-4096-95F7-3416205A7D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4AAF86-6EF0-4927-885A-FFFF1F0E08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326B8-BD88-424E-B6D4-9F7371CEBB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75F048-9421-4E06-BA25-3065CD2DE6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D4BF37-C165-46A4-A0F0-6BB821BDE2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85E30-E550-4349-9F26-E54306E0E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79CD-C6AD-441E-A9E1-AAFCCF62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E715B3-79F9-4A04-B719-BD85AEC28F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7DF0A7-C4D1-4353-A402-20E3F28E6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882B3-7B34-42D6-9A63-5A42FB91C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09318-65CE-4A96-9CF2-1ABED3F75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86488A-FBB0-4952-824B-5F903E28E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C9A8F1-201C-4125-A821-6BF895D372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BBCE21-71F9-4795-9770-1FF2029F297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9F35-2935-4480-990C-185E88A15B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CFF9-65BE-44AA-A51F-126374D5047B}"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8D8A-5AA9-42B3-8B86-DDB1D7772DB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B81C-362E-43E8-AE6E-D2968FF5E0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91BE-B2E2-4FF2-BFA9-94899FA480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12B9-2A90-4F72-B310-42C36C95C66A}"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72CE-F3C9-470D-8557-AF272433CA8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6A26-F2CA-400A-9ABC-1E97B1856A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EDRS 698</a:t>
            </a:r>
            <a:endParaRPr b="0" lang="en-US" sz="4400" spc="-1" strike="noStrike">
              <a:solidFill>
                <a:srgbClr val="eeece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5                    2/1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Agenda</a:t>
            </a:r>
            <a:endParaRPr b="0" lang="en-US" sz="4400" spc="-1" strike="noStrike">
              <a:solidFill>
                <a:srgbClr val="1f497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Classroom Management; comments on the data collection task; self/peer eval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Examining and defining reflective writing</a:t>
            </a:r>
            <a:endParaRPr b="0" lang="en-US" sz="4400" spc="-1" strike="noStrike">
              <a:solidFill>
                <a:srgbClr val="1f497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ta drive, not an outside authorit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terature as a support for your assertions, findings, etc.</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ll encompass a question of reflection and the experience they had with regard to that question and how the research recommends further work in the are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r path of thinking</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ice</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rtifacts used powerfully and not superficiall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tain focus on strands dat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y still have additional questions.</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Tw Cen MT"/>
              </a:rPr>
              <a:t>The 7 Norms of Collaborative Work</a:t>
            </a:r>
            <a:br>
              <a:rPr sz="4000"/>
            </a:br>
            <a:endParaRPr b="0" lang="en-US" sz="4000" spc="-1" strike="noStrike">
              <a:solidFill>
                <a:srgbClr val="1f497d"/>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Classroom Management—Group protocol</a:t>
            </a:r>
            <a:endParaRPr b="0" lang="en-US" sz="3600" spc="-1" strike="noStrike">
              <a:solidFill>
                <a:srgbClr val="1f497d"/>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32Z</dcterms:modified>
  <cp:revision>67</cp:revision>
  <dc:subject/>
  <dc:title>EDRS 698</dc:title>
</cp:coreProperties>
</file>