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4578-4C16-46A6-9625-D858EA06D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665D-5695-46F0-B9B8-2C53D85B6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9E13A-AC63-4A9D-917A-C6BB3DF7B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8140-8F2C-434A-A2B1-D4872D54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B814E-A98B-475B-9490-1593FA31A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AEADC-5639-4816-963F-BA5ED7DB5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18AFD-3F0E-403F-B71C-5D599E3DB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AE564-C3B6-448C-B987-21FD61EB1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569C8-5226-4DF3-91BD-336753123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25D52-FF56-4667-81A4-A5EFD89E9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3E491-3A59-4D2B-AF9F-A525A2474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A00C9-FB4D-4464-877E-3FB5A5323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65E8C-E0D4-4842-9DA8-BECD52E90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4D85-4977-433D-9C95-B6D20C81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99D45-BA89-4E92-9E12-12398ABB8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27BE4-02CB-4E95-BDC2-F9CAFB23B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FAC7C-164D-4F39-A03C-D5ABDDC46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E16F3-048C-4167-BC2F-2D3D8122D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59B59-4E5E-4FE9-847D-629618F09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D7216B8-977C-451E-9B7A-067456E133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50CB84-35A6-4A10-8083-73165938A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4565E9-D6BC-4C99-9625-C577DEC14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F50465-7C81-419D-B893-31321547F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699AF8-A109-4218-885D-661AF99FB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A96A7-FA2B-4765-AB14-9581B13F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A25F6E-D757-4124-B5B8-37F55DB91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B49EB5-C747-43BC-81AD-642650694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6871F6-3B3C-4862-AA45-AAA5F88FA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F48F27-106D-4BD2-8249-9736E31FC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B562A4-FA85-43C2-8A45-3DF40C765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06F47EB-FFAF-4827-A002-696C9348A3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5B1DED-2B93-4DCC-86C5-8143C67BD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E9A21D1-682D-41CC-84D6-1F050D296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268776-1C5C-4C01-86C9-92C8B0F32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2677E9-EC8A-4679-9F08-93AD722E6F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D959-B0DE-4076-A884-DD818778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F57836-CB3A-4BFC-9B67-E02F56EAD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F87736-56A6-4978-A86E-9837661CE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1B9F99-2B3E-43B0-83FC-B15B235FC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DE10A9-95AE-419A-AE03-833A422AF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89D2E7-1B00-4D23-A637-E0D408768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52C09C-F452-4214-98D0-52D902AF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326292-6794-4C22-BEA1-69F44B1D1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C143E5-914B-4B06-ACBD-53A623D146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15F248-5285-4836-A225-0A94BA902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0F38B3-3360-4D57-B54C-C39DAADB8C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AB97-54D7-4EB0-967D-25FFCD93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25114E-439B-45C3-907B-DAA527330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3FB2E1-293A-4272-8B14-857410021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61FB15-5885-4F19-99D3-3CB0B5044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8CCB2E-77FE-4ADD-8D65-E805C3541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4F1B02-A10C-4D43-BA37-100596460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BA0388-9774-49E4-8B2C-1BAEDD01F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618EB8-4FF5-48B9-89C4-11A20D733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543BA5-6876-47ED-9027-E73BD5A76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4DC675-08BB-4E80-839E-E3EF85251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6CEF00-2F47-4C4B-BB27-DC088F1071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488F5-8726-415E-A327-C0C0D4A4C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6C70BA-945E-4FFC-880D-516088849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5B0D02-6468-459D-B7D7-A1F2B04E8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AC7BB8-9065-43E5-A9DE-409396360F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C16FD-E138-4AA1-A899-C1C7B14575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96B20-CBA7-43E3-9B6F-538318002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85387-736F-4962-9334-93E0376574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645F5-35FF-45E0-A5E2-67F6FDD2F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D465B-13B3-4E63-B927-D773CDD9B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249C9-C060-4372-9EA7-97C971813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D0D27-3408-439A-BE46-47C80342B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7E6B-604D-4696-8FF3-472A3198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1A7D5-6B56-4D40-ADA4-DE624457F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88CC9-ABE0-4771-A3C6-3D4FB427BF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9F5F9A-44CB-4DD0-B07E-06406E5FA9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1174BDD-85CE-4D07-8371-1410E451CD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DFEEEA2-8B6A-42A6-A644-63D7B3327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00ED9E-9F27-482A-8661-C76CC9B23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1E40A8-8310-4402-BE9A-ADB50E4F2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758633-E359-46E9-95FF-067686F79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DA3ABA0-1954-4756-908D-A1B5B99B9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F8589A-BE76-4223-9F54-BAA51FDD2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BE85-3671-4747-8CCD-1CBA73D1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F6348B-369D-454A-A1BF-2A1846883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FBA7B5-93E0-45CD-A739-0EC2A087D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263A98-3B17-4DF2-A770-924382F7F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F526920-76C2-4328-98F2-03CD8BB21C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7E6D3D7-7278-40D4-A072-47EFD38D53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A4FAD8-5BAB-421B-8D05-DEB4CACD9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091FF-A16A-424D-8D20-A5C4269446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183AE-9D0E-4D4A-B61B-9466A7117B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D448D-531A-4716-8047-FE1F510B8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FB858-085C-49DC-9665-D08DEE2609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A72C-61BD-4688-9FA4-B7CA98101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518D8-74BA-4F83-816C-1C0B3F5AED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B94AA-2AA7-440D-ACE9-9D5E8E6B5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AAF6B-76DD-46DD-B271-355A9697E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49A4A-38BD-4F1B-B432-034BCE257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A8D48-58D4-4D88-8433-E8964A6B7F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6CE801-D0A8-4DCB-A450-69F734426B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5B0029-4361-4FCA-A3EA-E823DD0290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F182-EEE7-453D-9140-C8DB82A9A2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eece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C09E-CC4B-4162-A347-9291BD5DC54C}" type="slidenum">
              <a:rPr b="1" lang="en-US" sz="1400" spc="-1" strike="noStrike">
                <a:solidFill>
                  <a:srgbClr val="eeece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AF4A-A8CD-4D57-9636-278872B1640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DEED-A8F6-4408-BB3C-20B917F390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300D-C5A4-4427-AB80-F322F1B5AE8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f497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A2E1-C6EB-4DA7-ABE6-9DA9AF97D6CF}" type="slidenum">
              <a:rPr b="1" lang="en-US" sz="1400" spc="-1" strike="noStrike">
                <a:solidFill>
                  <a:srgbClr val="1f497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76B7-546D-43A3-8AD2-B74B49FAFB8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e7b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092a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EA98-42BF-4374-A231-1F2C6503A82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EDRS 698</a:t>
            </a:r>
            <a:endParaRPr b="0" lang="en-US" sz="4400" spc="-1" strike="noStrike">
              <a:solidFill>
                <a:srgbClr val="eeece1"/>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Capstone in Reflective Teaching</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Week 5                    2/13/10</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Agenda</a:t>
            </a:r>
            <a:endParaRPr b="0" lang="en-US" sz="4400" spc="-1" strike="noStrike">
              <a:solidFill>
                <a:srgbClr val="1f497d"/>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iscuss and examine samples of reflective writing from assignment. Review the 7 norms of collaboration; questions etc</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ata Presentation Classroom Management; comments on the data collection task; self/peer evals</a:t>
            </a:r>
            <a:endParaRPr b="0" lang="en-US" sz="2800" spc="-1" strike="noStrike">
              <a:solidFill>
                <a:srgbClr val="000000"/>
              </a:solidFill>
              <a:latin typeface="Tw Cen MT"/>
            </a:endParaRPr>
          </a:p>
          <a:p>
            <a:pPr lvl="1"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Examining and defining reflective writing</a:t>
            </a:r>
            <a:endParaRPr b="0" lang="en-US" sz="4400" spc="-1" strike="noStrike">
              <a:solidFill>
                <a:srgbClr val="1f497d"/>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ta drive, not an outside authorit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terature as a support for your assertions, findings, etc.</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ll encompass a question of reflection and the experience they had with regard to that question and how the research recommends further work in the are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r path of thinking</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oice</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rtifacts used powerfully and not superficially</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tain focus on strands data</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y still have additional questions.</a:t>
            </a:r>
            <a:endParaRPr b="0" lang="en-US" sz="2400" spc="-1" strike="noStrike">
              <a:solidFill>
                <a:srgbClr val="000000"/>
              </a:solidFill>
              <a:latin typeface="Tw Cen MT"/>
            </a:endParaRPr>
          </a:p>
          <a:p>
            <a:pPr marL="296280" indent="-2962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f497d"/>
                </a:solidFill>
                <a:latin typeface="Tw Cen MT"/>
              </a:rPr>
              <a:t>The 7 Norms of Collaborative Work</a:t>
            </a:r>
            <a:br>
              <a:rPr sz="4000"/>
            </a:br>
            <a:endParaRPr b="0" lang="en-US" sz="4000" spc="-1" strike="noStrike">
              <a:solidFill>
                <a:srgbClr val="1f497d"/>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us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Pausing before responding or asking a question allows time for thinking and enhances dialogue, discussion and decision-making.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raphrasing   </a:t>
            </a:r>
            <a:r>
              <a:rPr b="0" lang="en-US" sz="1400" spc="-1" strike="noStrike">
                <a:solidFill>
                  <a:srgbClr val="000000"/>
                </a:solidFill>
                <a:latin typeface="Tw Cen MT"/>
              </a:rPr>
              <a:t>Using a paraphrase starter that is comfortable for you: “So…” or “As you are…” or “You’re thinking…” and following the statement with a paraphrase assists members of the group to hear and understand each other as they formulate decisions.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bing</a:t>
            </a:r>
            <a:r>
              <a:rPr b="1" lang="en-US" sz="1400" spc="-1" strike="noStrike">
                <a:solidFill>
                  <a:srgbClr val="000000"/>
                </a:solidFill>
                <a:latin typeface="Tw Cen MT"/>
              </a:rPr>
              <a:t>	</a:t>
            </a:r>
            <a:r>
              <a:rPr b="1" lang="en-US" sz="1400" spc="-1" strike="noStrike">
                <a:solidFill>
                  <a:srgbClr val="000000"/>
                </a:solidFill>
                <a:latin typeface="Tw Cen MT"/>
              </a:rPr>
              <a:t>  </a:t>
            </a:r>
            <a:r>
              <a:rPr b="0" lang="en-US" sz="1400" spc="-1" strike="noStrike">
                <a:solidFill>
                  <a:srgbClr val="000000"/>
                </a:solidFill>
                <a:latin typeface="Tw Cen MT"/>
              </a:rPr>
              <a:t>Using gentle open-ended probes or inquiries such as, “Please say more…” or “Can you tell me about…” or “Then, are you saying?” increases clarity and precision of the group’s thinking.</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tting Ideas on the Table</a:t>
            </a:r>
            <a:r>
              <a:rPr b="0" lang="en-US" sz="1400" spc="-1" strike="noStrike">
                <a:solidFill>
                  <a:srgbClr val="000000"/>
                </a:solidFill>
                <a:latin typeface="Tw Cen MT"/>
              </a:rPr>
              <a:t>  Ideas are the heart of a meaningful dialogue. Label the intention of your comments. For example, you might say, “Here is one idea…” or “One thought I have is…” or “Here is a possible approach…” or “I’m just thinking out loud…”</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aying Attention to Self and Others</a:t>
            </a:r>
            <a:r>
              <a:rPr b="0" lang="en-US" sz="1400" spc="-1" strike="noStrike">
                <a:solidFill>
                  <a:srgbClr val="000000"/>
                </a:solidFill>
                <a:latin typeface="Tw Cen MT"/>
              </a:rPr>
              <a:t>  Meaningful dialogue is facilitated when each group member is conscious of self and of others and is aware of not only what s/he is saying but how it is said and how others are responding. This includes paying attention to learning style when planning for, facilitating and participating in group meetings. Responding to others in their own language forms is one manifestation of this norm. </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esuming Positive Intentions  </a:t>
            </a:r>
            <a:r>
              <a:rPr b="0" lang="en-US" sz="1400" spc="-1" strike="noStrike">
                <a:solidFill>
                  <a:srgbClr val="000000"/>
                </a:solidFill>
                <a:latin typeface="Tw Cen MT"/>
              </a:rPr>
              <a:t>Assuming that others’ intentions are positive promotes and facilitates meaning dialogue and eliminates unintentional putdowns. Using positive presuppositions in speech is one manifestation of this norm.</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ursuing a Balance Between Advocacy and Inquiry</a:t>
            </a:r>
            <a:r>
              <a:rPr b="0" lang="en-US" sz="1400" spc="-1" strike="noStrike">
                <a:solidFill>
                  <a:srgbClr val="000000"/>
                </a:solidFill>
                <a:latin typeface="Tw Cen MT"/>
              </a:rPr>
              <a:t>  Maintaining a balance between advocating for a position and inquiring about one’s own and other’s position assists the group to become a learning organization.</a:t>
            </a:r>
            <a:endParaRPr b="0" lang="en-US" sz="1400" spc="-1" strike="noStrike">
              <a:solidFill>
                <a:srgbClr val="000000"/>
              </a:solidFill>
              <a:latin typeface="Tw Cen MT"/>
            </a:endParaRPr>
          </a:p>
          <a:p>
            <a:pPr marL="306000" indent="-306000">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65"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 Bill Baker, Group Dynamics Berkel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Tw Cen MT"/>
              </a:rPr>
              <a:t>Classroom Management—Group protocol</a:t>
            </a:r>
            <a:endParaRPr b="0" lang="en-US" sz="3600" spc="-1" strike="noStrike">
              <a:solidFill>
                <a:srgbClr val="1f497d"/>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1.</a:t>
            </a:r>
            <a:r>
              <a:rPr b="0" lang="en-US" sz="1600" spc="-1" strike="noStrike">
                <a:solidFill>
                  <a:srgbClr val="000000"/>
                </a:solidFill>
                <a:latin typeface="Tw Cen MT"/>
              </a:rPr>
              <a:t>  20-30 minutes—</a:t>
            </a:r>
            <a:r>
              <a:rPr b="0" lang="en-US" sz="1600" spc="-1" strike="noStrike" u="sng">
                <a:solidFill>
                  <a:srgbClr val="000000"/>
                </a:solidFill>
                <a:uFillTx/>
                <a:latin typeface="Tw Cen MT"/>
              </a:rPr>
              <a:t>Presente</a:t>
            </a:r>
            <a:r>
              <a:rPr b="0" lang="en-US" sz="1600" spc="-1" strike="noStrike">
                <a:solidFill>
                  <a:srgbClr val="000000"/>
                </a:solidFill>
                <a:latin typeface="Tw Cen MT"/>
              </a:rPr>
              <a:t>r distributes the an overview or outline of their work.  Presenter then discusses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2.</a:t>
            </a:r>
            <a:r>
              <a:rPr b="0" lang="en-US" sz="1600" spc="-1" strike="noStrike">
                <a:solidFill>
                  <a:srgbClr val="000000"/>
                </a:solidFill>
                <a:latin typeface="Tw Cen MT"/>
              </a:rPr>
              <a:t>  2 minutes PEERS formulate their probing questions; write on paper, submit to presenter, and read to group. </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3.</a:t>
            </a:r>
            <a:r>
              <a:rPr b="0" lang="en-US" sz="1600" spc="-1" strike="noStrike">
                <a:solidFill>
                  <a:srgbClr val="000000"/>
                </a:solidFill>
                <a:latin typeface="Tw Cen MT"/>
              </a:rPr>
              <a:t> 10 minutes—PEERS ask clarifying questions, Presenter respond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4. </a:t>
            </a:r>
            <a:r>
              <a:rPr b="0" lang="en-US" sz="1600" spc="-1" strike="noStrike">
                <a:solidFill>
                  <a:srgbClr val="000000"/>
                </a:solidFill>
                <a:latin typeface="Tw Cen MT"/>
              </a:rPr>
              <a:t>15 minutes—PEERS discuss the material presented. What did we hear? What didn’t we hear that we needed to know more about? What do we think about the questions and the issues? The conversation should include both “warm” and “cool” comments. The presenter does not speak but listens and takes notes.</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5. </a:t>
            </a:r>
            <a:r>
              <a:rPr b="0" lang="en-US" sz="1600" spc="-1" strike="noStrike">
                <a:solidFill>
                  <a:srgbClr val="000000"/>
                </a:solidFill>
                <a:latin typeface="Tw Cen MT"/>
              </a:rPr>
              <a:t>5 minutes—The </a:t>
            </a:r>
            <a:r>
              <a:rPr b="0" lang="en-US" sz="1600" spc="-1" strike="noStrike" u="sng">
                <a:solidFill>
                  <a:srgbClr val="000000"/>
                </a:solidFill>
                <a:uFillTx/>
                <a:latin typeface="Tw Cen MT"/>
              </a:rPr>
              <a:t>presenter</a:t>
            </a:r>
            <a:r>
              <a:rPr b="0" lang="en-US" sz="1600" spc="-1" strike="noStrike">
                <a:solidFill>
                  <a:srgbClr val="000000"/>
                </a:solidFill>
                <a:latin typeface="Tw Cen MT"/>
              </a:rPr>
              <a:t> responds to what they heard.</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6.</a:t>
            </a:r>
            <a:r>
              <a:rPr b="0" lang="en-US" sz="1600" spc="-1" strike="noStrike">
                <a:solidFill>
                  <a:srgbClr val="000000"/>
                </a:solidFill>
                <a:latin typeface="Tw Cen MT"/>
              </a:rPr>
              <a:t> 5 minutes—All members engage in short reflective writing on what you heard from the data presented and how it interacts with the professional literature that you brought.</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7.</a:t>
            </a:r>
            <a:r>
              <a:rPr b="0" lang="en-US" sz="1600" spc="-1" strike="noStrike">
                <a:solidFill>
                  <a:srgbClr val="000000"/>
                </a:solidFill>
                <a:latin typeface="Tw Cen MT"/>
              </a:rPr>
              <a:t> 10 minutes each person presents key points from your written thoughts—small group discussion encouraged here.</a:t>
            </a:r>
            <a:endParaRPr b="0" lang="en-US" sz="1600" spc="-1" strike="noStrike">
              <a:solidFill>
                <a:srgbClr val="000000"/>
              </a:solidFill>
              <a:latin typeface="Tw Cen MT"/>
            </a:endParaRPr>
          </a:p>
          <a:p>
            <a:pPr marL="283680" indent="-283680">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Step 8.</a:t>
            </a:r>
            <a:r>
              <a:rPr b="0" lang="en-US" sz="1600" spc="-1" strike="noStrike">
                <a:solidFill>
                  <a:srgbClr val="000000"/>
                </a:solidFill>
                <a:latin typeface="Tw Cen MT"/>
              </a:rPr>
              <a:t> 15 minutes—WHOLE GROUP share—Big Aha’s; Questions that came up for whole group contemplation--What can you share about your own experience based on the data presentation and discussion?</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5:20:55Z</dcterms:created>
  <dc:creator>kwoodrow</dc:creator>
  <dc:description/>
  <dc:language>en-US</dc:language>
  <cp:lastModifiedBy>kwoodrow</cp:lastModifiedBy>
  <dcterms:modified xsi:type="dcterms:W3CDTF">2010-03-13T22:39:32Z</dcterms:modified>
  <cp:revision>67</cp:revision>
  <dc:subject/>
  <dc:title>EDRS 698</dc:title>
</cp:coreProperties>
</file>