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move the slide</a:t>
            </a:r>
            <a:endParaRPr b="0" lang="en-US" sz="4400" spc="-1" strike="noStrike">
              <a:solidFill>
                <a:srgbClr val="e3ded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6CAC-BAB7-43E8-8D76-88A440ADAEC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sk students to estimate how tall their house is and then measure each house. </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B9A6-445F-4613-AA11-19029C1FAC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xamples. Factual and procedural are primarily about reporting the what and then what. Justificatory might be why are you teaching that math lesson answer: because it is in our scope and sequence. Critical requires higher level critical thinking and a bigger picture. Some of the tasks have been designed in ways that you cannot think about teaching and learning without addressing some aspect of this, but to truly reach this, there needs to be much deeper questioning.</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5A3B-8689-48D8-A1CF-95A3E81EC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add to this based on Chapters 4-6.</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69F8-B67D-4DB4-8CDC-4A0F1B1D5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mer: http://ideas.gstboces.org/programs/time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Question Pg 19--one of the text questions: Can you think of an example in your own experience where participating in a discussion caused you to rethink and then change your position on an issue? Conversely can you think of a time when group discussion made you feel uncomfortable and caused you to stop examining your beliefs or ideas? Can you begin to describe features or elements of either of these experiences that might help you to understand the enabling and disabling features of those sorts of “critical” conversations? (p. 19)</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Questions for Small Group Discuss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your Regis program prepared you to question the educational goals, classroom and school contexts; to play an active role in creating and critiquing curriculum; to consider a variety of instructional strategi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about a classroom problem, do you try to see it from different ‘angl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that you do automatically in the classroom without consciously thinking about them? (p. 15)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an example of educational theory that you hold about teaching that is based on your own or other teachers’ experiences? How does it relate to the public theories about this issue contained in educational literature? (p. 1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pter 3—Sum up the key points central to our purposes of engaging in reflective practice in this course.</a:t>
            </a:r>
            <a:endParaRPr b="0" lang="en-US" sz="10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11B1-3198-4431-8456-358DBF288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following questions from last weeks text re: the listening dyad—What teachers stay with you and what aspects of their teaching affect you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r past educational experiences informed and guided your understanding of yourself as a teacher?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debrief—then repeat the activity with the following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f the key experiences in your life (including encounters with transmitted knowledge) that have influenced your current ideas about teaching and yourself as teacher? What are some of the important values that underlie your approach to teaching? (p. 33).</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C0CB-2377-45FD-9E20-902E1191B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8FC97-EC46-4D00-A156-F519241DB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98A9E-56AB-48FC-9770-60FB696B8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CA518-79C4-4A6E-B044-394F33FBE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FA96D-D47D-48AB-9725-4647F30BC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83911-AD74-42AA-AF87-C17436AAC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7C746-A023-467E-999D-DA70E00B5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9045A-288A-40A7-99E6-A0A35FCB8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14C1F-F142-4B31-A7C7-86A6D712F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38DA0-3B32-49B9-8C68-C9980A7F1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2B9CB-5521-4BC9-9C21-3960FA97A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4D01C-AEB0-49C3-B613-585154816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67830-D4BE-4F9E-B43B-7F730069A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6DE7D-11A3-4781-A98E-38AE64D72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4F71B-5BE7-4D0A-A9F4-CCA6FEBA7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F449D-9AC0-4ABA-9D1B-0CE66614D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D1B1C-42D4-4A93-A6CC-51D8DC0F0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ED628-7D1E-4E06-9508-BC944235E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AAFA2B0-FFA1-4F8D-956D-3DB886F334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A024ED-8B41-4E4B-9438-BAC472266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E382114-C5DC-4B9E-B02B-32D1C908EF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1521F8A-F890-4030-88F1-F49B7F6351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FBCA46-C80E-415C-A5EC-1275388CB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42631-2D5A-49B7-896D-9D5603C01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E8A25F-73AC-4F60-8352-D26B46412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2BC59B-5F4E-446B-857C-F9A65FD30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89B664E-B2DF-4B93-A7C0-2001B10B9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132D14-A245-4EEC-827A-66A74D6BC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B747B8-51AB-4353-8227-B47FF1E6F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9E63336-4F6A-45F8-8E59-D005B6A0AF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A6067C1-CB65-4CA5-89F9-6BC2ED83F1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BE69B7A-4B1C-4B8C-9B4D-4EA12F15B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1709BB1-310F-41B8-8472-52650A3240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76241D-061E-4EBF-93B6-7FDCC8A07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791CB-4CA8-4F50-A260-398FB831D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958E41-4DAC-47A5-832F-98E36AFEBC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2603E3-B02F-455A-B33B-FCCCA6A2E4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3936C5C-4510-4B1C-BDFB-D69FA6130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FBC983-78B1-404B-8CB4-6F4B95684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A12B60-0F6A-4852-BFE8-4E531F43A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DDD3AA-E64F-44D2-82EC-5788480D1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691BA7F-2528-46BC-9A5B-3B1F4FBD6C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6209BA8-885F-42AF-BB8F-E4F6122063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20FF446-4EF5-4CFF-9000-51C3CF15BA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3F39DC3-F305-4EE9-A374-DCC9B1D9F6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9DE54-ABB1-453D-9C53-FE850AE04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CF820D-E4C0-4A57-BC07-9A1E21B52D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D7E2A3-F1C5-44FC-8067-C403C01AD7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953FD94-F87F-441B-B97B-738224087E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669367-D809-4596-B6D2-7D88BD92D7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20903AB-83B6-4111-8913-BC6AF594EB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B49E1D-5086-4263-8D02-1CD7C018F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A33FF5-BF5B-4859-BA02-EAECBF33B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FB9580-39F8-405F-9916-4DE9E1A085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0C2484-DFD1-42CC-9A49-C19EE77370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5C1BA10-D383-4373-8D83-34D1B79799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00398-8D6A-4F10-A83A-B26B8C5C2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5DB2213-6EC3-4D90-9F87-B06071D85F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CBA2FD-5F35-459C-A566-397088C137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C8B84E-94EB-4C5D-9837-C1554EEF96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15C416-CF14-4491-8E2C-AB02F6AAE8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813E84-55AF-4DC6-90B1-B85FB559F8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1C3BB8-0254-42D9-AFE1-E4BC0AE751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2D4DD1-F57A-4FD5-B192-D9142B4F63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1226B-A3F7-45E3-9C45-BB4113A8BA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B710D9-292C-467B-91F9-88AF273F6D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89D877-9B94-4316-A94D-960B5D512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1D074-59F8-4B56-9C85-D50A26BCE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2B8970-F01A-4C65-8BA2-64D05EBD0F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BC5F2A-6A25-4DE6-8F52-023D0D2E45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C51696-6171-460F-B6C1-438B60512E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6A5D417-8DF7-42D5-95C1-A7F325A3CF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5FCDB95-E89C-4B84-B79D-834EC79078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39DE08E-F022-4B17-99BE-4290C3949A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F6BC774-2C96-484E-BFD7-D65BC55294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31E1D0D-D26E-4CBD-82F2-ADD62856D7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86E7B39-BC30-4D2F-B45A-40C29F7EA6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DF2E7A1-FA50-41EA-9853-99D9976C6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8F3B1-0D57-41BC-9F4C-445EDFFAE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81A156B-F253-4483-A236-9177E0D75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C854ABA-8B5B-46E9-9EC9-AD4AF57530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48FD0AE-5E89-4445-A73E-891C5E3C71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2A73BAF-CC42-4988-BE3B-07AD2FE7FD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EEC4E7D-9FE8-45DD-805D-233319C440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FE1EDB-1F59-42BA-81D4-5E74F5ED5D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60815C-18BB-46BD-8FD0-DBC675E211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0E58DA-C682-496D-A7AB-B8F1AD5DDA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C25B28-977A-4E45-9C5E-8C4DE5F075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E6F8B2-1A90-44DD-A382-BE9F2FC14A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B14A5-2A65-4B51-A70B-AE3663D2D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B55167-285B-4714-AA93-145366C30C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9D3DD2-DC97-4E64-A9B1-CC0E8618FA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1CD4DB-9DE0-402B-A98C-7CEF3C1B4A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564FAF-2539-4BE5-869A-75A4082193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1C2DA1-AD07-46FC-ADBE-1947D63B54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8732F7-6045-4B48-B6D5-BAB723C5C5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9DFBCF-A83F-42CF-B0D9-00685DE7144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1B2A-B44F-4A69-85B7-83CA6CAE7E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edit the title text format</a:t>
            </a:r>
            <a:endParaRPr b="0" lang="en-US" sz="4400" spc="-1" strike="noStrike">
              <a:solidFill>
                <a:srgbClr val="e3de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3de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D6AE-343E-4627-94B9-BBB082DED864}" type="slidenum">
              <a:rPr b="1"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448B-8245-4D2E-BAF9-6AC18FAC11B0}"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26C1-DE3B-44B5-9D76-79E3175FD3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A8DD-4C38-475F-895B-19D78A2577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2323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592F-EEE9-4438-B69E-05452F06C526}" type="slidenum">
              <a:rPr b="1"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D920-4D50-4D8A-B041-0ED256AB486D}"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34B6-6646-4E1A-A03A-FC07487547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EDRS 698</a:t>
            </a:r>
            <a:endParaRPr b="0" lang="en-US" sz="4400" spc="-1" strike="noStrike">
              <a:solidFill>
                <a:srgbClr val="e3ded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2                    1/23/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are some of the important values that underlie your approach to teaching? (p. 33)</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ebrief Listening Activity</a:t>
            </a:r>
            <a:endParaRPr b="0" lang="en-US" sz="4400" spc="-1" strike="noStrike">
              <a:solidFill>
                <a:srgbClr val="323232"/>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using this structure?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reflecting on the promp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orked for you?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as difficult for you?</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pcorn examples of probing questio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Evaluation for data presentation</a:t>
            </a:r>
            <a:endParaRPr b="0" lang="en-US" sz="4400" spc="-1" strike="noStrike">
              <a:solidFill>
                <a:srgbClr val="323232"/>
              </a:solidFill>
              <a:latin typeface="Tw Cen MT"/>
            </a:endParaRPr>
          </a:p>
        </p:txBody>
      </p:sp>
      <p:sp>
        <p:nvSpPr>
          <p:cNvPr id="380" name=""/>
          <p:cNvSpPr txBox="1"/>
          <p:nvPr/>
        </p:nvSpPr>
        <p:spPr>
          <a:xfrm>
            <a:off x="609120" y="1589040"/>
            <a:ext cx="3886200" cy="4572000"/>
          </a:xfrm>
          <a:prstGeom prst="rect">
            <a:avLst/>
          </a:prstGeom>
          <a:noFill/>
          <a:ln w="0">
            <a:noFill/>
          </a:ln>
        </p:spPr>
        <p:txBody>
          <a:bodyPr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Organized and easy to follow.</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81" name=""/>
          <p:cNvSpPr txBox="1"/>
          <p:nvPr/>
        </p:nvSpPr>
        <p:spPr>
          <a:xfrm>
            <a:off x="4844520" y="1589040"/>
            <a:ext cx="3886200" cy="4572000"/>
          </a:xfrm>
          <a:prstGeom prst="rect">
            <a:avLst/>
          </a:prstGeom>
          <a:noFill/>
          <a:ln w="0">
            <a:noFill/>
          </a:ln>
        </p:spPr>
        <p:txBody>
          <a:bodyPr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 Well-developed probing ques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Prepared with their literature resource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Teamwork</a:t>
            </a:r>
            <a:endParaRPr b="0" lang="en-US" sz="4400" spc="-1" strike="noStrike">
              <a:solidFill>
                <a:srgbClr val="323232"/>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1000"/>
          </a:bodyPr>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eamwork involves: getting to know other people listening to the ideas of others planning and making decisions together taking on jobs and responsibilities that contribute to getting the work done everyone!</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ctivity: Students get into assigned peer groups. Explain that the purpose of this activity is to build a house that will stand on its own and to make it as tall as possible using only three kinds of supplies: index cards, paper clips and masking tape. Each group has 15 minutes to work and you will signal when there are 5 minutes left and then one minute left. When you signal the third time, each group is to stop building and move away from their house. </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Processing Small Groups</a:t>
            </a:r>
            <a:r>
              <a:rPr b="0" lang="en-US" sz="2200" spc="-1" strike="noStrike">
                <a:solidFill>
                  <a:srgbClr val="000000"/>
                </a:solidFill>
                <a:latin typeface="Tw Cen MT"/>
              </a:rPr>
              <a:t>: Discuss as a group: What were some ways that we worked well together as a group? How could we have worked together better? Write your responses on the board. </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WHOLE GROUP</a:t>
            </a:r>
            <a:r>
              <a:rPr b="0" lang="en-US" sz="2200" spc="-1" strike="noStrike">
                <a:solidFill>
                  <a:srgbClr val="000000"/>
                </a:solidFill>
                <a:latin typeface="Tw Cen MT"/>
              </a:rPr>
              <a:t>: How did people help out in your group?</a:t>
            </a:r>
            <a:endParaRPr b="0" lang="en-US" sz="2200" spc="-1" strike="noStrike">
              <a:solidFill>
                <a:srgbClr val="000000"/>
              </a:solidFill>
              <a:latin typeface="Tw Cen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4 levels of reflection</a:t>
            </a:r>
            <a:endParaRPr b="0" lang="en-US" sz="4400" spc="-1" strike="noStrike">
              <a:solidFill>
                <a:srgbClr val="323232"/>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ctual (focused on routines and procedures of classroom teaching)</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cedural (reflection centered on evaluation of teaching outcomes)</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ustificatory (reflection about rationales for teaching)</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itical (reflection focused on implications of classroom practice for social justice; critically examine social context)</a:t>
            </a:r>
            <a:endParaRPr b="0" lang="en-US" sz="29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1600" spc="-1" strike="noStrike">
                <a:solidFill>
                  <a:srgbClr val="000000"/>
                </a:solidFill>
                <a:latin typeface="Tw Cen MT"/>
              </a:rPr>
              <a:t>(Liston &amp; Zeichner, 1991 as cited in Nagle, 2009)</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Reflective Teaching Attributes</a:t>
            </a:r>
            <a:endParaRPr b="0" lang="en-US" sz="4000" spc="-1" strike="noStrike">
              <a:solidFill>
                <a:srgbClr val="323232"/>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Openmindedness—why are you doing what you are doing? (ways in which it is working, why it is working and for whom is it working.) Examine underlying rationales for the most naturalized experiences, policies etc. Listens and accepts strengths and weaknesses of own and others perspective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Whole Heartedness—examine assumptions, beliefs and results of actions; Make efforts to see from multiple perspectives; feel they can learn something new</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Responsibility—careful consideration of the consequences of actions (personal; academic; social)</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Democratic perspective—teaching all students to the same high academic standards (p. 77)</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t>
            </a:r>
            <a:r>
              <a:rPr b="0" lang="en-US" sz="1100" spc="-1" strike="noStrike">
                <a:solidFill>
                  <a:srgbClr val="000000"/>
                </a:solidFill>
                <a:latin typeface="Tw Cen MT"/>
              </a:rPr>
              <a:t>So much of teaching is rooted in who we are and how we perceive the world” (p. 23)</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Conscious Practice</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Life-long learner—takes charge of own pro dev</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Think about how they frame and solve problem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ware of personal values, prior experience, knowledge and assumptions (practical theorie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Examine social context</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Knowing/Exploring the why behind the trend</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lways remain or present as neutral reserve judgment. (p. 47)</a:t>
            </a:r>
            <a:endParaRPr b="0" lang="en-US" sz="11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endParaRPr b="0" lang="en-US" sz="12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iscussion of Text</a:t>
            </a:r>
            <a:endParaRPr b="0" lang="en-US" sz="4400" spc="-1" strike="noStrike">
              <a:solidFill>
                <a:srgbClr val="323232"/>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84000"/>
          </a:bodyPr>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ich traditions of reflective teaching most closely align with aspects of your own position (Chapters 5 and 6)</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ich attributes of reflective teaching were missing from Allison’s approach?</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istinguishes reflective teaching from non-reflective teaching? </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es reflective teaching mean better teaching?</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e there any other attributes of reflective teaching that surfaced in these chapters that we can add to our list?  (list 1-3 on stickies and then go on break)</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Agenda</a:t>
            </a:r>
            <a:endParaRPr b="0" lang="en-US" sz="4400" spc="-1" strike="noStrike">
              <a:solidFill>
                <a:srgbClr val="323232"/>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9-11:30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tocols—Roles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arifying/Probing Ques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Listening Activity and Debriefing</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self/peer eval system for data presenta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REAK</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ign up for presenta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 levels of reflection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view attribute list for reflective teachers and extend on it in todays’ discussion</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scuss text questions (NOT ENOUGH TIME)</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1:30-12:00  Small presentation Group discussion of artifact inventory—Are you missing any evidence? </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2:00-1:00 Computer lab ALC 6—Together go to blog, do article searches for the lit support. Post personal introductions using your metaphor piece (p. 37)</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http://edrs698.blogspot.com/</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96280" indent="-296280">
              <a:lnSpc>
                <a:spcPct val="80000"/>
              </a:lnSpc>
              <a:spcBef>
                <a:spcPts val="700"/>
              </a:spcBef>
              <a:buClr>
                <a:srgbClr val="9f293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Small Group protocol </a:t>
            </a:r>
            <a:endParaRPr b="0" lang="en-US" sz="4400" spc="-1" strike="noStrike">
              <a:solidFill>
                <a:srgbClr val="323232"/>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iscuss Data Presentation Protocol</a:t>
            </a:r>
            <a:endParaRPr b="0" lang="en-US" sz="4400" spc="-1" strike="noStrike">
              <a:solidFill>
                <a:srgbClr val="323232"/>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you have any questions re: roles?</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er and self evaluation—Think about while you are doing the listening activity, what does it look like for a group member to be a productive participant?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briefing the data presentations. How did it go? What were the difficulties? How could it have gone more smoothly?</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Listening Exercises</a:t>
            </a:r>
            <a:endParaRPr b="0" lang="en-US" sz="4400" spc="-1" strike="noStrike">
              <a:solidFill>
                <a:srgbClr val="323232"/>
              </a:solidFill>
              <a:latin typeface="Tw Cen MT"/>
            </a:endParaRPr>
          </a:p>
        </p:txBody>
      </p:sp>
      <p:sp>
        <p:nvSpPr>
          <p:cNvPr id="366" name=""/>
          <p:cNvSpPr txBox="1"/>
          <p:nvPr/>
        </p:nvSpPr>
        <p:spPr>
          <a:xfrm>
            <a:off x="612720" y="1447560"/>
            <a:ext cx="8153280" cy="4647960"/>
          </a:xfrm>
          <a:prstGeom prst="rect">
            <a:avLst/>
          </a:prstGeom>
          <a:noFill/>
          <a:ln w="0">
            <a:noFill/>
          </a:ln>
        </p:spPr>
        <p:txBody>
          <a:bodyPr anchor="t">
            <a:normAutofit fontScale="86000"/>
          </a:bodyPr>
          <a:p>
            <a:pPr marL="273960" indent="-273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Listening/clarifying/probing (Speaker will have 2 minutes to talk; Listener will ask a clarifying then probing question and allow the speaker to respond. SWITCH and examine next question)</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teachers stay with you and what aspects of their teaching affect you today? (p. 27)</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ave your past educational experiences informed and guided your understanding of yourself as a teacher? (p. 27)</a:t>
            </a:r>
            <a:endParaRPr b="0" lang="en-US" sz="2200" spc="-1" strike="noStrike">
              <a:solidFill>
                <a:srgbClr val="000000"/>
              </a:solidFill>
              <a:latin typeface="Tw Cen MT"/>
            </a:endParaRPr>
          </a:p>
          <a:p>
            <a:pPr marL="273960" indent="-273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top debrief—then repeat the activity with the following question:</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are some of the key experiences in your life (including encounters with transmitted knowledge) that have influenced your current ideas about teaching and yourself as teacher? (p. 33)</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are some of the important values that underlie your approach to teaching? (p. 33)</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teachers stay with you and what aspects of their teaching affect you today? (p. 27)</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Have your past educational experiences informed and guided your understanding of yourself as a teacher? (p. 27)</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ebrief Listening Activity</a:t>
            </a:r>
            <a:endParaRPr b="0" lang="en-US" sz="4400" spc="-1" strike="noStrike">
              <a:solidFill>
                <a:srgbClr val="323232"/>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using this structure?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reflecting on the promp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orked for you?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as difficult for you?</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thinking about what makes a good presenter? A good peer consultan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are some of the key experiences in your life (including encounters with transmitted knowledge) that have influenced your current ideas about teaching and yourself as teacher? (p. 33)</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1:11:15Z</dcterms:created>
  <dc:creator>kwoodrow</dc:creator>
  <dc:description/>
  <dc:language>en-US</dc:language>
  <cp:lastModifiedBy>kwoodrow</cp:lastModifiedBy>
  <dcterms:modified xsi:type="dcterms:W3CDTF">2010-03-13T22:38:00Z</dcterms:modified>
  <cp:revision>84</cp:revision>
  <dc:subject/>
  <dc:title>EDRS 698</dc:title>
</cp:coreProperties>
</file>