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move the slide</a:t>
            </a:r>
            <a:endParaRPr b="0" lang="en-US" sz="4400" spc="-1" strike="noStrike">
              <a:solidFill>
                <a:srgbClr val="def5fa"/>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D789-E359-4739-AACB-5593EED18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re driven by YOUR thoughts and experience and supported by literatur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re written with a very PRESENT voi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 am sending Shelli Davis’ (look at voice (especially!), organization, summary and referencing and listing of artifacts!!) I am sending Angelina Barela’s (look at the voice, questioning, very clear description of thinking at all levels, integration of literature, and critical reflection!!) I am sending Melissa Spies (look at voice, organization, quality of writing, and the beginnings of the critical reflection—pushed  a little further with some of my question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of the problems I am seeing relate to page number—too few made for a very superficial reflection. For community connection, write 7-14 pages (we might not need this many for some of the others.)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of the problems obviously relate to the quantity of data and the newness of this kind of writing (hopefully the attached examples help!)</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problems related to the setting of the scene or context and how to use just a selection of your data to do tha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ny of the problems relate to voice (which is probably because you are normally asked to write without one). The attached papers are not all perfect, but they all have a very strong voice. I think this might be the biggest piece to pay attention to in the next paper. It may be a stretch for some of you to include subjective thoughts but it will be very difficult to get to that critical reflective place if you remain distant from your thinking and writing…I think that the voice quality might be one of the most crucial aspects to moving in that area of truly critical refle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44B7-55E5-4E50-A59B-9CF5F767A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B0164-18FE-4B51-892B-9B4E4D3CA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420EA-0BB2-4499-A4A0-D1C18A12E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45BA6-9BEE-4188-B105-1BFE5FD02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6A65A-41D6-419A-B3C5-473D83010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85BE4-5A2F-45A9-9CE2-F622B8CC4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A13B5-3BA8-4F39-BE19-047FECD6A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16B20-B1D3-4C5B-ADCB-9ECACD86C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20790-BB95-4293-8431-E3A3FB19D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8F62C-B1D8-496A-940A-BB79F3D83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828CB-73DD-40FC-94FD-561757C03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2747A-7C77-4F00-B190-193B4FE8E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EB1B7-7ECD-4228-922E-936C7969D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DD8D4-6EA1-4D2F-8858-2BCB911E4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BE740-CAA4-4845-971E-E79B11890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D81D9-7B82-42CE-A516-67AA7188A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20A67-B23C-4C9A-8DDB-68A5E7BAE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3B40D7-A40F-4137-9E1D-9E0BF81C7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A932530-5CBF-4A15-8B76-817EEC8C11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E71F440-B636-445B-857C-EF347BAECB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5BB8307-7207-47B2-96A0-F2DB8C25A1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70B9C43-0FDC-4059-8216-787A7FFB32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D7E1037-5637-4B3A-931C-624EBFE55A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1EC03-353F-4E82-9D14-29D684A60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0E526D9-439B-4CB7-AA20-9A32BBC7DF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30A2DC2-A266-49DB-B584-572BD1792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8975DE-2B15-4D6C-8BB5-E685475BC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45BE93A-0D8B-4AE5-9BCC-5AD47AD0E7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86177E-D8E0-48F2-8C14-6F601C3D3B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E1CAF1F-5A9D-4EE1-8B13-E3F2A55D4A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24ABB25-1E45-490F-B163-DE711B41DC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E226AF9-7B05-4804-AC6A-56D6353640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97B1E9B-885D-4FA1-AE33-D50E6CC665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323FA30-A55A-4A76-8132-D40BC55961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4F93B-CDEF-41A9-9AAA-6D45B4D3D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70FE9F2-8820-4942-A547-56B5DEFA7B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1C7B2FA-26AF-4258-9B7E-E66F86F4F6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D2B91B-3774-4A19-8A0E-51B25D0418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9FC8D1-BCCE-4357-989B-1F437A9D72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3AADB12-B363-47FA-A93D-E68592ABBE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88429E-D092-47C4-A95B-B7162BCC29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E3C24D9-6E08-46C7-A6E5-A3FC4F441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003E322-DD6D-4E9C-809B-696DEBD2E9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CA157EB-27E0-438B-B9C8-E2D349FCC0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8FE5358-79DA-4053-975B-8F294B0783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081DB-426E-45CC-B91A-D6BFA9709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4A1C1F9-342D-4A05-93DD-7A8D6739E3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E6D7A7A-70E2-4513-9E32-8E3066829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0063716-5B38-4078-8A1E-A43947A6B2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94E74A8-FAA8-483F-8743-60ACB4C7C5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716759C-A69F-4479-8010-0055C28462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3197AB-1C69-4416-B76F-57E18E25CC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20D3F0-A2DB-4F1F-ACCF-A883F4D03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0D58BF-22B7-4739-B891-67F4012896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E980671-35FB-4E9D-AF78-531B493645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4867E38-E0F3-4916-9D99-A50A1B6438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D39FF-B860-4427-ACD0-28D67BE28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ED52163-4EA8-452A-8C4E-E58397240D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180880-A7AB-4E30-94CE-058FACDEC0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108DDE-9CBC-4358-8904-BA774AE6DC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EA91AD-F61F-496F-AA7F-2BB1CA9E3B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B72752-0416-4C80-B578-F2EE987A07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AD9A80-2CBB-4714-A07F-A0568EBF30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22F7E4-C4A2-444F-A58D-9B33EA8341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B374EF-0D89-4615-9EFE-23D38E2B30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57844B-FBF2-46D4-BA12-8D0DC33958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649C0D-0E0C-4607-A291-11DD363382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FD61F-C043-45E9-81C6-668158D68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DDB9BD-508F-43B2-BE2C-AF95224752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3C708D-D779-4641-A9A4-488CF3DFBB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966A69-0CA2-44FE-86A7-C8914E7A57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564F080-156F-484E-BE33-9B484B4249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AE16743-38E1-48A1-A1A5-BB3F47ABDD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64CD396-FE22-4558-9728-2C12888F9D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C329DF1-AC73-459E-9C85-9F4EF33856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B54BA12-D2D0-4676-9EB5-3E95B54DFD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71F3B4C-DC5C-447D-B783-29D635B2E0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BD4FA83-8CB5-4CE1-8DCA-19B1869FEF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CDC08-BEC3-43BB-9CD3-5C4FF44DF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02E293-7A6E-4E16-943A-7141D9B198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E67865F-FEFD-42B6-93FB-B195413984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A026681-93F6-41B6-804E-0D786C0594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CE06FDA-F570-4231-82BF-82EB597254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0DDC92B-6E32-4C82-92AF-3207DDF9F1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72F578-C9B3-49EC-95B3-3E600D67D8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5899ED-C85F-4C79-9C4F-71B867A889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59404A-3BE2-4408-B410-BE22C94D57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ADDDBA-5053-48D5-8B3C-AD587FD88D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F67DA4-64E8-43A4-B29A-EA26B64739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712AD-15FD-4A5D-A286-9E64A0E92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93F09A-E160-4CE8-BA5F-2ECE80C395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DB2D34-8EE7-4DB2-AA32-A6159DE73E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4967C7-B474-444A-A2F1-E9E9A3C013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B20A3D-BF41-4E09-8F1E-29A24A2E38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867412-ADF1-4E98-B73A-073F9EE24B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8626FD-4215-422A-B9D5-D5F14B51BF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4404C0-F6AC-4313-9B8E-B5BC9EEA350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9014-2331-4A3B-85AC-EF652F16F05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edit the title text format</a:t>
            </a:r>
            <a:endParaRPr b="0" lang="en-US" sz="4400" spc="-1" strike="noStrike">
              <a:solidFill>
                <a:srgbClr val="def5fa"/>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ef5f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234F-BD74-4C68-8C74-F2C9EFAD97C7}" type="slidenum">
              <a:rPr b="1" lang="en-US" sz="1400" spc="-1" strike="noStrike">
                <a:solidFill>
                  <a:srgbClr val="def5f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183D-164C-47A9-BB07-920DE532818D}"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3043-9392-4780-BB5D-9022894F405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6037-3232-4538-B087-20A3F1FACFA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4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7C01-4C7F-4AF4-841F-D48053C52F57}" type="slidenum">
              <a:rPr b="1" lang="en-US" sz="1400" spc="-1" strike="noStrike">
                <a:solidFill>
                  <a:srgbClr val="46464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3134-D7BD-48BB-ABB4-E3C66E2DE3BF}"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B5F8-34F3-40A2-9E76-7B5F50B17FB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EDRS 698</a:t>
            </a:r>
            <a:endParaRPr b="0" lang="en-US" sz="4400" spc="-1" strike="noStrike">
              <a:solidFill>
                <a:srgbClr val="def5fa"/>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 Visitors TODAY</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6                    2/2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Agenda</a:t>
            </a:r>
            <a:endParaRPr b="0" lang="en-US" sz="4400" spc="-1" strike="noStrike">
              <a:solidFill>
                <a:srgbClr val="464646"/>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and examine samples of reflective writing from assignment. Review the 7 norms of collaboration; questions etc.</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ata Presentation Instructional Strategies</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a1f2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Tw Cen MT"/>
              </a:rPr>
              <a:t>Examining and defining reflective writing</a:t>
            </a:r>
            <a:endParaRPr b="0" lang="en-US" sz="4000" spc="-1" strike="noStrike">
              <a:solidFill>
                <a:srgbClr val="464646"/>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ll of the tenets of good writing i.e. topic sentences, transitions etc.</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Voice/Honesty. Self examination/ introspection--detailing of stereotypes, bias in values etc and how those might be influence teaching and learning and how they might be overcome</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ata driven, not an outside authority. Artifacts used powerfully and not superficially.  Literature as a support for your assertions, findings, etc.</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escribes important trends and observations of data and ties to thinking/teaching</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Well organized; Clearly state your thinking, assertions, observations, and statements with concrete examples and evidence.</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Balanced critiques</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O WHAT?</a:t>
            </a:r>
            <a:endParaRPr b="0" lang="en-US" sz="14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GOAL? voice, organization, observational evidence, literature and higher level thinking all woven together! </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Tw Cen MT"/>
              </a:rPr>
              <a:t>Instructional Strategies—Group protocol</a:t>
            </a:r>
            <a:endParaRPr b="0" lang="en-US" sz="3600" spc="-1" strike="noStrike">
              <a:solidFill>
                <a:srgbClr val="464646"/>
              </a:solidFill>
              <a:latin typeface="Tw Cen MT"/>
            </a:endParaRPr>
          </a:p>
        </p:txBody>
      </p:sp>
      <p:sp>
        <p:nvSpPr>
          <p:cNvPr id="364" name=""/>
          <p:cNvSpPr txBox="1"/>
          <p:nvPr/>
        </p:nvSpPr>
        <p:spPr>
          <a:xfrm>
            <a:off x="685800" y="1600200"/>
            <a:ext cx="8153280" cy="4495680"/>
          </a:xfrm>
          <a:prstGeom prst="rect">
            <a:avLst/>
          </a:prstGeom>
          <a:noFill/>
          <a:ln w="0">
            <a:noFill/>
          </a:ln>
        </p:spPr>
        <p:txBody>
          <a:bodyPr anchor="t">
            <a:normAutofit fontScale="89000"/>
          </a:bodyPr>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50Z</dcterms:modified>
  <cp:revision>58</cp:revision>
  <dc:subject/>
  <dc:title>EDRS 698</dc:title>
</cp:coreProperties>
</file>