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beec9"/>
                </a:solidFill>
                <a:latin typeface="Tw Cen MT"/>
              </a:rPr>
              <a:t>Click to move the slide</a:t>
            </a:r>
            <a:endParaRPr b="0" lang="en-US" sz="4400" spc="-1" strike="noStrike">
              <a:solidFill>
                <a:srgbClr val="fbeec9"/>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4D47C-523F-4AF2-8715-C5B880648B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683E0-687E-4C5D-B7C4-7F828D65EF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 available at: http://varenne.tc.columbia.edu/bib/texts/mcdrmr0p006cultwork.pdf</a:t>
            </a: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67128-4E91-443E-84AD-8A9158E28C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CE9E54-CB19-4541-9702-039212F21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B3161-E339-4CD5-B32A-297D41972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05EAE-58A3-42EA-BC06-C38AF0B785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1ECCD2-C526-4441-97AE-C5A85AD14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084F8D-BDB9-41B1-AEA2-8954652BDD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8A7E67-8A0F-4155-9DA7-EB473581BD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A3493C-5B20-4BC4-9336-F41A81BEB3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CC7178-7B17-4A02-B633-F136268BA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8D8A36-C5E7-415E-A23B-2BB8328512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9E3B0B-3762-4728-B498-1915D08DA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C6AD1-D571-4874-9A80-554918E73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B49C2-6F22-4354-9C4D-4053ED4C2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976FD-9CD3-4F1A-9934-80B41BCA6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62CEB-F933-42A5-AB60-8825CCC3C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A04900-7A12-4EA6-A222-720194966C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85B8AE-5085-4229-A45F-E265F7B6FC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160DF3-A5D1-4436-AB90-3FFCAF5551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A842A91-D385-4935-A02B-E8B14F149E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AA56879-AFC6-4CCC-918D-5641A4BD9E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2A53872-8D1C-4DBC-83C7-E73241C288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6E7FAA0-B475-4749-BFCC-2713138E71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F3E91A2-D59A-482D-8E01-08C0930BD5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58DDF-70CB-438A-B4F2-852ECE441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87CFB02-F440-4932-8830-81CF08566C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B9CB201-CF1D-4E8F-850A-812870F6FA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78C640D-901E-48F8-8C74-CBC7E21709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EFB0B75-FD70-4F97-B3DE-5EC9E840C9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FFB05A1-DC32-4117-B106-5E4423ADAC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D3047CD-5C1C-4378-8D3F-865C8C0644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8B71999-F350-424B-AB58-86E9440031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E35CA36-43D2-4AB0-86A0-077FE34755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6227F83-92E7-49DA-A2CC-AEAFA6898F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34537A5-5AC6-4A09-8F8B-70FFC76256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F99CE-7263-434B-A111-8BE8FC473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8F68512-C6F7-4EF5-9014-0BE276BCAD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78835FA-0186-48A3-BDFF-C693FDA320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72EC34B-43EC-4AC7-990F-7DA28FD1CD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5B55BBD-7F6D-4531-92B8-2DC91162BC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F4CCFCA-B03F-48D1-95CB-2CAFD64392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20F8E79-EFDC-4F45-955C-798C674254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7928385-10C6-4B6B-B24B-7BAB862D47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7ACC237-9AC2-4B8D-A9B0-230C68F389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01BE705-ADC3-457D-AC35-7E57129C0B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283D14A-7D1F-401B-9113-A97AC56E38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E13D4-7196-478D-9560-4960C8004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1C5E299-750A-4BC7-999E-603F4BF892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0D23B1B-6D17-4793-A054-1C06040F50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CCCF6C7-F8C5-48F0-A3B9-B5F5B1A07B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1EC2A61-4CE9-4B6F-85FD-A49D25D370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820123F-5423-4F0B-BE03-089B3F2475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B86EC37-4F46-4EDE-A307-093D9531CB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65ADCDE-2B65-4F06-9D20-6497DD3814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1F0C0B4-6B6A-4939-A362-CA74E5A300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D77068F-78E1-44DA-BFB4-2ED703034D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A6B7904-0E83-4528-9B17-62B383D532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E6D7F-2D59-4C99-BC10-AD8AD9ED9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FC648FB-9F18-4C6D-A319-C6ED85E105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5F1AFC-E442-4933-9F71-2DD2D550C0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02BC58-3B53-40CA-ACC2-7AC816CE4F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9B539C-06D1-4E20-8581-F2EC16E866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9EB0DA-10D1-46F3-9CAF-C4CEB794CC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1BF813-1F69-49B2-944F-FB435A953A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9F07BB-82CB-4C16-99BD-9346E1EB52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188EE1-C532-45C8-B3B9-2E8331C706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B5FF88-8F8E-4536-B232-ACF843401E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93BFFB-3819-4766-9372-B618E8D9FA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5CD75-95BD-4851-8026-7A7501F61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E53FC8-3FE9-498D-8002-39FCCAC490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B9AFF5-EA91-40F5-84E9-679FA305D8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4ED853-F7AB-4056-B827-45059DF46D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5915FF2-647D-46B9-B795-BC8A9E2442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0765C38-E4A1-4E2C-BDCB-3CB83FC17C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89FC2A2-66D6-482F-AD00-7D1912994E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CE5DD8C-41A5-4BE7-9FB7-2C786F500E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5F3C4FE-9E75-455C-8CE7-C0A5B78A12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225B574-4B98-4C77-B7DD-68FCA9F780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10AA8F2-30F3-4289-89DA-FAA887A3AA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99F6C-6906-46F1-85DD-5BBBFF86E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32C8060-B7B3-428E-A28B-9F9E6B79C2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68B026F-5C90-4345-8142-8F2A8F0BD8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4196FB2-D90C-4836-BFF0-D971D094D0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BA5F51B-1D9C-4D73-9E7F-B17A587880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9D17253-7947-4888-9EFA-9B7F51C64C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718525-0773-467E-8441-9F8895F196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12D870-CE8D-4620-A10F-672665747C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25955D-4021-4CC5-A03A-7478627CC9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51B762-CE51-40A6-BC26-B480BDC1E8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DC5F73-74B6-4241-A8FD-D372FD656B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A3154-6E03-4E7E-977F-BAFA68C1E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8A6CF7-2D42-44A5-A068-3A4EC4985E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E6067A-29DB-4F69-9BB6-E9454E6ECC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AE1DAD-8C18-44BE-92F6-929567BEA8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D3A05F-1C92-4B4B-B718-A40DAA3A3A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52D29C-4979-4A0B-AA79-3A4DDB2AEA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AC99D5-7E05-4752-8B95-87711F0632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A5195D-9E15-422B-BB72-B3CA65439AB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E4308-14CB-40FD-873C-C362105886F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3b30"/>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beec9"/>
                </a:solidFill>
                <a:latin typeface="Tw Cen MT"/>
              </a:rPr>
              <a:t>Click to edit the title text format</a:t>
            </a:r>
            <a:endParaRPr b="0" lang="en-US" sz="4400" spc="-1" strike="noStrike">
              <a:solidFill>
                <a:srgbClr val="fbeec9"/>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ee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25104-ABE7-4722-80AD-F619BDD6FDA9}" type="slidenum">
              <a:rPr b="1" lang="en-US" sz="1400" spc="-1" strike="noStrike">
                <a:solidFill>
                  <a:srgbClr val="fbee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F382D-961E-4532-B548-C15B4D5F20E2}"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F488C-0E43-4D2A-BDB9-D6691F30935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EE492-C1DF-4638-9174-A4C81E56201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e3b3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D9053-FE41-408E-AA2D-3C364C9ABCB6}" type="slidenum">
              <a:rPr b="1" lang="en-US" sz="1400" spc="-1" strike="noStrike">
                <a:solidFill>
                  <a:srgbClr val="4e3b3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7DB65-49FF-41CC-A394-DB584CF5EFE6}"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348B8-0B76-456F-8A70-DCC33919D45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beec9"/>
                </a:solidFill>
                <a:latin typeface="Tw Cen MT"/>
              </a:rPr>
              <a:t>EDRS 698</a:t>
            </a:r>
            <a:endParaRPr b="0" lang="en-US" sz="4400" spc="-1" strike="noStrike">
              <a:solidFill>
                <a:srgbClr val="fbeec9"/>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apstone in Reflective Teaching</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eek 7                    2/20/10</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Agenda</a:t>
            </a:r>
            <a:endParaRPr b="0" lang="en-US" sz="4400" spc="-1" strike="noStrike">
              <a:solidFill>
                <a:srgbClr val="4e3b30"/>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fontScale="87000"/>
          </a:bodyPr>
          <a:p>
            <a:pPr lvl="1" marL="298440" indent="-298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9:00-9:15  Discuss final presentation; questions etc.; Electronic community connection log and student in context reflections.</a:t>
            </a:r>
            <a:endParaRPr b="0" lang="en-US" sz="24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9:15-10:45 Data Presentation Technology</a:t>
            </a:r>
            <a:endParaRPr b="0" lang="en-US" sz="24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10:45-11:00 STEP 8 Debrief, Questions, Cross Share</a:t>
            </a:r>
            <a:endParaRPr b="0" lang="en-US" sz="2400" spc="-1" strike="noStrike">
              <a:solidFill>
                <a:srgbClr val="000000"/>
              </a:solidFill>
              <a:latin typeface="Tw Cen MT"/>
            </a:endParaRPr>
          </a:p>
          <a:p>
            <a:pPr lvl="1"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11:00-1:00 Reading and discussion of article to help further develop the idea of the normalization of practices, policies etc. One of the initial questions in Zeichner and Liston asked also pointed to this, “In what ways might the structures of classrooms and schools contribute to or discourage teacher reflexivity? (p. 12)”</a:t>
            </a:r>
            <a:endParaRPr b="0" lang="en-US" sz="2400" spc="-1" strike="noStrike">
              <a:solidFill>
                <a:srgbClr val="000000"/>
              </a:solidFill>
              <a:latin typeface="Tw Cen MT"/>
            </a:endParaRPr>
          </a:p>
          <a:p>
            <a:pPr lvl="1" marL="298440" indent="-29844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7200" indent="-277200">
              <a:spcBef>
                <a:spcPts val="700"/>
              </a:spcBef>
              <a:buClr>
                <a:srgbClr val="a5644e"/>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Technology—Group protocol</a:t>
            </a:r>
            <a:endParaRPr b="0" lang="en-US" sz="4400" spc="-1" strike="noStrike">
              <a:solidFill>
                <a:srgbClr val="4e3b30"/>
              </a:solidFill>
              <a:latin typeface="Tw Cen MT"/>
            </a:endParaRPr>
          </a:p>
        </p:txBody>
      </p:sp>
      <p:sp>
        <p:nvSpPr>
          <p:cNvPr id="362" name=""/>
          <p:cNvSpPr txBox="1"/>
          <p:nvPr/>
        </p:nvSpPr>
        <p:spPr>
          <a:xfrm>
            <a:off x="609120" y="1600200"/>
            <a:ext cx="8153640" cy="4495680"/>
          </a:xfrm>
          <a:prstGeom prst="rect">
            <a:avLst/>
          </a:prstGeom>
          <a:noFill/>
          <a:ln w="0">
            <a:noFill/>
          </a:ln>
        </p:spPr>
        <p:txBody>
          <a:bodyPr anchor="t">
            <a:normAutofit fontScale="92000"/>
          </a:bodyPr>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1.</a:t>
            </a:r>
            <a:r>
              <a:rPr b="0" lang="en-US" sz="1800" spc="-1" strike="noStrike">
                <a:solidFill>
                  <a:srgbClr val="000000"/>
                </a:solidFill>
                <a:latin typeface="Tw Cen MT"/>
              </a:rPr>
              <a:t>  20-30 minutes—</a:t>
            </a:r>
            <a:r>
              <a:rPr b="0" lang="en-US" sz="1800" spc="-1" strike="noStrike" u="sng">
                <a:solidFill>
                  <a:srgbClr val="000000"/>
                </a:solidFill>
                <a:uFillTx/>
                <a:latin typeface="Tw Cen MT"/>
              </a:rPr>
              <a:t>Presente</a:t>
            </a:r>
            <a:r>
              <a:rPr b="0" lang="en-US" sz="1800" spc="-1" strike="noStrike">
                <a:solidFill>
                  <a:srgbClr val="000000"/>
                </a:solidFill>
                <a:latin typeface="Tw Cen MT"/>
              </a:rPr>
              <a:t>r distributes the an overview or outline of their work.  Presenter then discusses </a:t>
            </a:r>
            <a:endParaRPr b="0" lang="en-US" sz="1800" spc="-1" strike="noStrike">
              <a:solidFill>
                <a:srgbClr val="000000"/>
              </a:solidFill>
              <a:latin typeface="Tw Cen MT"/>
            </a:endParaRPr>
          </a:p>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2.</a:t>
            </a:r>
            <a:r>
              <a:rPr b="0" lang="en-US" sz="1800" spc="-1" strike="noStrike">
                <a:solidFill>
                  <a:srgbClr val="000000"/>
                </a:solidFill>
                <a:latin typeface="Tw Cen MT"/>
              </a:rPr>
              <a:t>  2 minutes PEERS formulate their probing questions; write on paper, submit to presenter, and read to group. </a:t>
            </a:r>
            <a:endParaRPr b="0" lang="en-US" sz="1800" spc="-1" strike="noStrike">
              <a:solidFill>
                <a:srgbClr val="000000"/>
              </a:solidFill>
              <a:latin typeface="Tw Cen MT"/>
            </a:endParaRPr>
          </a:p>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3.</a:t>
            </a:r>
            <a:r>
              <a:rPr b="0" lang="en-US" sz="1800" spc="-1" strike="noStrike">
                <a:solidFill>
                  <a:srgbClr val="000000"/>
                </a:solidFill>
                <a:latin typeface="Tw Cen MT"/>
              </a:rPr>
              <a:t> 10 minutes—PEERS ask clarifying questions, Presenter responds.</a:t>
            </a:r>
            <a:endParaRPr b="0" lang="en-US" sz="1800" spc="-1" strike="noStrike">
              <a:solidFill>
                <a:srgbClr val="000000"/>
              </a:solidFill>
              <a:latin typeface="Tw Cen MT"/>
            </a:endParaRPr>
          </a:p>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4. </a:t>
            </a:r>
            <a:r>
              <a:rPr b="0" lang="en-US" sz="1800" spc="-1" strike="noStrike">
                <a:solidFill>
                  <a:srgbClr val="000000"/>
                </a:solidFill>
                <a:latin typeface="Tw Cen MT"/>
              </a:rPr>
              <a:t>15 minutes—PEERS discuss the material presented. What did we hear? What didn’t we hear that we needed to know more about? What do we think about the questions and the issues? The conversation should include both “warm” and “cool” comments. The presenter does not speak but listens and takes notes.</a:t>
            </a:r>
            <a:endParaRPr b="0" lang="en-US" sz="1800" spc="-1" strike="noStrike">
              <a:solidFill>
                <a:srgbClr val="000000"/>
              </a:solidFill>
              <a:latin typeface="Tw Cen MT"/>
            </a:endParaRPr>
          </a:p>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5. </a:t>
            </a:r>
            <a:r>
              <a:rPr b="0" lang="en-US" sz="1800" spc="-1" strike="noStrike">
                <a:solidFill>
                  <a:srgbClr val="000000"/>
                </a:solidFill>
                <a:latin typeface="Tw Cen MT"/>
              </a:rPr>
              <a:t>5 minutes—The </a:t>
            </a:r>
            <a:r>
              <a:rPr b="0" lang="en-US" sz="1800" spc="-1" strike="noStrike" u="sng">
                <a:solidFill>
                  <a:srgbClr val="000000"/>
                </a:solidFill>
                <a:uFillTx/>
                <a:latin typeface="Tw Cen MT"/>
              </a:rPr>
              <a:t>presenter</a:t>
            </a:r>
            <a:r>
              <a:rPr b="0" lang="en-US" sz="1800" spc="-1" strike="noStrike">
                <a:solidFill>
                  <a:srgbClr val="000000"/>
                </a:solidFill>
                <a:latin typeface="Tw Cen MT"/>
              </a:rPr>
              <a:t> responds to what they heard.</a:t>
            </a:r>
            <a:endParaRPr b="0" lang="en-US" sz="1800" spc="-1" strike="noStrike">
              <a:solidFill>
                <a:srgbClr val="000000"/>
              </a:solidFill>
              <a:latin typeface="Tw Cen MT"/>
            </a:endParaRPr>
          </a:p>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6.</a:t>
            </a:r>
            <a:r>
              <a:rPr b="0" lang="en-US" sz="1800" spc="-1" strike="noStrike">
                <a:solidFill>
                  <a:srgbClr val="000000"/>
                </a:solidFill>
                <a:latin typeface="Tw Cen MT"/>
              </a:rPr>
              <a:t> 5 minutes—All members engage in short reflective writing on what you heard from the data presented and how it interacts with the professional literature that you brought.</a:t>
            </a:r>
            <a:endParaRPr b="0" lang="en-US" sz="1800" spc="-1" strike="noStrike">
              <a:solidFill>
                <a:srgbClr val="000000"/>
              </a:solidFill>
              <a:latin typeface="Tw Cen MT"/>
            </a:endParaRPr>
          </a:p>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7.</a:t>
            </a:r>
            <a:r>
              <a:rPr b="0" lang="en-US" sz="1800" spc="-1" strike="noStrike">
                <a:solidFill>
                  <a:srgbClr val="000000"/>
                </a:solidFill>
                <a:latin typeface="Tw Cen MT"/>
              </a:rPr>
              <a:t> 10 minutes each person presents key points from your written thoughts—small group discussion encouraged here.</a:t>
            </a:r>
            <a:endParaRPr b="0" lang="en-US" sz="1800" spc="-1" strike="noStrike">
              <a:solidFill>
                <a:srgbClr val="000000"/>
              </a:solidFill>
              <a:latin typeface="Tw Cen MT"/>
            </a:endParaRPr>
          </a:p>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8.</a:t>
            </a:r>
            <a:r>
              <a:rPr b="0" lang="en-US" sz="1800" spc="-1" strike="noStrike">
                <a:solidFill>
                  <a:srgbClr val="000000"/>
                </a:solidFill>
                <a:latin typeface="Tw Cen MT"/>
              </a:rPr>
              <a:t> 15 minutes—WHOLE GROUP share—Big Aha’s; Questions that came up for whole group contemplation--What can you share about your own experience based on the data presentation and discussion?</a:t>
            </a:r>
            <a:endParaRPr b="0" lang="en-US" sz="18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ultural Work of Learning Disabilities</a:t>
            </a:r>
            <a:endParaRPr b="0" lang="en-US" sz="4400" spc="-1" strike="noStrike">
              <a:solidFill>
                <a:srgbClr val="4e3b30"/>
              </a:solidFill>
              <a:latin typeface="Tw Cen MT"/>
            </a:endParaRPr>
          </a:p>
        </p:txBody>
      </p:sp>
      <p:sp>
        <p:nvSpPr>
          <p:cNvPr id="364" name=""/>
          <p:cNvSpPr txBox="1"/>
          <p:nvPr/>
        </p:nvSpPr>
        <p:spPr>
          <a:xfrm>
            <a:off x="612720" y="1600200"/>
            <a:ext cx="8153280" cy="4495680"/>
          </a:xfrm>
          <a:prstGeom prst="rect">
            <a:avLst/>
          </a:prstGeom>
          <a:noFill/>
          <a:ln w="0">
            <a:noFill/>
          </a:ln>
        </p:spPr>
        <p:txBody>
          <a:bodyPr anchor="t">
            <a:normAutofit/>
          </a:bodyPr>
          <a:p>
            <a:pPr lvl="1" marL="343080" indent="-343080">
              <a:spcBef>
                <a:spcPts val="700"/>
              </a:spcBef>
              <a:buClr>
                <a:srgbClr val="a5644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pend 40 minutes reading </a:t>
            </a:r>
            <a:r>
              <a:rPr b="0" i="1" lang="en-US" sz="2600" spc="-1" strike="noStrike">
                <a:solidFill>
                  <a:srgbClr val="000000"/>
                </a:solidFill>
                <a:latin typeface="Tw Cen MT"/>
              </a:rPr>
              <a:t>The Cultural Work of Learning Disabilities</a:t>
            </a:r>
            <a:endParaRPr b="0" lang="en-US" sz="2600" spc="-1" strike="noStrike">
              <a:solidFill>
                <a:srgbClr val="000000"/>
              </a:solidFill>
              <a:latin typeface="Tw Cen MT"/>
            </a:endParaRPr>
          </a:p>
          <a:p>
            <a:pPr lvl="1" marL="343080" indent="-343080">
              <a:spcBef>
                <a:spcPts val="700"/>
              </a:spcBef>
              <a:buClr>
                <a:srgbClr val="a5644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hat are the key points made in the article?</a:t>
            </a:r>
            <a:endParaRPr b="0" lang="en-US" sz="2800" spc="-1" strike="noStrike">
              <a:solidFill>
                <a:srgbClr val="000000"/>
              </a:solidFill>
              <a:latin typeface="Tw Cen MT"/>
            </a:endParaRPr>
          </a:p>
          <a:p>
            <a:pPr lvl="1" marL="343080" indent="-343080">
              <a:spcBef>
                <a:spcPts val="700"/>
              </a:spcBef>
              <a:buClr>
                <a:srgbClr val="a5644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hat kind of cultural constructions were being problematized?</a:t>
            </a:r>
            <a:endParaRPr b="0" lang="en-US" sz="2800" spc="-1" strike="noStrike">
              <a:solidFill>
                <a:srgbClr val="000000"/>
              </a:solidFill>
              <a:latin typeface="Tw Cen MT"/>
            </a:endParaRPr>
          </a:p>
          <a:p>
            <a:pPr lvl="1" marL="343080" indent="-343080">
              <a:spcBef>
                <a:spcPts val="700"/>
              </a:spcBef>
              <a:buClr>
                <a:srgbClr val="a5644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hat are the implications for other teaching practices?</a:t>
            </a:r>
            <a:endParaRPr b="0" lang="en-US" sz="2800" spc="-1" strike="noStrike">
              <a:solidFill>
                <a:srgbClr val="000000"/>
              </a:solidFill>
              <a:latin typeface="Tw Cen MT"/>
            </a:endParaRPr>
          </a:p>
          <a:p>
            <a:pPr lvl="1" marL="343080" indent="-343080">
              <a:spcBef>
                <a:spcPts val="700"/>
              </a:spcBef>
              <a:buClr>
                <a:srgbClr val="a5644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How can you apply these notions to your final presentation?</a:t>
            </a:r>
            <a:endParaRPr b="0" lang="en-US" sz="28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Nieto (2003)  Teachers make a diff</a:t>
            </a:r>
            <a:endParaRPr b="0" lang="en-US" sz="4400" spc="-1" strike="noStrike">
              <a:solidFill>
                <a:srgbClr val="4e3b30"/>
              </a:solidFill>
              <a:latin typeface="Tw Cen MT"/>
            </a:endParaRPr>
          </a:p>
        </p:txBody>
      </p:sp>
      <p:sp>
        <p:nvSpPr>
          <p:cNvPr id="36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eachers need to elaborate a more critical approach to education so that they may understand the context in which their work takes place and learn to think strategically about how to change not only the context of their own classroom, but also the broader context of teaching” (p. 20)</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5:20:55Z</dcterms:created>
  <dc:creator>kwoodrow</dc:creator>
  <dc:description/>
  <dc:language>en-US</dc:language>
  <cp:lastModifiedBy>kwoodrow</cp:lastModifiedBy>
  <dcterms:modified xsi:type="dcterms:W3CDTF">2010-03-13T23:06:40Z</dcterms:modified>
  <cp:revision>64</cp:revision>
  <dc:subject/>
  <dc:title>EDRS 698</dc:title>
</cp:coreProperties>
</file>