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ac9"/>
                </a:solidFill>
                <a:latin typeface="Tw Cen MT"/>
              </a:rPr>
              <a:t>Click to move the slide</a:t>
            </a:r>
            <a:endParaRPr b="0" lang="en-US" sz="4400" spc="-1" strike="noStrike">
              <a:solidFill>
                <a:srgbClr val="fefac9"/>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ADDE7-B706-4D48-9963-32E3C5526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C6D0-65CE-46AC-B76E-BE15A86A0C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8E766-808E-4BB1-B9C7-214E46759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8A88D-E1A2-494E-9125-C31E5900E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95523-C53C-4328-9800-51AEBEF84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6DE23-D6AF-4F4B-91B4-FE939F14D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B256C2-5A52-41A4-A7EB-99060291A2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C978E-1D13-4361-BC9D-D928DF703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E9BE5-C223-451C-ADA1-20B906E4F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6530D-D929-419B-9A48-97E8295D6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B0E85-84D6-465E-9898-2BB6A732B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B9362-EE93-45B1-A3F4-B6A17FB84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78189-CC97-4C89-ADE6-33F8CFBC1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1AC85-6718-4CB0-98B0-901918824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AF3E2-B10B-48C3-91CF-0EA74321B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6BA68-9A9B-4B22-8E4A-344E8CB15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7CC77-BBBF-461D-ABF4-9FFB740DD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130E16-0D48-450C-8E89-3D33A8EB7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BEE5AA-5934-46F6-A975-1FC4CA1C93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C2890B2-E313-4C1C-9E00-FC6F31FA9E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1261929-A26B-48D5-B5A9-1C503CC909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B59A8DE-A55B-4EBE-96DA-38598BBCBE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03F9CF1-BD35-4141-9D66-A03470EF43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80F2DCE-6E3D-4785-98BF-F70B02C884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C7C4F-2F2B-459F-ABD3-74EF2FDA6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6F18A09-8486-4A8B-AC25-47297D2497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5D3418F-6051-4011-BEC3-D81036A15F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AB48596-C093-43AC-AC3E-9104279E61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4274826-2E00-4230-848A-8B6BE31140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3B86BFA-F3CC-4DBF-B85F-D79D88EF2C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9B57848-1A77-461E-ADD1-EA7361D8E1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374E9BD-4270-4456-B709-D5A08253F4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08BFB02-4CC4-496B-AC80-B46826388C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C59ABF3-6DF8-44E7-9CEB-83515DE9B1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BC258B6-431E-4406-BDBE-14FC93E0C7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989CE-81F1-4E88-8AEA-204C04880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B5BA3D8-358C-4C1A-8D33-480AD1ACF9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26A6744-2CBE-4278-8637-6C1562517B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DCC56AC-AD21-47A3-9A23-E21C746D4C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49C87EC-D062-48E3-B184-D60634CBB9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47B5FEB-747A-4C72-BF5B-E823E60820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EB9928F-FA13-45CA-A71F-55DCFBEE80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9850AC7-2EA5-41AD-B1EC-A0F14DEF24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65AF34F-2FDC-43ED-883C-4B7AD4CBFC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970F2F9-F6F4-4661-A6A5-25CBFC95D2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5579373-D6A0-4396-B4C9-402DC12B59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0AD27-0A32-4588-85D7-E7AD03665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64D2AB6-0752-4633-99F7-C2DB20A752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1F26637-62F0-4F11-B228-37186F17F8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03B02E1-9EA4-4280-B820-3BC4D03C18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029AC9F-4F05-4C4D-9C94-728B6DFB89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98BBC96-E591-4A23-9FF3-D0B91911D6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F4368D-4C59-4AA5-A0DD-C52A411A09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59B3A86-94AB-48B9-AB0F-72E87A52E7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02E433F-925A-4CA6-93B1-5372A181E8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D2D95C4-6306-476F-A1E6-9DE046AC83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BCFDBD2-8762-40FB-872B-6D05526044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7DBFA-067D-4B94-AD21-25EC2C335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5CCF023-3FE6-4EA7-805B-E58E5FE347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646D61-3882-4402-8098-CBEECFBFE6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6CD9EB-C29C-48DF-A0FE-5E42FBCBA6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FA87E3-BA35-41C4-8C2C-249E10424B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A56FAF-17D8-4555-9599-6DD46BA58C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8E9A56-7D6A-47FB-96C0-3241B0FE65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7E4CDE-66AA-4F97-8B43-FC4E577B49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FD71B5-325C-467F-9944-42D2B8F875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CF7C50-36F6-4D99-BF90-294270398C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7E8B8F-462F-46E9-8408-1D31D9CBC2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F3C5B-5601-400A-9DE7-65056078A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6B361E-C9A8-4864-8E62-50FD39FB11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132DA6-F8B7-4179-8119-F9679AAF9E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58B206-B121-48D1-80F9-3C55FE9F07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755E720-E52E-4EB7-8233-54AC677E91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E0A3F7E-B4F5-4A21-BFBC-2D0977B0CA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9E769C8-62B5-435D-A37B-463250D27B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6A21C14-CE51-4CCC-B524-1526FBFE04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4FAE33A-A497-4F37-874D-43AB42F582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2682689-F9C5-467E-B037-1C00C8D2B1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9F40409-2082-4C06-8FDE-1EA7472D9B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20557-F961-4C35-B87B-25E55D14F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E05CA19-6068-4483-93CF-58FA16E6B5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1F2D2CF-FA32-4E89-B691-D9C627AB8D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14709AC-DA5D-48B7-AB98-D03E2A179F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22CD6C4-5B65-4905-AE5F-5C9626C86B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032EEA4-077E-482A-A9ED-3BEFB6E8E4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E19AC6-E761-4F6B-B26A-14FCB94F17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74F11E-7CA3-4C3B-8A71-4D09908591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579B99-C5D2-4773-9821-E3DB9C1EE0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DCFB96-9729-4F93-944B-DBD2D19131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A75453-5EA2-45D4-9A4D-02930A2204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34884-E4EC-4EF3-866F-D8BFBA38C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D1A8A5-166C-4889-AE3D-AED73D248C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D7257B-F86F-451D-B14A-183B116E5F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13D2FD-0677-42F2-81B2-28297E2F20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3F3D0A-EA2F-441A-A6F6-71FAE1C5E4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DCFCAA-AF5E-4787-91AD-BE941E2129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3A78B5-47BF-4A4B-9B3F-45FA86ACBE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059FB9-1BD9-4DC3-AA2D-2E639886098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1A834-B374-43DB-806E-6A6E4BC6937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d26"/>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ac9"/>
                </a:solidFill>
                <a:latin typeface="Tw Cen MT"/>
              </a:rPr>
              <a:t>Click to edit the title text format</a:t>
            </a:r>
            <a:endParaRPr b="0" lang="en-US" sz="4400" spc="-1" strike="noStrike">
              <a:solidFill>
                <a:srgbClr val="fefac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F63D-8637-492B-A96B-5995B74665E1}" type="slidenum">
              <a:rPr b="1" lang="en-US" sz="1400" spc="-1" strike="noStrike">
                <a:solidFill>
                  <a:srgbClr val="fefa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B1DE-5252-42EA-BD17-08432F20B95D}"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F29EA-DDF0-453B-B4E6-C345754CC23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01E8-0E66-44C0-8921-7D6F2569321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44d2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6793-40E2-4E81-84A5-69F761ECAAEE}" type="slidenum">
              <a:rPr b="1" lang="en-US" sz="1400" spc="-1" strike="noStrike">
                <a:solidFill>
                  <a:srgbClr val="444d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F64A9-30A1-43BB-9F21-6FDF5CFB9331}"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AA0E2-47AA-474F-9262-535EF31CF8E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ac9"/>
                </a:solidFill>
                <a:latin typeface="Tw Cen MT"/>
              </a:rPr>
              <a:t>EDRS 698</a:t>
            </a:r>
            <a:endParaRPr b="0" lang="en-US" sz="4400" spc="-1" strike="noStrike">
              <a:solidFill>
                <a:srgbClr val="fefac9"/>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3                    1/30/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Agenda</a:t>
            </a:r>
            <a:endParaRPr b="0" lang="en-US" sz="4400" spc="-1" strike="noStrike">
              <a:solidFill>
                <a:srgbClr val="444d26"/>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89000"/>
          </a:bodyPr>
          <a:p>
            <a:pPr lvl="1" marL="305280" indent="-305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9-10:00 </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the “reflective” writing sample</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the Artifact Inventory Checklist</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view the 7 norms of collaboration; questions etc.</a:t>
            </a:r>
            <a:endParaRPr b="0" lang="en-US" sz="2800" spc="-1" strike="noStrike">
              <a:solidFill>
                <a:srgbClr val="000000"/>
              </a:solidFill>
              <a:latin typeface="Tw Cen MT"/>
            </a:endParaRPr>
          </a:p>
          <a:p>
            <a:pPr lvl="1" marL="305280" indent="-305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10:00-11:30 Data Presentation Student in Context</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BREAK</a:t>
            </a:r>
            <a:endParaRPr b="0" lang="en-US" sz="28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11:40-1 Debrief, Questions, Cross Share, Refine the data presentation protocol and Presenter/Peer consultant eval criteria</a:t>
            </a:r>
            <a:endParaRPr b="0" lang="en-US" sz="28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3680" indent="-283680">
              <a:spcBef>
                <a:spcPts val="700"/>
              </a:spcBef>
              <a:buClr>
                <a:srgbClr val="f3a4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4d26"/>
                </a:solidFill>
                <a:latin typeface="Tw Cen MT"/>
              </a:rPr>
              <a:t>Examining and defining reflective writing</a:t>
            </a:r>
            <a:endParaRPr b="0" lang="en-US" sz="4000" spc="-1" strike="noStrike">
              <a:solidFill>
                <a:srgbClr val="444d26"/>
              </a:solidFill>
              <a:latin typeface="Tw Cen MT"/>
            </a:endParaRPr>
          </a:p>
        </p:txBody>
      </p:sp>
      <p:sp>
        <p:nvSpPr>
          <p:cNvPr id="362"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2"/>
          <p:cNvSpPr>
            <a:spLocks noGrp="1"/>
          </p:cNvSpPr>
          <p:nvPr>
            <p:ph/>
          </p:nvPr>
        </p:nvSpPr>
        <p:spPr>
          <a:xfrm>
            <a:off x="609120" y="2133720"/>
            <a:ext cx="3886200" cy="258480"/>
          </a:xfrm>
          <a:prstGeom prst="rect">
            <a:avLst/>
          </a:prstGeom>
          <a:solidFill>
            <a:srgbClr val="f3a447"/>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5" name="PlaceHolder 3"/>
          <p:cNvSpPr>
            <a:spLocks noGrp="1"/>
          </p:cNvSpPr>
          <p:nvPr>
            <p:ph/>
          </p:nvPr>
        </p:nvSpPr>
        <p:spPr>
          <a:xfrm>
            <a:off x="4800240" y="2133720"/>
            <a:ext cx="3886200" cy="258480"/>
          </a:xfrm>
          <a:prstGeom prst="rect">
            <a:avLst/>
          </a:prstGeom>
          <a:solidFill>
            <a:srgbClr val="d092a7"/>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6" name="TextBox 6"/>
          <p:cNvSpPr/>
          <p:nvPr/>
        </p:nvSpPr>
        <p:spPr>
          <a:xfrm flipH="1" flipV="1" rot="10800000">
            <a:off x="228600" y="1526760"/>
            <a:ext cx="8763120" cy="916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kinds of things did you notice about the reflective writing sample I shared with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444d26"/>
                </a:solidFill>
                <a:latin typeface="Tw Cen MT"/>
              </a:rPr>
              <a:t>The 7 Norms of Collaborative Work</a:t>
            </a:r>
            <a:br>
              <a:rPr sz="4000"/>
            </a:br>
            <a:endParaRPr b="0" lang="en-US" sz="4000" spc="-1" strike="noStrike">
              <a:solidFill>
                <a:srgbClr val="444d26"/>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9"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Student in context—Group protocol</a:t>
            </a:r>
            <a:endParaRPr b="0" lang="en-US" sz="4400" spc="-1" strike="noStrike">
              <a:solidFill>
                <a:srgbClr val="444d26"/>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Evaluation for data presentation</a:t>
            </a:r>
            <a:endParaRPr b="0" lang="en-US" sz="4400" spc="-1" strike="noStrike">
              <a:solidFill>
                <a:srgbClr val="444d26"/>
              </a:solidFill>
              <a:latin typeface="Tw Cen MT"/>
            </a:endParaRPr>
          </a:p>
        </p:txBody>
      </p:sp>
      <p:sp>
        <p:nvSpPr>
          <p:cNvPr id="373" name=""/>
          <p:cNvSpPr txBox="1"/>
          <p:nvPr/>
        </p:nvSpPr>
        <p:spPr>
          <a:xfrm>
            <a:off x="609120" y="1589040"/>
            <a:ext cx="3886200" cy="4572000"/>
          </a:xfrm>
          <a:prstGeom prst="rect">
            <a:avLst/>
          </a:prstGeom>
          <a:noFill/>
          <a:ln w="0">
            <a:noFill/>
          </a:ln>
        </p:spPr>
        <p:txBody>
          <a:bodyPr anchor="t">
            <a:normAutofit fontScale="96000"/>
          </a:bodyPr>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er</a:t>
            </a:r>
            <a:endParaRPr b="0" lang="en-US" sz="29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spects and values peers contributions</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logical connections between the teaching practices and the data. Organized and easy to follow. Handout (more weight)</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cus on trends and their classroom implications.</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Visual aides; appropriate artifacts</a:t>
            </a:r>
            <a:endParaRPr b="0" lang="en-US" sz="2000" spc="-1" strike="noStrike">
              <a:solidFill>
                <a:srgbClr val="000000"/>
              </a:solidFill>
              <a:latin typeface="Tw Cen MT"/>
            </a:endParaRPr>
          </a:p>
        </p:txBody>
      </p:sp>
      <p:sp>
        <p:nvSpPr>
          <p:cNvPr id="374" name=""/>
          <p:cNvSpPr txBox="1"/>
          <p:nvPr/>
        </p:nvSpPr>
        <p:spPr>
          <a:xfrm>
            <a:off x="4844520" y="1589040"/>
            <a:ext cx="3886200" cy="4572000"/>
          </a:xfrm>
          <a:prstGeom prst="rect">
            <a:avLst/>
          </a:prstGeom>
          <a:noFill/>
          <a:ln w="0">
            <a:noFill/>
          </a:ln>
        </p:spPr>
        <p:txBody>
          <a:bodyPr anchor="t">
            <a:normAutofit fontScale="98000"/>
          </a:bodyPr>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sultant Peers</a:t>
            </a:r>
            <a:endParaRPr b="0" lang="en-US" sz="29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intains focus on the presenter’s information and doesn’t just take the floor.</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nstructive comments, Well-developed probing questions.</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by examining own data. Prepared with their literature resources.</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tentive listening, note taking.</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ctive participan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8:25Z</dcterms:modified>
  <cp:revision>68</cp:revision>
  <dc:subject/>
  <dc:title>EDRS 698</dc:title>
</cp:coreProperties>
</file>