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F8FE-B809-4733-870D-DCD31E0CE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94B6-9D7E-4B65-A35A-F7F679D60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5EC99-2B2B-4821-89D8-DAA99B56E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323E-9ECF-4FD3-BA7B-4DA9B0E3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99FA6-4D60-4088-93E4-7404476C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35AA2-C81C-4824-AB7B-A4340FE4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EB173-4781-4266-B205-C0ADD561B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E0059-0247-456E-BF6F-54AA20EF8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6D4F6-C255-4CDA-B8F8-9ABAFFD07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30B70-0F1A-4090-B91C-1D7FFDF0D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283FD-51CB-4F5A-8D35-27A00DB96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A7170-5EE0-407A-915D-A254D1515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C656-7F21-4478-A443-5A61A3A3D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84BB-A2A4-4429-9A8D-586F319A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AD86B-2455-411B-8B7C-16A4A2CD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E1EBD-0A2D-4AAB-81CB-E6A62FE01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671F9-1DFE-4307-856D-4F416F0F3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190DB-72CA-4484-B365-B29985E70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602CC-6766-4C04-B32F-6E3FAD0C0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B1D26C-42F9-40EE-91D6-27A4B22304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8ECB73-E6C6-4AC4-817F-54063C32D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A5184E-B35B-4CF5-97B3-D703C8E51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EFFD96-8791-4FF0-915F-272E68C30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A71FC9-0A34-4CAD-B989-264C56C24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ACF5-856A-4185-AB21-015BBB60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0DD9DC-F6BC-4C23-BFA5-67D8CBFAA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F153E3-E026-440E-99FF-9D2E00DFC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4084E0-08E4-4C38-B4EE-9EC29F4D4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5C007A-4DFF-4F48-A671-89904CACF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3F314F-28DE-4B4F-A906-D7052CD22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FDF6B15-8389-4DDA-B935-AD029AFAD4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309B0D-8012-4EC5-BF85-5BA309AF65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9D9D3E2-C39D-4927-A122-BEAB8FE41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0386E46-3667-461C-BE17-9667CC875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EB6445-4EE5-43C6-8AF2-79B825C2B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67FE0-DEDC-4F5A-A6D3-D356EFE2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71F913-AA31-4A81-831B-8431AD263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442D9B-317A-400E-81F9-54CEFCE49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54E473-A896-4A08-9C33-B4E09B740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66D0D3-79B8-4624-AE2E-3FB8E6CE6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8C36E0-7DF2-49EC-A006-6FE06C552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A5BF44-07D2-4EE9-A7D0-95D8ECC28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491A81-5253-4FD4-98AC-2E3034D82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F4B56D-52B8-43CB-9DB3-85F7F68E45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FCDFC34-E65A-496B-ABF4-18559A426D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E86307F-E990-4EBB-BF1B-B847D41F3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42C60-9900-41B3-982C-5C5A8E90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A46324-33E6-4C9F-9771-925ED8B0A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FACCD0-738B-4347-8223-300AA4C281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F46FBB-2C96-42C8-A8C1-F939BAA01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E59A94-06F5-452A-8914-392013E00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8F03A3-18DA-4874-96A5-9041AE320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D6888B-31DF-444D-B18C-521B768F9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3E4835-1C33-48F7-89B4-FF31CC81E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8B93D1-372D-48C4-A929-51866148B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4702BC-5D39-4BA7-A23D-BC29AA567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459FCAC-18C8-4C5A-A2D6-9CF9214307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3A99C-21BD-4513-99F8-E214FF0B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FBFDAE-86C7-4756-B6E6-55FD86B961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F08F0C-E070-4CB5-9C62-AC7564BB34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61F10-4DF2-4FC9-A3AF-9474ADE8BF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3FC2C-39B6-4B69-A2CE-7BBA77B2F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13086-52B2-469C-A14B-4BBCAA93CF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9EA34-953B-4D23-B0F6-BC3970BE86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0CE7EC-C964-4CF7-8E0F-AC1BD2D11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D250E-08B5-433E-9130-BBE504C38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61ED7-1631-4144-B52B-B002822B9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4BC91-1A9F-43CB-A031-FE3277510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FD48-F454-4AE6-BDD7-77C087A9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162BA-56FF-4809-833F-FF0145E67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3CBD66-4226-465C-9222-DC14D5F19C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C65AD3-56E6-412C-B398-7C68FCE345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045ABF-18C7-4ED8-9130-E21FAC179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46ED6FA-1CC8-41E3-8212-CDBE508A3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A9FEC4-4B24-4415-BA4C-1D9F27BDF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A23AA5-E11E-4D00-8FF6-8B7834571B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5271F39-E45D-4E05-A2A7-C6FC44A9F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76D0E1-2FC8-430C-BF12-1EA8F58CB8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CB5762-1F37-4842-995C-064788F05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3458-A2B6-49B2-8E27-C38DB9973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E0497B-E973-45F6-98A0-A58D7C6B68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588701-E81E-4FAD-963E-1AF248DEF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D1ABD2D-3971-4866-AB29-2263A68B3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C9B86ED-D1B5-4D59-A3F1-FD7D115045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D34DFE-3FB0-4F40-A410-274F262830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94D8F1-F1E6-4224-8555-AFDD1363EF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216ACA-AEA0-4350-9D26-E9F9EA253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7CCED-C34A-4BE9-B611-7719BD77DF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47213-AE0F-4003-B34D-6A068A085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6FFAEC-F594-497A-B11F-AD32D1154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DB9F-F004-4A37-AE13-4DF515C2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8D83E-9818-4008-B2C7-AC8AA0B5D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52E4F-B3F2-4672-B8D9-A68F908E2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861D1-A3F4-4982-B369-5FF23A66E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86C8F-08E5-4124-8C6B-B2CC00C829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ED485-B4BF-4A6F-A570-0769DCDEC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847DD0-73C5-460A-A089-86AA3A9383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674CEA-705A-4BA2-8890-3625327728C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D2A2-F599-4C41-A4E9-CFDB3F6691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ED5B-51AC-41D9-BA18-53EC015243CB}" type="slidenum">
              <a:rPr b="1" lang="en-US" sz="1400" spc="-1" strike="noStrike">
                <a:solidFill>
                  <a:srgbClr val="fefa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5350-CEB1-4AFE-B28F-B8CDFAE6AE7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6EE7-A553-4159-804D-D1BEA649FD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3FD8-0AA5-4959-9879-E74AB4AAF5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22D7-BD42-49B1-890F-592172CE7AD9}" type="slidenum">
              <a:rPr b="1" lang="en-US" sz="1400" spc="-1" strike="noStrike">
                <a:solidFill>
                  <a:srgbClr val="444d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CFC2-F946-4515-AF7A-AC96647F61C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C160-B9B2-4B82-A474-7EBAB91253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EDRS 698</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3                    1/3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Agenda</a:t>
            </a:r>
            <a:endParaRPr b="0" lang="en-US" sz="4400" spc="-1" strike="noStrike">
              <a:solidFill>
                <a:srgbClr val="444d2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9000"/>
          </a:bodyPr>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10:00 </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Artifact Inventory Checklis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0:00-11:30 Data Presentation Student in Contex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REAK</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1:40-1 Debrief, Questions, Cross Share, Refine the data presentation protocol and Presenter/Peer consultant eval criteria</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f3a4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w Cen MT"/>
              </a:rPr>
              <a:t>Examining and defining reflective writing</a:t>
            </a:r>
            <a:endParaRPr b="0" lang="en-US" sz="4000" spc="-1" strike="noStrike">
              <a:solidFill>
                <a:srgbClr val="444d26"/>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f3a44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d092a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44d26"/>
                </a:solidFill>
                <a:latin typeface="Tw Cen MT"/>
              </a:rPr>
              <a:t>The 7 Norms of Collaborative Work</a:t>
            </a:r>
            <a:br>
              <a:rPr sz="4000"/>
            </a:br>
            <a:endParaRPr b="0" lang="en-US" sz="40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Student in context—Group protocol</a:t>
            </a:r>
            <a:endParaRPr b="0" lang="en-US" sz="4400" spc="-1" strike="noStrike">
              <a:solidFill>
                <a:srgbClr val="444d26"/>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Evaluation for data presentation</a:t>
            </a:r>
            <a:endParaRPr b="0" lang="en-US" sz="4400" spc="-1" strike="noStrike">
              <a:solidFill>
                <a:srgbClr val="444d26"/>
              </a:solidFill>
              <a:latin typeface="Tw Cen MT"/>
            </a:endParaRPr>
          </a:p>
        </p:txBody>
      </p:sp>
      <p:sp>
        <p:nvSpPr>
          <p:cNvPr id="373"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 Handout (more weight)</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4"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8:25Z</dcterms:modified>
  <cp:revision>68</cp:revision>
  <dc:subject/>
  <dc:title>EDRS 698</dc:title>
</cp:coreProperties>
</file>