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move the slide</a:t>
            </a:r>
            <a:endParaRPr b="0" lang="en-US" sz="4400" spc="-1" strike="noStrike">
              <a:solidFill>
                <a:srgbClr val="c9c2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C49E-0BC2-4DEF-8BA5-42DD2FB79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B6FC-3F24-4B8F-935B-66F922B54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951C-065A-4DC0-A722-C364D77EF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ep three, Presenter listen for new ideas, perspectives, and approaches. Listen to the group’s analysis of your question/issues. Listen for assumptions — both your own and the group’s — implicit in the conversation.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2090-D8C6-48CC-916B-EBBE25993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8F49F-9E95-4247-87DA-8329030DB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DB96-6950-4A93-B16E-1362D588A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DF391-F074-4E23-90D2-FD06FE517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B67E8-3266-4861-A21F-ABAD9231B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FCAAA-DB5C-48DC-8286-72CBFAABE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DA8AC-D6E4-4A3E-95D3-437D31454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11568-9A2B-4A34-81D0-4CCD4F544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73A93-498C-4EFB-8933-073CC3A61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72E15-4849-4F9E-89B4-9B4BED557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207F3-76AD-4D7C-BC8F-EEA106463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184B-B621-4749-935D-F4FC6A32A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539FC-1B25-4072-867E-09E18CC7B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396B4-BEF3-4E0C-9DF1-9598AF527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2E2C7-9705-44DD-B8A4-EF12D1F62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B9081-1EE5-467F-B32D-7A206539F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7CFF6-593A-40AB-B6AE-018BC9D05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885E7-B4DE-4605-B63F-33E7E3706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D39638C-3EB0-463B-A2E9-807C04EC1E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BA73B5-1738-4304-B82D-DD4B3920C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73A90D-9C9E-4686-AF5A-76B04A0A5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0CF8C77-2791-4942-BDD2-C1BA33BCE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A79170-EDA7-48A7-9E1F-C99F6D96D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F679-0D19-4A96-B528-EB56E62A4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5F17EA7-2E1A-4ED0-9D51-93BE2B854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3FE713-2A1D-495D-AE94-420B1933E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3227A9-3AB5-4615-910E-B29DD97E2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401126-0F97-4437-984C-E8E1CE70E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6F36BE-1E9C-4BAB-98B3-51DCD7FDF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88B1D0C-6B16-4ACD-BB45-3072BB569A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389123-3FFB-4836-841D-642AE3BCFA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D44A945-2CEF-47CC-8C1F-F7CB82C46B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059F96-B090-465B-8AB5-80F3F63552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081081-1E0F-44C1-B806-01E5E23CF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88F5B-8944-449C-AE31-C13959A90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19EC51-FF23-47EA-99DE-03BBB1B83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B2B4FD-1DD3-4707-848F-ED3E31821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CEB38A-9BD8-4564-8E99-2128DF7B4C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793096-36A7-4B99-AEDD-948A7BFF6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F7E536-050F-4C90-A816-AA0D63D35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8709F9-FAA9-4D07-BF9A-9215DE994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68E945A-5358-4CE4-90A5-DFEA3963A3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325BDF-E4CA-427A-9BA7-B35B8D5AF9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EE6EE03-1459-42F3-862B-CD859D8864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2B52AC2-1A27-4FE0-B627-3C9DF3F199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37C5C-A324-43DF-9F62-997973E7D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307940-9623-4276-8128-6F6027E25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AAC7F5-760C-4BFF-8D1E-3CE560381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F4AC54-B4C3-4822-A863-CD58A3931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82A379-C82B-466B-94E6-3E8F191D19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95F38E-4B81-46F9-AB61-7042507691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1DA076-4DEF-44F9-8B1D-1DA28A619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9D40A5-7CF8-42DE-A842-F0DF8F23E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2129FD-F0A4-42A8-BD1D-6C49B720E9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C5BEE8C-60F3-4810-B0AA-7B5CE97F6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EFDBE80-39C1-4A94-B6F4-D099A2B682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2335F-2E93-452D-9A23-23A2BFCC6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625B49C-7A47-4DC8-984D-AE62623085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CE7E5C-66AC-4601-9049-7F84A3E149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680CBA-C385-47BB-A7BC-298DEE954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CA528C-9792-4278-A645-458FF674E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52DDBA-CFD8-4842-ABF6-D5F79FBE4B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9C1D8-0B98-4C9F-9C28-71D4A6856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6E0C7F-2CDF-41A4-9CCE-7C7143F91E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6D0E6-15D9-4AEF-AF83-FA3017EC4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8FE05-73D0-4469-8470-27C8FDB15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1DE18-BE8F-45F1-A480-E45A309A6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24395-6CC5-46B2-87BA-CB67B1E85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33AA18-8EBD-49B6-A522-B9FB73BF21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39C59D-0CCD-40F2-BAB4-9C06B25874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D8C919-645E-4FB9-8897-6B60DE6588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019BEB7-45FE-4331-B119-EB1EF838BB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B09A31A-6C72-4F2B-A19C-70E6B0432E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6A5C72-247E-4E35-81D0-52489DBB33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7B8836-3855-486B-B698-BB7816FE57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0A9E244-8E01-44A3-8A99-0B1D976B27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686D657-1A9D-488E-A5D9-DFAC7994A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F639A8-B5E2-47C6-8006-308914112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4FAB-FF3C-4FCD-AF28-021EC1EB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18D3A2-9BF4-47AD-95A4-CAC1A1DBD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35C273-9711-4E90-9EB6-A5F31FBB8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34EE95-20DE-4406-80A0-07B0477728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0898EF7-E8C5-40FA-BC1E-ED3DB5B775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1A78A6B-E6FF-45C9-A57D-29DE63784E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192917-488E-4BB4-8E18-0B972B665D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12191A-8DCC-4289-BF1B-4461CFC15E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15A4C-DC22-4907-9930-218EFD7B75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E22DD-EE2D-44FD-86C2-2D1561E1F2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0C07D8-A902-46D5-B509-E1648D111B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B2C2-A26C-4E14-B254-4AD6C46FF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CE0C17-44B3-4E5A-BEB9-DF33DCCB70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24FC6-3FBA-490F-BED1-B631F6803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D227C-F076-4E9C-9E2B-7D720522F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63909-6735-4968-A952-66D69575E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2DA945-EDD8-4E73-AC91-4D25AB1F92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4DF7E3-E376-47E1-8122-E318D36F28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563731-2C84-4798-A063-ACD6ED3E714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36D2-9335-405C-8B3F-5CF878AE53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7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edit the title text format</a:t>
            </a:r>
            <a:endParaRPr b="0" lang="en-US" sz="4400" spc="-1" strike="noStrike">
              <a:solidFill>
                <a:srgbClr val="c9c2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9c2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6FED-7539-408F-B493-A1B2569A6FE2}" type="slidenum">
              <a:rPr b="1" lang="en-US" sz="1400" spc="-1" strike="noStrike">
                <a:solidFill>
                  <a:srgbClr val="c9c2d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783D-CAB3-4D76-BBE4-32490177280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B03F-AE6B-4CA4-B471-ED18A4A9562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881F-EAE6-4FDD-B5A0-EFE41DA31B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967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0AC4-7C2A-42BC-BAB0-67499D12F178}" type="slidenum">
              <a:rPr b="1" lang="en-US" sz="1400" spc="-1" strike="noStrike">
                <a:solidFill>
                  <a:srgbClr val="6967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199D-4512-4C68-B9EB-EC073FFFA0D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BDF5-F72E-4198-ADF3-C5CCCC6467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EDRS 698</a:t>
            </a:r>
            <a:endParaRPr b="0" lang="en-US" sz="4400" spc="-1" strike="noStrike">
              <a:solidFill>
                <a:srgbClr val="c9c2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4                    2/0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Agenda</a:t>
            </a:r>
            <a:endParaRPr b="0" lang="en-US" sz="4400" spc="-1" strike="noStrike">
              <a:solidFill>
                <a:srgbClr val="69676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larifying vs. Probing Questions Review</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Data Presentation Community Connection</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76d"/>
                </a:solidFill>
                <a:latin typeface="Tw Cen MT"/>
              </a:rPr>
              <a:t>Examining and defining reflective writing</a:t>
            </a:r>
            <a:endParaRPr b="0" lang="en-US" sz="4000" spc="-1" strike="noStrike">
              <a:solidFill>
                <a:srgbClr val="69676d"/>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9cb084"/>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6585cf"/>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69676d"/>
                </a:solidFill>
                <a:latin typeface="Tw Cen MT"/>
              </a:rPr>
              <a:t>The 7 Norms of Collaborative Work</a:t>
            </a:r>
            <a:br>
              <a:rPr sz="4000"/>
            </a:br>
            <a:endParaRPr b="0" lang="en-US" sz="4000" spc="-1" strike="noStrike">
              <a:solidFill>
                <a:srgbClr val="69676d"/>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arifying and probing questions</a:t>
            </a:r>
            <a:endParaRPr b="0" lang="en-US" sz="4400" spc="-1" strike="noStrike">
              <a:solidFill>
                <a:srgbClr val="69676d"/>
              </a:solidFill>
              <a:latin typeface="Tw Cen MT"/>
            </a:endParaRPr>
          </a:p>
        </p:txBody>
      </p:sp>
      <p:sp>
        <p:nvSpPr>
          <p:cNvPr id="371" name=""/>
          <p:cNvSpPr txBox="1"/>
          <p:nvPr/>
        </p:nvSpPr>
        <p:spPr>
          <a:xfrm>
            <a:off x="609120" y="1589040"/>
            <a:ext cx="3886200" cy="4572000"/>
          </a:xfrm>
          <a:prstGeom prst="rect">
            <a:avLst/>
          </a:prstGeom>
          <a:noFill/>
          <a:ln w="0">
            <a:noFill/>
          </a:ln>
        </p:spPr>
        <p:txBody>
          <a:bodyPr anchor="t">
            <a:normAutofit fontScale="97000"/>
          </a:bodyPr>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arifying questions, are those that have brief, factual answers. They are for the person asking them. They ask the presenter “who, what, where, when, and how.” These are not “why” questions. They can be answered quickly and succinctly, often with a phrase or two.</a:t>
            </a:r>
            <a:endParaRPr b="0" lang="en-US" sz="2400" spc="-1" strike="noStrike">
              <a:solidFill>
                <a:srgbClr val="000000"/>
              </a:solidFill>
              <a:latin typeface="Tw Cen MT"/>
            </a:endParaRPr>
          </a:p>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2" name=""/>
          <p:cNvSpPr txBox="1"/>
          <p:nvPr/>
        </p:nvSpPr>
        <p:spPr>
          <a:xfrm>
            <a:off x="4844520" y="1589040"/>
            <a:ext cx="3886200" cy="4572000"/>
          </a:xfrm>
          <a:prstGeom prst="rect">
            <a:avLst/>
          </a:prstGeom>
          <a:noFill/>
          <a:ln w="0">
            <a:noFill/>
          </a:ln>
        </p:spPr>
        <p:txBody>
          <a:bodyPr anchor="t">
            <a:normAutofit fontScale="86000"/>
          </a:bodyPr>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bing questions are for the person answering them. They ask the presenter “why” (among other things), and are open-ended. They take longer to answer, and often require deep thought on the part of the presenter. Probing questions should be worded so that they help the presenter clarify and expand his/her thinking about the work that was presented to the group. The goal here is for the presenter to learn more about the question s/he framed or to do some deeper reflection on the data presented. There will be no response to the questions, the presenter will simply note them for further contemplation.</a:t>
            </a:r>
            <a:endParaRPr b="0" lang="en-US" sz="1800" spc="-1" strike="noStrike">
              <a:solidFill>
                <a:srgbClr val="000000"/>
              </a:solidFill>
              <a:latin typeface="Tw Cen MT"/>
            </a:endParaRPr>
          </a:p>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Tw Cen MT"/>
              </a:rPr>
              <a:t>Community Connection—Group protocol</a:t>
            </a:r>
            <a:endParaRPr b="0" lang="en-US" sz="3600" spc="-1" strike="noStrike">
              <a:solidFill>
                <a:srgbClr val="69676d"/>
              </a:solidFill>
              <a:latin typeface="Tw Cen MT"/>
            </a:endParaRPr>
          </a:p>
        </p:txBody>
      </p:sp>
      <p:sp>
        <p:nvSpPr>
          <p:cNvPr id="374" name=""/>
          <p:cNvSpPr txBox="1"/>
          <p:nvPr/>
        </p:nvSpPr>
        <p:spPr>
          <a:xfrm>
            <a:off x="533520" y="1600200"/>
            <a:ext cx="8153280" cy="449568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Debriefing the Strand</a:t>
            </a:r>
            <a:endParaRPr b="0" lang="en-US" sz="4400" spc="-1" strike="noStrike">
              <a:solidFill>
                <a:srgbClr val="69676d"/>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 min </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pen up cross share—Big Aha’s; Questions that came up for whole group contemplation</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eedback on tasks (Edits; Comments; Particular challenges; Enduring understandings; Recommendations for revisions)</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Evaluation for data presentation</a:t>
            </a:r>
            <a:endParaRPr b="0" lang="en-US" sz="4400" spc="-1" strike="noStrike">
              <a:solidFill>
                <a:srgbClr val="69676d"/>
              </a:solidFill>
              <a:latin typeface="Tw Cen MT"/>
            </a:endParaRPr>
          </a:p>
        </p:txBody>
      </p:sp>
      <p:sp>
        <p:nvSpPr>
          <p:cNvPr id="378" name=""/>
          <p:cNvSpPr txBox="1"/>
          <p:nvPr/>
        </p:nvSpPr>
        <p:spPr>
          <a:xfrm>
            <a:off x="6091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lpful orienting document</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ed and easy to follow.</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9"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ell-developed probing ques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with their literature resource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14Z</dcterms:modified>
  <cp:revision>74</cp:revision>
  <dc:subject/>
  <dc:title>EDRS 698</dc:title>
</cp:coreProperties>
</file>