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E796-4A5D-4C4E-BFAF-D00E2D184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7358-45BA-4898-8CA3-C7E293607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7D773-DC97-4D85-95BE-783953498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224BA-BAC5-4041-9A15-7B03CD9B7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39E71-A985-41C1-A42C-A911379F3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2A889-4A8E-4BD5-946B-EC373CE0D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4BD57-9D3D-4091-8550-4370F8BFC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0CFD6-E554-41CE-9521-7AD487058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A1411-C50A-4A2A-A2CA-0592D9625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11A34-AC12-4FE2-8F6B-5C511CBE3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D1548-997B-4E4A-BDF3-B3BEAE815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73B00-78C7-4215-97C4-D50572842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21B71-D4D4-4A44-92D1-6BD138E5C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6E881-26C5-4799-88DB-6B8611C80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FACA5-372C-4AB8-9730-B1143B967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54A93-3B8B-4A24-8433-32A40EDB2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9A954-5485-4F03-B554-9D697E813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A447A-9B61-44C8-8BEA-6AA68C92A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84E43-20D8-46E3-9A15-FA4B18028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CB9298A-4A67-4DE8-8D59-44A7F5A767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93EA1A1-980D-450B-9E97-10DC6C914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E47C2EB-5BE4-4220-9FC4-BDB147D62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7E6101-ECC9-4C14-98E3-0E8976460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3AB888-B807-44A0-BB1F-A11F949CA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1950A-3F62-4E45-9766-82B8E48D9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0182DA-E08A-47E3-8696-97162587E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8E48E1-C55D-4B31-97FC-6A95E2214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52CF6A-CB49-446B-AD44-B4A8ECF67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8B7DBA-6F87-4ACB-AA81-F208C593E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4B7FB0-80DE-4EAF-9967-948A65FAE2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A944246-A2FD-4EF5-85BE-4D0212CCFB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37C01AA-6502-4376-8646-2102C7D2E4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5CF1078-2804-4A3D-9E3F-4BCD002928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268431-F39C-4877-A09C-1CEBED077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6D936DB-1DCF-435A-B837-E0290CD5F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B5CD1-BBE8-4DE0-9FF6-A1107D411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78C81B-BAA9-4770-A575-A813434FE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AF1BF4B-8664-4354-B084-2AFFC17C3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A7CD8B1-4DC0-49FC-AF21-BA29C7809D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FCF3FE-A0C3-48FB-9CDC-E8CEA380A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BD039C-1D31-423E-A8C8-128BFF319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AD6F37-5DE3-4171-9CEF-DD88BA804C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15B6A0-4278-4DCE-B520-8853D1B09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3E4D174-13E5-4078-8CF9-4035CA30AA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ED72B25-56DD-4CF0-B1E7-3F76FF87C5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FD2645E-F0F5-41CF-9327-842553271D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8CCCF-04F0-4F3E-96C7-3953C6D0F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2B19121-0493-4B04-A035-5A896AC50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6F3C9A-B98E-40EB-9AA7-C1FFC0EDA8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F9D29B-3C83-4A16-AEB5-6A54FD4AA7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D59F3F-35C1-49FF-9D60-03B57CFD85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63FA47-721C-4F9B-B024-B57DA13EFB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D1C10F-BC99-4C2A-A418-579F6B6BE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D6AA36-0A39-43A4-B68B-A166F91D8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0E063E-399E-4636-B576-2B0AA6C76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00A535-DAD6-4B84-B68B-44EBD1D10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FE654B-6A91-42ED-BB8F-FC962BA9D4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E9208-83F5-45AF-8371-738FFB457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47841AC-9FAA-4A55-99A2-C6D9E623B1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41E9BC-CFA8-4604-BAAB-1AFF6641A1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08655A-B614-44F3-9202-01D79B0A59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BEA485-8A5E-4189-885F-3E0981A4F2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4359CF-E3FF-4292-ADD0-0EFD4A8FF9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FDD534-9C7F-471D-8D06-F8E6D98C61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A95E0A-1543-4739-BDAC-8E8673F98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5EA08-B42D-4291-844F-39A024BB0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56B79-C2C3-42AD-A2C4-FD8C71EEBD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D3AAE-61FB-40A0-8E5D-6125D947D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D1CE3-36A3-4D13-8E9C-7E593FCD0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4B2D8-D2B6-438E-995F-44A158C061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F84D83-00E9-41B9-9757-629A8F348D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3E6DBA-141F-465A-86C1-668897FBFD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BF5A5A2-7FAA-4BE9-A9CC-506B91D4FB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0FF3F55-EE75-4CEF-A854-E696BC9A7C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20D1CA6-1E15-4210-922F-3B82F54A6B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BF60E3A-5C4F-421B-9811-D52F1D4F04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3A1162F-355F-4ECC-8364-8B79E95403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001B02B-5C77-43DB-9AFF-F2053BCA6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8AA2E2-0149-40F2-BF34-1E0118650C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121E-BE34-4E56-8B29-517760155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04A8EA-559F-46ED-BC6B-E8ACF3FF4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EA1D2F6-9D52-4562-B910-AE813C91C8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00E107-D4F6-4668-9A55-8AA34557B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9BC2FCF-9850-4EBD-98F9-3DB8E4D8F2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963744C-1584-4A51-8E9F-0B85B26E40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DDE827-5950-4C67-96E5-01226CABF2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315BAF-B55A-416A-B9EF-61F5318E18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AB68E5-12B9-4BB8-9D94-D3A99AA574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0BB6A-266E-411A-8105-A3B1E0624D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00EBE8-18AA-4EE1-B068-674E2C547D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5020-A783-44BD-A8AF-DF8AF6E2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43E965-5C13-4229-8A25-0CFFF2F7C8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E1D93-0AC0-40BC-8C4D-4769B7165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92F89-E7BF-485C-BCF2-0D0B03ECF8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845B21-2349-4418-BCEE-3144DF8751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A45F1-264E-418D-9525-4F8305BFEF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FAB106-A211-499E-891F-F305E10F42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DEF506-00DB-421F-B590-F8B75E7E73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05FC-474F-4E7C-A285-EC49B79362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A36D-1D92-4931-A3CF-41B54BD51866}" type="slidenum">
              <a:rPr b="1" lang="en-US" sz="1400" spc="-1" strike="noStrike">
                <a:solidFill>
                  <a:srgbClr val="eeece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7412-AA7D-4CD4-9F25-4200DEEAB25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815A-3469-4F73-85EB-E622262F18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14C6-B2D0-49A2-B116-18846B77F73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5EB1-78D1-4A54-AE35-BCA0D4392CE6}" type="slidenum">
              <a:rPr b="1" lang="en-US" sz="1400" spc="-1" strike="noStrike">
                <a:solidFill>
                  <a:srgbClr val="1f49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161C-8FB3-4B02-8722-062F3E3A943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81B8-7602-4DA4-B63C-F9707C84E0F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EDRS 698</a:t>
            </a:r>
            <a:endParaRPr b="0" lang="en-US" sz="4400" spc="-1" strike="noStrike">
              <a:solidFill>
                <a:srgbClr val="eeece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5                    2/1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Agenda</a:t>
            </a:r>
            <a:endParaRPr b="0" lang="en-US" sz="4400" spc="-1" strike="noStrike">
              <a:solidFill>
                <a:srgbClr val="1f497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Classroom Management; comments on the data collection task; self/peer eval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Examining and defining reflective writing</a:t>
            </a:r>
            <a:endParaRPr b="0" lang="en-US" sz="4400" spc="-1" strike="noStrike">
              <a:solidFill>
                <a:srgbClr val="1f497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ta drive, not an outside authorit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terature as a support for your assertions, findings, etc.</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ll encompass a question of reflection and the experience they had with regard to that question and how the research recommends further work in the are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ear path of thinking</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oice</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rtifacts used powerfully and not superficiall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tain focus on strands dat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y still have additional questions.</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Tw Cen MT"/>
              </a:rPr>
              <a:t>The 7 Norms of Collaborative Work</a:t>
            </a:r>
            <a:br>
              <a:rPr sz="4000"/>
            </a:br>
            <a:endParaRPr b="0" lang="en-US" sz="4000" spc="-1" strike="noStrike">
              <a:solidFill>
                <a:srgbClr val="1f497d"/>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w Cen MT"/>
              </a:rPr>
              <a:t>Classroom Management—Group protocol</a:t>
            </a:r>
            <a:endParaRPr b="0" lang="en-US" sz="3600" spc="-1" strike="noStrike">
              <a:solidFill>
                <a:srgbClr val="1f497d"/>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32Z</dcterms:modified>
  <cp:revision>67</cp:revision>
  <dc:subject/>
  <dc:title>EDRS 698</dc:title>
</cp:coreProperties>
</file>