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96C7-767B-48A3-BC75-C1BADA1B5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321A-D5BD-4D2D-BFB7-67083E132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D3A23-3CAB-4CDE-988A-DA8F96695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FF89-C96E-4E18-8F8F-6DE32CF05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C6486-1EA7-4332-BACA-C24AB237E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4CA35-5584-4C26-A8BB-6F3CC2FDB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BB5DD-1A84-4EF3-A416-50B65288C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AC4EA-06C7-430B-A022-5760671BE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C9D75-5A36-4191-BD37-B0F5AF2B1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2698C-368F-4936-BAD8-4727CCA30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0B88E-2AB2-4217-87E4-CBAD6833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5F3C2-BF7E-486C-9465-0F5670E03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3A54-AD7D-420D-AABE-8FCED8890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6D7B9-4B2E-4A56-9554-B93C580C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6EC71-13C1-4680-8F2C-CBBC9D18C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70BB4-5491-4065-8697-4B8468EAC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999EE-0497-4A2B-A594-E0DC33BB9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503F8-74EB-43A0-A98C-A7A99AD5C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6096E-29F3-443A-9BC2-76F7B1D67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E569F5D-F855-47AE-9EFD-B5FA61E52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D03050-525C-41DB-8493-43FF18561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615582-7DCF-45E3-9D09-2947058F4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1DEA1D-3F4B-4C89-A464-0A1444970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B0E05C-4290-4C26-9383-6A250F088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58A5-84A9-4903-A672-F1930E401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81F2A3C-1115-4279-A43A-606DA7676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A245BE-7233-48D7-AC71-81E3D827A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2CEBFC-BDB4-487E-A4E9-48832CB55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4BA08A-87F2-4674-9CBC-4D912E5F6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B20DA01-134A-4678-A162-EB009E669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01EB128-0963-4BD8-B5AC-24B39CFFE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245F17-7DAF-40B5-A9DF-836D3617C8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9C496CC-5DA2-4BEC-ACEA-0CAB1FA873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29D8B7-5B70-4FD3-BA87-274E0208C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DACAED-55F7-4072-B27E-A059B9C20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150AF-4361-45AF-BCBD-DDE70BEEF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C9E4F7-C815-4C18-9BE9-DA2DFF125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463952-B60A-47FD-B062-007ADF97C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044BB6-468A-451F-880D-0DF4AF3D4B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6C7748-60C7-46CF-94CB-336966B2B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87F12A-E6BB-4C9F-B878-9FBB5974C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B97B3A-C64C-4E48-A652-B6DF16558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507491-64AB-4E37-B5B8-0F28DDA4F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FD160EB-5FB6-4349-A217-D02B32B199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5AB799-DCDF-4F03-AC96-317DA1479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111AB2-43C1-42A8-84BB-B3DB23EAF5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E441A-202E-4F16-8A0F-0A193DD4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C88CAE-A6B0-40AD-A0BE-E94592DD5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C56A6F-FB26-4444-810A-46287FFFB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A99F71-BFA1-4850-BED2-C322D2D2B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5EB053-5DF7-4859-9E47-2D4DEAFAC8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2BA60A-C60F-4224-8035-65C7A79584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64F621-B25B-4243-BCEF-15DF63E40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897731-E4EC-4824-BEA4-819702AA4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63B947-9BDF-41C6-A6FD-A9188FC61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CC9E0E-7F9B-4F0D-A9F3-210FDF521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F6FD023-8113-4F70-8C1C-1850804855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BA944-7CAD-435D-ABA6-4A962973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1FE076-0438-4198-8D27-F1E47CB4C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AE93EE-6E4E-4B53-9841-4466C88A8E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76E364-7727-4D04-851B-95520BFB25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83C32-75EA-4511-AC1B-278B92282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817FB5-2AEC-4CAE-8A4D-82851A209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5FDC58-C2A3-441C-B31B-47A9C3283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D6DAF-B403-4C56-A6CA-AEB8F8A7B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2743C-6436-4AFA-80C3-BC1171580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F37B1-ED96-4FDD-8DFA-83E694D65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52E71-31C4-489B-BA7B-20BF0A2BFA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470C9-EE46-4465-B454-E93573330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5A0E02-E226-45EC-8557-41EFA74FF0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7480EE-DF25-4BE2-BF42-19C5879F0A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7DEEE7-641F-4D4C-A3BD-CFFF57E8F6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FCA6D9D-9391-4366-9224-5F6043AB4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95C2BF5-7A8F-401B-A72C-250B8E148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71AFD1-81C5-4009-857B-3DEE2D5DC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A89FBA6-556A-4C61-84FA-B58B48490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4400E2-10A5-49A9-9412-3A39DF29C1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72CFC3-DAC2-40D0-A5EB-2E03FE7BF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317AF7-52CA-4325-8B16-D6A816E4E9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E98DC-3332-45C1-A2E6-307DCA1FD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6187E1-D86D-43BC-A04D-0EC930B56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002EE3-BE22-4820-BF87-ACE423296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B2878B8-474E-4379-AF2C-7204482CA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B2B2542-2805-40D5-9DA3-30984FB89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8F1C24-EAD0-440E-BE40-7F8B0F39A0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584EB8-E013-432E-B2FA-25B314C97F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9E3D9-2B48-4AF5-8C4F-0F2132182C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C6F50-F4B4-47DA-AD01-35F61708D1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ED5A4-BEAE-435E-8E69-821236F8E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6612B-5C5D-4F76-8EE1-639B08007A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F4BB-5E78-4EAF-B64F-52EE25592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6CEA5-0FE4-4144-B7E5-F22E29C4F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F45B2-A277-4D3B-B2BD-8FC07C92F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7F184-78CE-4E63-9A20-72080D386B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11B80-5ECC-44F6-BEA5-E9DD422DCF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A267E-11E7-4DEA-9495-466FDFEE6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E1BC58-AF6D-4C4E-A53D-E883C68643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CA184F-EFD7-41CF-99D1-EE26A378C4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DFE5-DEFD-42E5-9948-72DE413EDC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325E-944D-43BA-A9E9-57351DE7087B}"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4A14-741C-4E3F-AE09-79F985DF5507}"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E55B-8447-4FD8-85D2-08E5BCEE31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1B90-B5ED-4B21-A6ED-F19B0155A1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B7EA-DEBF-4123-9504-A1BBBEB63AA3}"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0FC2-5BCE-4653-9CDE-6503A6B99E7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FDF1-81F7-41A1-9D13-67C235917D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EDRS 698</a:t>
            </a:r>
            <a:endParaRPr b="0" lang="en-US" sz="4400" spc="-1" strike="noStrike">
              <a:solidFill>
                <a:srgbClr val="eeece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5                    2/1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Agenda</a:t>
            </a:r>
            <a:endParaRPr b="0" lang="en-US" sz="4400" spc="-1" strike="noStrike">
              <a:solidFill>
                <a:srgbClr val="1f497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Classroom Management; comments on the data collection task; self/peer eval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Examining and defining reflective writing</a:t>
            </a:r>
            <a:endParaRPr b="0" lang="en-US" sz="4400" spc="-1" strike="noStrike">
              <a:solidFill>
                <a:srgbClr val="1f497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ta drive, not an outside authorit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terature as a support for your assertions, findings, etc.</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ll encompass a question of reflection and the experience they had with regard to that question and how the research recommends further work in the are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r path of thinking</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ice</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rtifacts used powerfully and not superficiall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tain focus on strands dat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y still have additional questions.</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Tw Cen MT"/>
              </a:rPr>
              <a:t>The 7 Norms of Collaborative Work</a:t>
            </a:r>
            <a:br>
              <a:rPr sz="4000"/>
            </a:br>
            <a:endParaRPr b="0" lang="en-US" sz="4000" spc="-1" strike="noStrike">
              <a:solidFill>
                <a:srgbClr val="1f497d"/>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Classroom Management—Group protocol</a:t>
            </a:r>
            <a:endParaRPr b="0" lang="en-US" sz="3600" spc="-1" strike="noStrike">
              <a:solidFill>
                <a:srgbClr val="1f497d"/>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32Z</dcterms:modified>
  <cp:revision>67</cp:revision>
  <dc:subject/>
  <dc:title>EDRS 698</dc:title>
</cp:coreProperties>
</file>