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Tw Cen MT"/>
              </a:rPr>
              <a:t>Click to move the slide</a:t>
            </a:r>
            <a:endParaRPr b="0" lang="en-US" sz="4400" spc="-1" strike="noStrike">
              <a:solidFill>
                <a:srgbClr val="e3ded1"/>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E403B-9F6E-407F-A274-6F4170614E8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onal: Ask students to estimate how tall their house is and then measure each house. </a:t>
            </a: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05402-4A3C-4AFA-AB32-74CE561616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examples. Factual and procedural are primarily about reporting the what and then what. Justificatory might be why are you teaching that math lesson answer: because it is in our scope and sequence. Critical requires higher level critical thinking and a bigger picture. Some of the tasks have been designed in ways that you cannot think about teaching and learning without addressing some aspect of this, but to truly reach this, there needs to be much deeper questioning.</a:t>
            </a: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FEFCB-2DAE-47CD-A0E9-40E258C489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students add to this based on Chapters 4-6.</a:t>
            </a: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3741E-CDD0-4546-8447-345D573390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imer: http://ideas.gstboces.org/programs/timer/</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Question Pg 19--one of the text questions: Can you think of an example in your own experience where participating in a discussion caused you to rethink and then change your position on an issue? Conversely can you think of a time when group discussion made you feel uncomfortable and caused you to stop examining your beliefs or ideas? Can you begin to describe features or elements of either of these experiences that might help you to understand the enabling and disabling features of those sorts of “critical” conversations? (p. 19)</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Questions for Small Group Discussio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as your Regis program prepared you to question the educational goals, classroom and school contexts; to play an active role in creating and critiquing curriculum; to consider a variety of instructional strategies? (p. 4)</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you think about a classroom problem, do you try to see it from different ‘angles’? (p. 4)</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entral to reflectivity are the dispositions of openmindedeness, responsibility, and wholeheartedness—In what ways might we structure classrooms and schools to contribute to or discourage teacher reflectivity? Some people argue that teaching is too demanding and complex to expect teachers to be very reflective about their work, what do you think? (p. 12)</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are some of the things that you do automatically in the classroom without consciously thinking about them? (p. 15)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is an example of educational theory that you hold about teaching that is based on your own or other teachers’ experiences? How does it relate to the public theories about this issue contained in educational literature? (p. 16)</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srael Scheffler argues that teacher must not only look inward at their own work within the classroom, but outward toward the broader contexts as well (p.20). If one were to engage in this sort of action , what kind of challenges would they face? What obstacles arise when teachers attempt to ‘determine their own agency through critical and continual evaluation of the purposes, the consequences, and the social context of their calling?’ p. 20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hapter 3—Sum up the key points central to our purposes of engaging in reflective practice in this course.</a:t>
            </a:r>
            <a:endParaRPr b="0" lang="en-US" sz="10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0E1BF-0F5A-4DA2-8BF3-EC8040CF52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following questions from last weeks text re: the listening dyad—What teachers stay with you and what aspects of their teaching affect you tod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your past educational experiences informed and guided your understanding of yourself as a teacher? (p. 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p debrief—then repeat the activity with the following ques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some of the key experiences in your life (including encounters with transmitted knowledge) that have influenced your current ideas about teaching and yourself as teacher? What are some of the important values that underlie your approach to teaching? (p. 33).</a:t>
            </a: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0DA76-E7CD-4532-8B55-631F4FB9AB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89D46-370A-4E1B-935E-8BC1A78BC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E71D5-F1D4-4194-8EEF-820EA603C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346D9-CE25-4D66-B1B6-0AE59960D5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C86AB-3910-4AA4-AC84-E5EA4EB86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5B4FAD-F1DD-4038-A77F-D41A0679CA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1A01BA-820C-426F-80CF-A300F3107F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9568C-1ED2-4C84-86E8-5BCA4EF61B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384245-358E-459A-B1E5-15724AF648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D6F18A-28AE-4561-9B37-3953AE4736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E5AB7-61E0-4B4A-BFC0-FA3329F6B0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FE3D1-5E4C-430F-8CF2-94EF2CDE0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80A66-0F99-4F29-8620-63F7C8309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AE0CF-BC9F-47E5-8851-8090E7169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7E107-4F88-4611-87C7-C4700C042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31C61B-D298-4157-9543-EA7498C24D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0ED6C8-C298-4B46-BFF0-63DC311907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E2821A-3356-4A31-9E57-309117C01B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67A00BA-9E0B-4BDA-ABC3-415EA47917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8A05FBF-1B4A-4D4D-B72E-ECC6E167CF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6C1251C-DFB0-4FB6-83C0-90860B07A6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3794B81-39C9-49B1-A979-F791E64F43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2184158-242F-4D20-8671-35BECBF511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23E4A-61A3-424B-91E1-35BF9E0D3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89DC83B-E68C-40AD-8B57-7108B9ECB1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513B306-42F0-43DF-91E0-6220564F1E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48E0BEB-B6ED-4257-834A-F034EF0E6E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BF3F81B-E35E-4EAC-AE9D-F2D078FD1F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64DE55F-CEAE-4BC5-AF9F-A9720AEF7C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A08B88E-F6FF-4EEE-B021-FCDB592FF4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1C7294B-8B8C-4277-83AC-2A44F77DCF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A489793-882C-46DC-9C2B-81B967375A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958123F-26CE-4C9D-A589-C80D6EFF83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F8EB6E5-08BA-4626-812A-ADD9DD828A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41251-E7DB-4248-9E0B-78B6D562B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8F5397F-E19C-4062-80A6-006C1197AF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D6B2A1D-D58B-4C28-8225-9FD52CA445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039850D-9969-418C-A858-16E2D4B26A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3849866-352C-4BF7-BA8F-565007F8C7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AA0C754-AABC-4C08-9694-5E13CFD503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FA53183-8D97-442A-B476-5C37B70C64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E9C695A-C020-45A0-B483-E4B66566D7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7A2CE4C-729C-433D-8016-9F2F957585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37FE445-4B51-493E-877C-EF733E7BAD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71C42C7-12BA-4A9C-8BC7-976A270DE0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053AD-8E3C-47A5-913D-D9F388D72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ECEFE6C-D2FA-4107-9907-BC80A51E56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A5EC480-1674-4E99-BC72-7B250CD988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25457E1-86FD-4C41-8266-AED91829F8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24C43E1-DAB9-40EF-858C-460917256F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E038859-2DC9-4E5C-B7B5-2B09871B3F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A9EC6D3-B25C-4AFC-A424-6EE470CECD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B9F4BEE-B4C6-49A5-8E02-8372BF5C1B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88BD7F8-4BCB-4D18-9AB4-4DD1445F66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6BE00BA-0BD2-4371-9C97-99B64BD93A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5C7F3ED-F3BE-4B55-928E-B0E72055EB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F3672-820A-4040-8364-BD51C3FA4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D3FF7B0-3085-42AF-8205-0D88C09FF7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D5283D-AC5A-4241-B8C7-B25B067B14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D2A043-546E-49EA-8BE2-77E2840021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12FEA5-9AA5-4D11-A090-F7B2B3A57D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23F882-C103-4743-8256-7D98E973AB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A73FF8-9894-4D37-B1EB-17D5CC8DF3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7257C6-DE62-46A6-81B3-5C37032AAD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BCE6CC-6C59-4727-BFF1-C1FA2AA5AF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284845-83E5-406F-928F-8354E9C238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644BF5-C727-4D83-9DA9-FCC639F680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7844D-8F3C-45F6-8A9F-928252F0E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298318-9905-4B75-847E-C727049CCB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F8ACA6-AAAD-40BD-BDB2-C0381AFA65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9AB7CF-6F0B-450C-BDF8-B8AB30544F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CDB214B-330D-4463-B969-C4D9E15A41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DC4E03A-2877-42E8-820E-C923F4B6EC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56D152C-8712-4DF6-B071-54FC28632D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9970737-C156-42AB-A8F6-B721DD176A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8E6D7B5-D91E-42C4-9412-D4D321D243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80A9A5F-5A8A-4264-B557-4D1409536A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F11F684-5DAB-4A33-99A2-460D9EDFFF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06003-5A28-4889-AD11-AEF888232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97F62AE-2729-4009-96B2-5F7DC30666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A8AB864-E88C-42C6-86B4-C88405ABA8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0474005-6C18-4C6A-A54C-CB2A6FC39D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21E7C20-7D3E-46DC-B567-A1C7CB9B16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8841A83-E65F-40D6-97C2-BF7A1DE244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EADBD5D-DFDE-440E-8C74-6EC306D85C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CDCEED-3BD9-4712-B9B2-A9D3032628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44969B-CD8C-4894-B12D-7381078F4A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41EEB1-0054-4A5D-A7B1-0DF6E05125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F57CB0-F713-452C-BC98-A47E6067DB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620DF-3EF6-4C55-865B-B1CFE4496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2741F1-F309-4108-89E0-B16EDB2499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D449FF-A5E5-487E-8182-30F43797FA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D540F2-5AA9-4CB5-BE95-7C4323E23E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36A0BF-C8AA-4E27-AAEC-49CCDB0139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B63B69-D3CF-4F57-81A6-77874F470D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9839250-FB3A-42D8-981F-4CC44F5BC5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E57DA9-4933-4C2C-B4AA-AB569D63320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706E3-2AAC-44EC-AB63-2AE2EAD313B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Tw Cen MT"/>
              </a:rPr>
              <a:t>Click to edit the title text format</a:t>
            </a:r>
            <a:endParaRPr b="0" lang="en-US" sz="4400" spc="-1" strike="noStrike">
              <a:solidFill>
                <a:srgbClr val="e3ded1"/>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ffffff"/>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3ded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3A1E1-1A76-4CCE-B8EE-7800A0008480}" type="slidenum">
              <a:rPr b="1"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B335D-29BA-47E9-BF65-FEDDF1536951}"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EB753-6620-4716-BCA4-A54C06E573F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31772-B847-4AE2-9A55-E356B4D2C12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32323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F7D93-CB2B-4713-A49C-80C892609462}" type="slidenum">
              <a:rPr b="1"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5474B-AA8A-4B48-8851-9D506E33E872}"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C6839-7982-45E8-8564-767A71F6324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Tw Cen MT"/>
              </a:rPr>
              <a:t>EDRS 698</a:t>
            </a:r>
            <a:endParaRPr b="0" lang="en-US" sz="4400" spc="-1" strike="noStrike">
              <a:solidFill>
                <a:srgbClr val="e3ded1"/>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apstone in Reflective Teaching</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eek 2                    1/23/10</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Questions</a:t>
            </a:r>
            <a:endParaRPr b="0" lang="en-US" sz="4400" spc="-1" strike="noStrike">
              <a:solidFill>
                <a:srgbClr val="323232"/>
              </a:solidFill>
              <a:latin typeface="Tw Cen MT"/>
            </a:endParaRPr>
          </a:p>
        </p:txBody>
      </p:sp>
      <p:sp>
        <p:nvSpPr>
          <p:cNvPr id="37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What are some of the important values that underlie your approach to teaching? (p. 33)</a:t>
            </a:r>
            <a:endParaRPr b="0" lang="en-US" sz="4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Debrief Listening Activity</a:t>
            </a:r>
            <a:endParaRPr b="0" lang="en-US" sz="4400" spc="-1" strike="noStrike">
              <a:solidFill>
                <a:srgbClr val="323232"/>
              </a:solidFill>
              <a:latin typeface="Tw Cen MT"/>
            </a:endParaRPr>
          </a:p>
        </p:txBody>
      </p:sp>
      <p:sp>
        <p:nvSpPr>
          <p:cNvPr id="37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came up for you using this structure? </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came up for you reflecting on the prompt?</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worked for you? </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was difficult for you?</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opcorn examples of probing question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Evaluation for data presentation</a:t>
            </a:r>
            <a:endParaRPr b="0" lang="en-US" sz="4400" spc="-1" strike="noStrike">
              <a:solidFill>
                <a:srgbClr val="323232"/>
              </a:solidFill>
              <a:latin typeface="Tw Cen MT"/>
            </a:endParaRPr>
          </a:p>
        </p:txBody>
      </p:sp>
      <p:sp>
        <p:nvSpPr>
          <p:cNvPr id="380" name=""/>
          <p:cNvSpPr txBox="1"/>
          <p:nvPr/>
        </p:nvSpPr>
        <p:spPr>
          <a:xfrm>
            <a:off x="609120" y="1589040"/>
            <a:ext cx="3886200" cy="4572000"/>
          </a:xfrm>
          <a:prstGeom prst="rect">
            <a:avLst/>
          </a:prstGeom>
          <a:noFill/>
          <a:ln w="0">
            <a:noFill/>
          </a:ln>
        </p:spPr>
        <p:txBody>
          <a:bodyPr anchor="t">
            <a:normAutofit fontScale="98000"/>
          </a:bodyPr>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ata Presenter</a:t>
            </a:r>
            <a:endParaRPr b="0" lang="en-US" sz="29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epared</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espects and values peers contributions</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ke logical connections between the teaching practices and the data. Organized and easy to follow.</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cus on trends and their classroom implications.</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Visual aides; appropriate artifacts</a:t>
            </a:r>
            <a:endParaRPr b="0" lang="en-US" sz="2000" spc="-1" strike="noStrike">
              <a:solidFill>
                <a:srgbClr val="000000"/>
              </a:solidFill>
              <a:latin typeface="Tw Cen MT"/>
            </a:endParaRPr>
          </a:p>
        </p:txBody>
      </p:sp>
      <p:sp>
        <p:nvSpPr>
          <p:cNvPr id="381" name=""/>
          <p:cNvSpPr txBox="1"/>
          <p:nvPr/>
        </p:nvSpPr>
        <p:spPr>
          <a:xfrm>
            <a:off x="4844520" y="1589040"/>
            <a:ext cx="3886200" cy="4572000"/>
          </a:xfrm>
          <a:prstGeom prst="rect">
            <a:avLst/>
          </a:prstGeom>
          <a:noFill/>
          <a:ln w="0">
            <a:noFill/>
          </a:ln>
        </p:spPr>
        <p:txBody>
          <a:bodyPr anchor="t">
            <a:normAutofit fontScale="98000"/>
          </a:bodyPr>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nsultant Peers</a:t>
            </a:r>
            <a:endParaRPr b="0" lang="en-US" sz="29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intains focus on the presenter’s information and doesn’t just take the floor.</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onstructive comments, Well-developed probing questions.</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epared by examining own data. Prepared with their literature resources.</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ttentive listening, note taking.</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ctive participant</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Teamwork</a:t>
            </a:r>
            <a:endParaRPr b="0" lang="en-US" sz="4400" spc="-1" strike="noStrike">
              <a:solidFill>
                <a:srgbClr val="323232"/>
              </a:solidFill>
              <a:latin typeface="Tw Cen MT"/>
            </a:endParaRPr>
          </a:p>
        </p:txBody>
      </p:sp>
      <p:sp>
        <p:nvSpPr>
          <p:cNvPr id="383" name=""/>
          <p:cNvSpPr txBox="1"/>
          <p:nvPr/>
        </p:nvSpPr>
        <p:spPr>
          <a:xfrm>
            <a:off x="612720" y="1600200"/>
            <a:ext cx="8153280" cy="4495680"/>
          </a:xfrm>
          <a:prstGeom prst="rect">
            <a:avLst/>
          </a:prstGeom>
          <a:noFill/>
          <a:ln w="0">
            <a:noFill/>
          </a:ln>
        </p:spPr>
        <p:txBody>
          <a:bodyPr anchor="t">
            <a:normAutofit fontScale="91000"/>
          </a:bodyPr>
          <a:p>
            <a:pPr marL="290160" indent="-2901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eamwork involves: getting to know other people listening to the ideas of others planning and making decisions together taking on jobs and responsibilities that contribute to getting the work done everyone!</a:t>
            </a:r>
            <a:endParaRPr b="0" lang="en-US" sz="2200" spc="-1" strike="noStrike">
              <a:solidFill>
                <a:srgbClr val="000000"/>
              </a:solidFill>
              <a:latin typeface="Tw Cen MT"/>
            </a:endParaRPr>
          </a:p>
          <a:p>
            <a:pPr marL="290160" indent="-2901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ctivity: Students get into assigned peer groups. Explain that the purpose of this activity is to build a house that will stand on its own and to make it as tall as possible using only three kinds of supplies: index cards, paper clips and masking tape. Each group has 15 minutes to work and you will signal when there are 5 minutes left and then one minute left. When you signal the third time, each group is to stop building and move away from their house. </a:t>
            </a:r>
            <a:endParaRPr b="0" lang="en-US" sz="2200" spc="-1" strike="noStrike">
              <a:solidFill>
                <a:srgbClr val="000000"/>
              </a:solidFill>
              <a:latin typeface="Tw Cen MT"/>
            </a:endParaRPr>
          </a:p>
          <a:p>
            <a:pPr marL="290160" indent="-2901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w Cen MT"/>
              </a:rPr>
              <a:t>Processing Small Groups</a:t>
            </a:r>
            <a:r>
              <a:rPr b="0" lang="en-US" sz="2200" spc="-1" strike="noStrike">
                <a:solidFill>
                  <a:srgbClr val="000000"/>
                </a:solidFill>
                <a:latin typeface="Tw Cen MT"/>
              </a:rPr>
              <a:t>: Discuss as a group: What were some ways that we worked well together as a group? How could we have worked together better? Write your responses on the board. </a:t>
            </a:r>
            <a:endParaRPr b="0" lang="en-US" sz="2200" spc="-1" strike="noStrike">
              <a:solidFill>
                <a:srgbClr val="000000"/>
              </a:solidFill>
              <a:latin typeface="Tw Cen MT"/>
            </a:endParaRPr>
          </a:p>
          <a:p>
            <a:pPr marL="290160" indent="-2901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w Cen MT"/>
              </a:rPr>
              <a:t>WHOLE GROUP</a:t>
            </a:r>
            <a:r>
              <a:rPr b="0" lang="en-US" sz="2200" spc="-1" strike="noStrike">
                <a:solidFill>
                  <a:srgbClr val="000000"/>
                </a:solidFill>
                <a:latin typeface="Tw Cen MT"/>
              </a:rPr>
              <a:t>: How did people help out in your group?</a:t>
            </a:r>
            <a:endParaRPr b="0" lang="en-US" sz="2200" spc="-1" strike="noStrike">
              <a:solidFill>
                <a:srgbClr val="000000"/>
              </a:solidFill>
              <a:latin typeface="Tw Cen M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4 levels of reflection</a:t>
            </a:r>
            <a:endParaRPr b="0" lang="en-US" sz="4400" spc="-1" strike="noStrike">
              <a:solidFill>
                <a:srgbClr val="323232"/>
              </a:solidFill>
              <a:latin typeface="Tw Cen MT"/>
            </a:endParaRPr>
          </a:p>
        </p:txBody>
      </p:sp>
      <p:sp>
        <p:nvSpPr>
          <p:cNvPr id="385" name=""/>
          <p:cNvSpPr txBox="1"/>
          <p:nvPr/>
        </p:nvSpPr>
        <p:spPr>
          <a:xfrm>
            <a:off x="612720" y="1600200"/>
            <a:ext cx="8153280" cy="4495680"/>
          </a:xfrm>
          <a:prstGeom prst="rect">
            <a:avLst/>
          </a:prstGeom>
          <a:noFill/>
          <a:ln w="0">
            <a:noFill/>
          </a:ln>
        </p:spPr>
        <p:txBody>
          <a:bodyPr anchor="t">
            <a:normAutofit fontScale="92000"/>
          </a:bodyPr>
          <a:p>
            <a:pPr marL="293400" indent="-29340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actual (focused on routines and procedures of classroom teaching)</a:t>
            </a:r>
            <a:endParaRPr b="0" lang="en-US" sz="2900" spc="-1" strike="noStrike">
              <a:solidFill>
                <a:srgbClr val="000000"/>
              </a:solidFill>
              <a:latin typeface="Tw Cen MT"/>
            </a:endParaRPr>
          </a:p>
          <a:p>
            <a:pPr marL="293400" indent="-29340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ocedural (reflection centered on evaluation of teaching outcomes)</a:t>
            </a:r>
            <a:endParaRPr b="0" lang="en-US" sz="2900" spc="-1" strike="noStrike">
              <a:solidFill>
                <a:srgbClr val="000000"/>
              </a:solidFill>
              <a:latin typeface="Tw Cen MT"/>
            </a:endParaRPr>
          </a:p>
          <a:p>
            <a:pPr marL="293400" indent="-29340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Justificatory (reflection about rationales for teaching)</a:t>
            </a:r>
            <a:endParaRPr b="0" lang="en-US" sz="2900" spc="-1" strike="noStrike">
              <a:solidFill>
                <a:srgbClr val="000000"/>
              </a:solidFill>
              <a:latin typeface="Tw Cen MT"/>
            </a:endParaRPr>
          </a:p>
          <a:p>
            <a:pPr marL="293400" indent="-29340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ritical (reflection focused on implications of classroom practice for social justice; critically examine social context)</a:t>
            </a:r>
            <a:endParaRPr b="0" lang="en-US" sz="2900" spc="-1" strike="noStrike">
              <a:solidFill>
                <a:srgbClr val="000000"/>
              </a:solidFill>
              <a:latin typeface="Tw Cen MT"/>
            </a:endParaRPr>
          </a:p>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en-US" sz="2900" spc="-1" strike="noStrike">
                <a:solidFill>
                  <a:srgbClr val="000000"/>
                </a:solidFill>
                <a:latin typeface="Tw Cen MT"/>
              </a:rPr>
              <a:t>	</a:t>
            </a:r>
            <a:r>
              <a:rPr b="0" lang="en-US" sz="2900" spc="-1" strike="noStrike">
                <a:solidFill>
                  <a:srgbClr val="000000"/>
                </a:solidFill>
                <a:latin typeface="Tw Cen MT"/>
              </a:rPr>
              <a:t>	</a:t>
            </a:r>
            <a:r>
              <a:rPr b="0" lang="en-US" sz="2900" spc="-1" strike="noStrike">
                <a:solidFill>
                  <a:srgbClr val="000000"/>
                </a:solidFill>
                <a:latin typeface="Tw Cen MT"/>
              </a:rPr>
              <a:t>	</a:t>
            </a:r>
            <a:r>
              <a:rPr b="0" lang="en-US" sz="2900" spc="-1" strike="noStrike">
                <a:solidFill>
                  <a:srgbClr val="000000"/>
                </a:solidFill>
                <a:latin typeface="Tw Cen MT"/>
              </a:rPr>
              <a:t>	</a:t>
            </a:r>
            <a:r>
              <a:rPr b="0" lang="en-US" sz="1600" spc="-1" strike="noStrike">
                <a:solidFill>
                  <a:srgbClr val="000000"/>
                </a:solidFill>
                <a:latin typeface="Tw Cen MT"/>
              </a:rPr>
              <a:t>(Liston &amp; Zeichner, 1991 as cited in Nagle, 2009)</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3232"/>
                </a:solidFill>
                <a:latin typeface="Tw Cen MT"/>
              </a:rPr>
              <a:t>Reflective Teaching Attributes</a:t>
            </a:r>
            <a:endParaRPr b="0" lang="en-US" sz="4000" spc="-1" strike="noStrike">
              <a:solidFill>
                <a:srgbClr val="323232"/>
              </a:solidFill>
              <a:latin typeface="Tw Cen MT"/>
            </a:endParaRPr>
          </a:p>
        </p:txBody>
      </p:sp>
      <p:sp>
        <p:nvSpPr>
          <p:cNvPr id="38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Openmindedness—why are you doing what you are doing? (ways in which it is working, why it is working and for whom is it working.) Examine underlying rationales for the most naturalized experiences, policies etc. Listens and accepts strengths and weaknesses of own and others perspectives.</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Whole Heartedness—examine assumptions, beliefs and results of actions; Make efforts to see from multiple perspectives; feel they can learn something new</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Responsibility—careful consideration of the consequences of actions (personal; academic; social)</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Democratic perspective—teaching all students to the same high academic standards (p. 77)</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a:t>
            </a:r>
            <a:r>
              <a:rPr b="0" lang="en-US" sz="1100" spc="-1" strike="noStrike">
                <a:solidFill>
                  <a:srgbClr val="000000"/>
                </a:solidFill>
                <a:latin typeface="Tw Cen MT"/>
              </a:rPr>
              <a:t>So much of teaching is rooted in who we are and how we perceive the world” (p. 23)</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Conscious Practice</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Life-long learner—takes charge of own pro dev</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Think about how they frame and solve problems</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Aware of personal values, prior experience, knowledge and assumptions (practical theories)</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Examine social context</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Knowing/Exploring the why behind the trend</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Always remain or present as neutral reserve judgment. (p. 47)</a:t>
            </a:r>
            <a:endParaRPr b="0" lang="en-US" sz="11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 </a:t>
            </a:r>
            <a:endParaRPr b="0" lang="en-US" sz="12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Discussion of Text</a:t>
            </a:r>
            <a:endParaRPr b="0" lang="en-US" sz="4400" spc="-1" strike="noStrike">
              <a:solidFill>
                <a:srgbClr val="323232"/>
              </a:solidFill>
              <a:latin typeface="Tw Cen MT"/>
            </a:endParaRPr>
          </a:p>
        </p:txBody>
      </p:sp>
      <p:sp>
        <p:nvSpPr>
          <p:cNvPr id="389" name=""/>
          <p:cNvSpPr txBox="1"/>
          <p:nvPr/>
        </p:nvSpPr>
        <p:spPr>
          <a:xfrm>
            <a:off x="612720" y="1600200"/>
            <a:ext cx="8153280" cy="4495680"/>
          </a:xfrm>
          <a:prstGeom prst="rect">
            <a:avLst/>
          </a:prstGeom>
          <a:noFill/>
          <a:ln w="0">
            <a:noFill/>
          </a:ln>
        </p:spPr>
        <p:txBody>
          <a:bodyPr anchor="t">
            <a:normAutofit fontScale="84000"/>
          </a:bodyPr>
          <a:p>
            <a:pPr marL="267840" indent="-26784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ich traditions of reflective teaching most closely align with aspects of your own position (Chapters 5 and 6)</a:t>
            </a:r>
            <a:endParaRPr b="0" lang="en-US" sz="2900" spc="-1" strike="noStrike">
              <a:solidFill>
                <a:srgbClr val="000000"/>
              </a:solidFill>
              <a:latin typeface="Tw Cen MT"/>
            </a:endParaRPr>
          </a:p>
          <a:p>
            <a:pPr marL="267840" indent="-26784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ich attributes of reflective teaching were missing from Allison’s approach?</a:t>
            </a:r>
            <a:endParaRPr b="0" lang="en-US" sz="2900" spc="-1" strike="noStrike">
              <a:solidFill>
                <a:srgbClr val="000000"/>
              </a:solidFill>
              <a:latin typeface="Tw Cen MT"/>
            </a:endParaRPr>
          </a:p>
          <a:p>
            <a:pPr marL="267840" indent="-26784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distinguishes reflective teaching from non-reflective teaching? </a:t>
            </a:r>
            <a:endParaRPr b="0" lang="en-US" sz="2900" spc="-1" strike="noStrike">
              <a:solidFill>
                <a:srgbClr val="000000"/>
              </a:solidFill>
              <a:latin typeface="Tw Cen MT"/>
            </a:endParaRPr>
          </a:p>
          <a:p>
            <a:pPr marL="267840" indent="-26784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oes reflective teaching mean better teaching?</a:t>
            </a:r>
            <a:endParaRPr b="0" lang="en-US" sz="2900" spc="-1" strike="noStrike">
              <a:solidFill>
                <a:srgbClr val="000000"/>
              </a:solidFill>
              <a:latin typeface="Tw Cen MT"/>
            </a:endParaRPr>
          </a:p>
          <a:p>
            <a:pPr marL="267840" indent="-26784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re there any other attributes of reflective teaching that surfaced in these chapters that we can add to our list?  (list 1-3 on stickies and then go on break)</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Agenda</a:t>
            </a:r>
            <a:endParaRPr b="0" lang="en-US" sz="4400" spc="-1" strike="noStrike">
              <a:solidFill>
                <a:srgbClr val="323232"/>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fontScale="93000"/>
          </a:bodyPr>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9-11:30 </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rotocols—Roles </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larifying/Probing Questions</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Listening Activity and Debriefing</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velop a self/peer eval system for data presentations</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BREAK</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ign up for presentations</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4 levels of reflection </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Review attribute list for reflective teachers and extend on it in todays’ discussion</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iscuss text questions (NOT ENOUGH TIME)</a:t>
            </a:r>
            <a:endParaRPr b="0" lang="en-US" sz="18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11:30-12:00  Small presentation Group discussion of artifact inventory—Are you missing any evidence? </a:t>
            </a:r>
            <a:endParaRPr b="0" lang="en-US" sz="18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12:00-1:00 Computer lab ALC 6—Together go to blog, do article searches for the lit support. Post personal introductions using your metaphor piece (p. 37)</a:t>
            </a:r>
            <a:endParaRPr b="0" lang="en-US" sz="18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http://edrs698.blogspot.com/</a:t>
            </a:r>
            <a:endParaRPr b="0" lang="en-US" sz="18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w Cen MT"/>
            </a:endParaRPr>
          </a:p>
          <a:p>
            <a:pPr marL="296280" indent="-296280">
              <a:lnSpc>
                <a:spcPct val="80000"/>
              </a:lnSpc>
              <a:spcBef>
                <a:spcPts val="700"/>
              </a:spcBef>
              <a:buClr>
                <a:srgbClr val="9f293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Small Group protocol </a:t>
            </a:r>
            <a:endParaRPr b="0" lang="en-US" sz="4400" spc="-1" strike="noStrike">
              <a:solidFill>
                <a:srgbClr val="323232"/>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fontScale="89000"/>
          </a:bodyPr>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1.</a:t>
            </a:r>
            <a:r>
              <a:rPr b="0" lang="en-US" sz="1600" spc="-1" strike="noStrike">
                <a:solidFill>
                  <a:srgbClr val="000000"/>
                </a:solidFill>
                <a:latin typeface="Tw Cen MT"/>
              </a:rPr>
              <a:t>  20-30 minutes—</a:t>
            </a:r>
            <a:r>
              <a:rPr b="0" lang="en-US" sz="1600" spc="-1" strike="noStrike" u="sng">
                <a:solidFill>
                  <a:srgbClr val="000000"/>
                </a:solidFill>
                <a:uFillTx/>
                <a:latin typeface="Tw Cen MT"/>
              </a:rPr>
              <a:t>Presente</a:t>
            </a:r>
            <a:r>
              <a:rPr b="0" lang="en-US" sz="1600" spc="-1" strike="noStrike">
                <a:solidFill>
                  <a:srgbClr val="000000"/>
                </a:solidFill>
                <a:latin typeface="Tw Cen MT"/>
              </a:rPr>
              <a:t>r distributes the an overview or outline of their work.  Presenter then discusses </a:t>
            </a:r>
            <a:endParaRPr b="0" lang="en-US" sz="1600" spc="-1" strike="noStrike">
              <a:solidFill>
                <a:srgbClr val="000000"/>
              </a:solidFill>
              <a:latin typeface="Tw Cen MT"/>
            </a:endParaRPr>
          </a:p>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2.</a:t>
            </a:r>
            <a:r>
              <a:rPr b="0" lang="en-US" sz="1600" spc="-1" strike="noStrike">
                <a:solidFill>
                  <a:srgbClr val="000000"/>
                </a:solidFill>
                <a:latin typeface="Tw Cen MT"/>
              </a:rPr>
              <a:t>  2 minutes PEERS formulate their probing questions; write on paper, submit to presenter, and read to group. </a:t>
            </a:r>
            <a:endParaRPr b="0" lang="en-US" sz="1600" spc="-1" strike="noStrike">
              <a:solidFill>
                <a:srgbClr val="000000"/>
              </a:solidFill>
              <a:latin typeface="Tw Cen MT"/>
            </a:endParaRPr>
          </a:p>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3.</a:t>
            </a:r>
            <a:r>
              <a:rPr b="0" lang="en-US" sz="1600" spc="-1" strike="noStrike">
                <a:solidFill>
                  <a:srgbClr val="000000"/>
                </a:solidFill>
                <a:latin typeface="Tw Cen MT"/>
              </a:rPr>
              <a:t> 10 minutes—PEERS ask clarifying questions, Presenter responds.</a:t>
            </a:r>
            <a:endParaRPr b="0" lang="en-US" sz="1600" spc="-1" strike="noStrike">
              <a:solidFill>
                <a:srgbClr val="000000"/>
              </a:solidFill>
              <a:latin typeface="Tw Cen MT"/>
            </a:endParaRPr>
          </a:p>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4. </a:t>
            </a:r>
            <a:r>
              <a:rPr b="0" lang="en-US" sz="1600" spc="-1" strike="noStrike">
                <a:solidFill>
                  <a:srgbClr val="000000"/>
                </a:solidFill>
                <a:latin typeface="Tw Cen MT"/>
              </a:rPr>
              <a:t>15 minutes—PEERS discuss the material presented. What did we hear? What didn’t we hear that we needed to know more about? What do we think about the questions and the issues? The conversation should include both “warm” and “cool” comments. The presenter does not speak but listens and takes notes.</a:t>
            </a:r>
            <a:endParaRPr b="0" lang="en-US" sz="1600" spc="-1" strike="noStrike">
              <a:solidFill>
                <a:srgbClr val="000000"/>
              </a:solidFill>
              <a:latin typeface="Tw Cen MT"/>
            </a:endParaRPr>
          </a:p>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5. </a:t>
            </a:r>
            <a:r>
              <a:rPr b="0" lang="en-US" sz="1600" spc="-1" strike="noStrike">
                <a:solidFill>
                  <a:srgbClr val="000000"/>
                </a:solidFill>
                <a:latin typeface="Tw Cen MT"/>
              </a:rPr>
              <a:t>5 minutes—The </a:t>
            </a:r>
            <a:r>
              <a:rPr b="0" lang="en-US" sz="1600" spc="-1" strike="noStrike" u="sng">
                <a:solidFill>
                  <a:srgbClr val="000000"/>
                </a:solidFill>
                <a:uFillTx/>
                <a:latin typeface="Tw Cen MT"/>
              </a:rPr>
              <a:t>presenter</a:t>
            </a:r>
            <a:r>
              <a:rPr b="0" lang="en-US" sz="1600" spc="-1" strike="noStrike">
                <a:solidFill>
                  <a:srgbClr val="000000"/>
                </a:solidFill>
                <a:latin typeface="Tw Cen MT"/>
              </a:rPr>
              <a:t> responds to what they heard.</a:t>
            </a:r>
            <a:endParaRPr b="0" lang="en-US" sz="1600" spc="-1" strike="noStrike">
              <a:solidFill>
                <a:srgbClr val="000000"/>
              </a:solidFill>
              <a:latin typeface="Tw Cen MT"/>
            </a:endParaRPr>
          </a:p>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6.</a:t>
            </a:r>
            <a:r>
              <a:rPr b="0" lang="en-US" sz="1600" spc="-1" strike="noStrike">
                <a:solidFill>
                  <a:srgbClr val="000000"/>
                </a:solidFill>
                <a:latin typeface="Tw Cen MT"/>
              </a:rPr>
              <a:t> 5 minutes—All members engage in short reflective writing on what you heard from the data presented and how it interacts with the professional literature that you brought.</a:t>
            </a:r>
            <a:endParaRPr b="0" lang="en-US" sz="1600" spc="-1" strike="noStrike">
              <a:solidFill>
                <a:srgbClr val="000000"/>
              </a:solidFill>
              <a:latin typeface="Tw Cen MT"/>
            </a:endParaRPr>
          </a:p>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7.</a:t>
            </a:r>
            <a:r>
              <a:rPr b="0" lang="en-US" sz="1600" spc="-1" strike="noStrike">
                <a:solidFill>
                  <a:srgbClr val="000000"/>
                </a:solidFill>
                <a:latin typeface="Tw Cen MT"/>
              </a:rPr>
              <a:t> 10 minutes each person presents key points from your written thoughts—small group discussion encouraged here.</a:t>
            </a:r>
            <a:endParaRPr b="0" lang="en-US" sz="1600" spc="-1" strike="noStrike">
              <a:solidFill>
                <a:srgbClr val="000000"/>
              </a:solidFill>
              <a:latin typeface="Tw Cen MT"/>
            </a:endParaRPr>
          </a:p>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8.</a:t>
            </a:r>
            <a:r>
              <a:rPr b="0" lang="en-US" sz="1600" spc="-1" strike="noStrike">
                <a:solidFill>
                  <a:srgbClr val="000000"/>
                </a:solidFill>
                <a:latin typeface="Tw Cen MT"/>
              </a:rPr>
              <a:t> 15 minutes—WHOLE GROUP share—Big Aha’s; Questions that came up for whole group contemplation--What can you share about your own experience based on the data presentation and discussion?</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Discuss Data Presentation Protocol</a:t>
            </a:r>
            <a:endParaRPr b="0" lang="en-US" sz="4400" spc="-1" strike="noStrike">
              <a:solidFill>
                <a:srgbClr val="323232"/>
              </a:solidFill>
              <a:latin typeface="Tw Cen MT"/>
            </a:endParaRPr>
          </a:p>
        </p:txBody>
      </p:sp>
      <p:sp>
        <p:nvSpPr>
          <p:cNvPr id="36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o you have any questions re: roles?</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eer and self evaluation—Think about while you are doing the listening activity, what does it look like for a group member to be a productive participant?  </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ebriefing the data presentations. How did it go? What were the difficulties? How could it have gone more smoothly?</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Listening Exercises</a:t>
            </a:r>
            <a:endParaRPr b="0" lang="en-US" sz="4400" spc="-1" strike="noStrike">
              <a:solidFill>
                <a:srgbClr val="323232"/>
              </a:solidFill>
              <a:latin typeface="Tw Cen MT"/>
            </a:endParaRPr>
          </a:p>
        </p:txBody>
      </p:sp>
      <p:sp>
        <p:nvSpPr>
          <p:cNvPr id="366" name=""/>
          <p:cNvSpPr txBox="1"/>
          <p:nvPr/>
        </p:nvSpPr>
        <p:spPr>
          <a:xfrm>
            <a:off x="612720" y="1447560"/>
            <a:ext cx="8153280" cy="4647960"/>
          </a:xfrm>
          <a:prstGeom prst="rect">
            <a:avLst/>
          </a:prstGeom>
          <a:noFill/>
          <a:ln w="0">
            <a:noFill/>
          </a:ln>
        </p:spPr>
        <p:txBody>
          <a:bodyPr anchor="t">
            <a:normAutofit fontScale="86000"/>
          </a:bodyPr>
          <a:p>
            <a:pPr marL="273960" indent="-273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Listening/clarifying/probing (Speaker will have 2 minutes to talk; Listener will ask a clarifying then probing question and allow the speaker to respond. SWITCH and examine next question)</a:t>
            </a:r>
            <a:endParaRPr b="0" lang="en-US" sz="2200" spc="-1" strike="noStrike">
              <a:solidFill>
                <a:srgbClr val="000000"/>
              </a:solidFill>
              <a:latin typeface="Tw Cen MT"/>
            </a:endParaRPr>
          </a:p>
          <a:p>
            <a:pPr marL="273960" indent="-27396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What teachers stay with you and what aspects of their teaching affect you today? (p. 27)</a:t>
            </a:r>
            <a:endParaRPr b="0" lang="en-US" sz="2200" spc="-1" strike="noStrike">
              <a:solidFill>
                <a:srgbClr val="000000"/>
              </a:solidFill>
              <a:latin typeface="Tw Cen MT"/>
            </a:endParaRPr>
          </a:p>
          <a:p>
            <a:pPr marL="273960" indent="-27396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Have your past educational experiences informed and guided your understanding of yourself as a teacher? (p. 27)</a:t>
            </a:r>
            <a:endParaRPr b="0" lang="en-US" sz="2200" spc="-1" strike="noStrike">
              <a:solidFill>
                <a:srgbClr val="000000"/>
              </a:solidFill>
              <a:latin typeface="Tw Cen MT"/>
            </a:endParaRPr>
          </a:p>
          <a:p>
            <a:pPr marL="273960" indent="-273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top debrief—then repeat the activity with the following question:</a:t>
            </a:r>
            <a:endParaRPr b="0" lang="en-US" sz="2200" spc="-1" strike="noStrike">
              <a:solidFill>
                <a:srgbClr val="000000"/>
              </a:solidFill>
              <a:latin typeface="Tw Cen MT"/>
            </a:endParaRPr>
          </a:p>
          <a:p>
            <a:pPr marL="273960" indent="-27396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What are some of the key experiences in your life (including encounters with transmitted knowledge) that have influenced your current ideas about teaching and yourself as teacher? (p. 33)</a:t>
            </a:r>
            <a:endParaRPr b="0" lang="en-US" sz="2200" spc="-1" strike="noStrike">
              <a:solidFill>
                <a:srgbClr val="000000"/>
              </a:solidFill>
              <a:latin typeface="Tw Cen MT"/>
            </a:endParaRPr>
          </a:p>
          <a:p>
            <a:pPr marL="273960" indent="-27396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What are some of the important values that underlie your approach to teaching? (p. 33)</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Questions</a:t>
            </a:r>
            <a:endParaRPr b="0" lang="en-US" sz="4400" spc="-1" strike="noStrike">
              <a:solidFill>
                <a:srgbClr val="323232"/>
              </a:solidFill>
              <a:latin typeface="Tw Cen MT"/>
            </a:endParaRPr>
          </a:p>
        </p:txBody>
      </p:sp>
      <p:sp>
        <p:nvSpPr>
          <p:cNvPr id="36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What teachers stay with you and what aspects of their teaching affect you today? (p. 27)</a:t>
            </a:r>
            <a:endParaRPr b="0" lang="en-US" sz="4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Questions</a:t>
            </a:r>
            <a:endParaRPr b="0" lang="en-US" sz="4400" spc="-1" strike="noStrike">
              <a:solidFill>
                <a:srgbClr val="323232"/>
              </a:solidFill>
              <a:latin typeface="Tw Cen MT"/>
            </a:endParaRPr>
          </a:p>
        </p:txBody>
      </p:sp>
      <p:sp>
        <p:nvSpPr>
          <p:cNvPr id="37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Have your past educational experiences informed and guided your understanding of yourself as a teacher? (p. 27)</a:t>
            </a:r>
            <a:endParaRPr b="0" lang="en-US" sz="4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Debrief Listening Activity</a:t>
            </a:r>
            <a:endParaRPr b="0" lang="en-US" sz="4400" spc="-1" strike="noStrike">
              <a:solidFill>
                <a:srgbClr val="323232"/>
              </a:solidFill>
              <a:latin typeface="Tw Cen MT"/>
            </a:endParaRPr>
          </a:p>
        </p:txBody>
      </p:sp>
      <p:sp>
        <p:nvSpPr>
          <p:cNvPr id="37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came up for you using this structure? </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came up for you reflecting on the prompt?</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worked for you? </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was difficult for you?</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e thinking about what makes a good presenter? A good peer consultant?</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Questions</a:t>
            </a:r>
            <a:endParaRPr b="0" lang="en-US" sz="4400" spc="-1" strike="noStrike">
              <a:solidFill>
                <a:srgbClr val="323232"/>
              </a:solidFill>
              <a:latin typeface="Tw Cen MT"/>
            </a:endParaRPr>
          </a:p>
        </p:txBody>
      </p:sp>
      <p:sp>
        <p:nvSpPr>
          <p:cNvPr id="374"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What are some of the key experiences in your life (including encounters with transmitted knowledge) that have influenced your current ideas about teaching and yourself as teacher? (p. 33)</a:t>
            </a:r>
            <a:endParaRPr b="0" lang="en-US" sz="4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21:11:15Z</dcterms:created>
  <dc:creator>kwoodrow</dc:creator>
  <dc:description/>
  <dc:language>en-US</dc:language>
  <cp:lastModifiedBy>kwoodrow</cp:lastModifiedBy>
  <dcterms:modified xsi:type="dcterms:W3CDTF">2010-03-13T22:38:00Z</dcterms:modified>
  <cp:revision>84</cp:revision>
  <dc:subject/>
  <dc:title>EDRS 698</dc:title>
</cp:coreProperties>
</file>