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6519-C9C5-4B29-948D-5193E2ED8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0219-24A2-4BCA-8B2E-D632D3608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A6E8-DC45-48BD-A5FF-15515C75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264-77D1-4E91-A0F6-5D0B91BF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958-A51B-4A12-A4D6-C6348A11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3E4-D42B-4E01-9B1E-9390D813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1877-441C-45F5-BBDB-B30813C9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8BE9-4764-4142-AD5E-513B7043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A9F0-D8FA-46FC-88C0-7CC53045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E614-CFDD-428E-8BDF-EFAD339F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24C3-3C21-4201-9042-F1932863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A126-630C-4908-9596-81F9B57C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6D20-B14C-43E5-AAB7-185AA220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36A-8277-45AC-87DC-A14823F0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245F-755B-4A55-8620-B5B05373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2704-248E-436B-85F8-89825F29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9466-1591-4153-BFCE-97F742FA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E76B-B6C3-4F06-9A8A-8B91A08B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587B-CEAC-4AE4-8AB1-E9FA7B1D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6F52D-E8AE-4E26-BF17-757CB6C5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D7009-33C1-472B-BC1C-63E99CA5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F995D-AB9F-4C09-8A25-C805B745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54D29-391C-458D-9D36-CC3823D7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080FC-495D-4D18-A46B-F9CAE7B2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8E1-5432-494D-B84C-3588B375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2B264-783C-4537-A230-C14B6D5C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78B5A-0966-464D-A13E-97D04DCD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9E8CE-D515-49B9-B9C8-FBB07FA0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0EE9D-AE4E-4906-A594-54BC7A13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5652B-C8C0-4648-8D50-467A2239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E7858-1B8E-4FF6-9864-A1465F23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19367-4676-49E2-9332-B6E33830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D6437-CFBB-42DD-B32F-760C66FB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E60A7-ECBD-4834-B5ED-A1B26C87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9ACAB-5FCE-4891-8288-52762D55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931-AE8B-48AA-BB8F-ED7441DA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D96FD-C197-454E-99D1-6D53EF23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E5A6F-607A-4C44-936C-88AD4D1E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A95A8-E589-4831-ACEF-722EEDFD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CC963-B411-4CBC-B1AB-7D3F5F17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55E87-FB47-479F-8305-C5679565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D803-6FCB-4698-949A-1D09FBB1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0E295-6B45-4003-BD4F-B501FC1F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1BB0C-F69D-487F-8A89-287FCF72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EDA3B-0B97-44D1-B933-FE867F7C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66415-C45C-49B0-BE6E-FB2206E0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F55-0EB6-420C-A80F-FE14736D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31148-1EC8-4C73-8922-F3D35115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018F2A-0D40-4EA9-B56C-45AF2270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60E34-4798-48B2-BB8D-F514B4F9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BD0359-9017-4C8B-AD8A-6B11EBF2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E306AC-75B1-4632-92B3-421C9DB2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89443-9922-49AC-B75F-061EC1D8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A4E41-EEC7-4256-A75A-10EB6FB2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E0A89-453E-4035-BBA0-CAA3B1EE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1320BB-3620-4A0C-BC60-8EDD008D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9D93B-B3B3-4B72-97B5-6DD7AD32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4DA-EA28-4D6D-B71C-3190FA3D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431C3-243D-4A2E-8479-6D94C9CE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30B523-79F4-4044-ABE9-BBFDF7DE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A6743-6413-41D2-8F02-C033D14C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F61F05-8D88-4D69-8008-18E13643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B40B3F-ADA3-4C35-9411-F175F560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28042E-5E7E-4903-B6BE-3BAC8C2E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DB885-910A-4C5A-A283-623C557F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1F3B5-2388-47F7-817D-131136B5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DBE75A-CA74-4A10-9CB7-DBD7E2B5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AC5919-1B93-43FE-B73B-4E8CD785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E46-5E30-4B01-B099-D1026598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0778F-E07A-4715-AB1C-9DC77526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9E4C8-6303-4112-A147-350D32AC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3FDBF-3B4C-4692-9E59-4D66120A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DE2ADE-2179-4D75-B1E7-9F3EAE08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DA0BE2-C78C-499A-8748-A0B2D300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EB82B-AEC0-4D19-9BF0-647ECC06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E46B85-567C-4F50-834F-CA16E320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138AC-F237-4864-8E34-E9D3751F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BAE94A-9D5C-40AB-A7BD-DC89658A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75D490-444F-4309-A6B1-EC55113B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317-E75A-44EE-9753-A30C00A8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E79AB0-7BBB-4219-BF1C-0C109071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B72DB-C7A8-4C30-BA6F-DDEA3096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B0F63C-85FD-4795-B612-9B631633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77880B-5EDB-442E-82F4-54091896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174DAC-7CD9-40A9-9117-8B95ABCB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0E0-21DE-4D27-8B63-7FCA4E17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F4F3-29D6-422B-AB70-B961A5DB53C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9840-7F60-4F89-ADA3-C9AF87AB4CC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03D1-88AD-4EC7-849D-EA535A3C9BA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27A7-C82A-452C-823C-5442A508757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9C7F-EE99-42DA-B2A5-8F59F79B383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BF45-DF25-4C5B-A978-9753E8E07D5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D360-BD0D-4087-A1BA-94633288C6F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4000" spc="-1" strike="noStrike" u="sng">
                <a:solidFill>
                  <a:srgbClr val="575f6d"/>
                </a:solidFill>
                <a:uFillTx/>
                <a:latin typeface="Century Schoolbook"/>
              </a:rPr>
              <a:t>INSTRUCTIONAL STRATEGI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1447920"/>
            <a:ext cx="55627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y: Mary Ba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DRS 69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pstone in Reflective Teach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ebruary 201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COULD HAPPEN TO ENRICH DIFFERENTIATION FOR READING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is important to conference with students to guide them in picking out appropriate leveled books for Independent Reading (IR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 a routine for working with small groups and meeting one-on-o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ole group lessons can consist of choral reading and reader’s theat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arning centers to provide more differentiated learning opportun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FFERENTIATION, CONT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writ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ach student could choose what they wanted to write about on a daily basis. (No writing to prompts on a regular basis.) Students bloomed in their ability to write! (The ability to come up with ideas, and the length of writing.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hared writing as a whole class. (ie. Dear Santa letter, describing a person.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riting celebrations – a group of students shared their writing every day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COULD HAPPEN TO ENRICH DIFFERENTIATION FOR WRITING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re shared writing opportun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eractive writing opportunities where the students can take turns with the teach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ing aloud – where the teacher explains their thinking and planning before they write and then model their writ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ructivist approach to writing lessons. Provide opportunities for students to have more interaction with writing activ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ired writing opportun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FFERENTIATION, CO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olf River used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Investigations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for math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fferentiation is built into the curriculum, allowing students to discover at their own pace. Students who make breakthroughs in their discovery help support their peers through a strong discussion component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ROUP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reading, student’s were grouped according to similar abilities. Most attention was given to the low reader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math, student groups varied. Sometimes students were in groups because of matching ability and other times in groups with varying abilities to help support their peer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writing, students were grouped according to similar abilitie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oups were changed as students abilities chang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COULD HAVE HAPPENE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routine for rotating groups for reading and writing should take place so that all students receive differentiated instruction. Students at every level should have the opportunity to be challeng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SSESSM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use of the classroom spreadsheets to keep assessment data organiz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system was developed to determine level of understanding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= not understan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 = starting to underst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understan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 = above aver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DID ASSESSMENT DRIVE INSTR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facilitated grouping and what the next step was for the student and the grou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helped determined level of understanding and the need for more pract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DO THE LARGER SOCIAL CONTEXTS CONSTRAIN OR INFLUENCE THE PRACTIC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derate level of parent volunte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irly strong parental support promoted these practices that might not occur in lower SES schoo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ff training to support critical thinking. When a thinking routine is developed, each student is thinking at their level, but they are challenged to see others thinking. There are strategies such as; Headlines, 3-2-1 Bridge, Think-Connect-Reflect, and Think-Puzzle-Exp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IBLIOGRAPHY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0880" y="15238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Brooks, J. G., &amp; Brooks, M. G. (1999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In Search of Understanding: The Case For Constructivist Classrooms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Alexandria, VA: Association for Supervision and Curriculum Development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Huebner, T. A. (2010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What Research Says About Differentiated Instruction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Educational Leadership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Routman, R. (2003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Reading Essentials: The Specifics You Need to Teach Reading Well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Portsmouth, NH: Heinemann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Routman, R. (2005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Writing Essentials: Raising Expectations and Results While Simplifying Teaching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Portsmouth, NH: Heinmann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Tobin, R. &amp; McInnes, A. (2008). Accommodating Differences: Variations in Differentiated Literacy Instruction in Grade 2/3 Classrooms. Literacy 42(1) p. 3-9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ACKGROUND INFORMATION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lf River Elementary in Denver Suburban distri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rollment was 569 studen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 by ethnicity was as follows; 3 American Indian or Alaskan Native, 28 Asian or Pacific Islander, 19 Black (Not Hispanic), 27 Hispanic, and 492 White (Not Hispanic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grade - 26 students (16 boys and 10 girl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 student on ILP, 2 students on IEP’s, 2 students on a behavior plan, and 2 student’s referred to RTI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 by ethnicity for first grade was as follows; 4 Asian/Pacific Islander, 5 Black, 4 Hispanic, and 62 Whit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PPENDIC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RA levels on spreadshe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icture of writing/read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heck-list/spreadsheet for math task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icture of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grade friendly rubric on the Ideas trai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6+1 traits checkpoint lis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icture of what it means to be an easy, just right or challenging book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ample of student work from writing journ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xample of what is done in small read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low reader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individual reading/writing folder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Lesson plans on the word choice trai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grade assessment bookl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 - DIFFERENTI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ook box – “Just Right Book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ing Journ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mall group 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dividual 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hat an Easy, Just Right and Challenging might look lik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ample of student writing at beginning and mid yea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small group activiti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low readers and their and smart goal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other readers and writer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ifferentiation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- DIFFERENTI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sson Pla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lesson plans on the trait of word cho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y show different approaches to teaching the same writing trait. (an example of student work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ifferentiation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 – GROUPING STRATEGI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ead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rit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ath Group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veled abilities according to # of sight words known and DRA sco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xed abilities or Interests group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ried from mixed to leveled abil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Grouping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S – ASSESSM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A’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eck-lists for ma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00 sight wor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+ traits of writ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sessment boo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A assess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ss list of task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ss list with # of words know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eck-list with each students’ level, and a picture of student friendly rubric on ide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grade assess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ssessment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UZZLES OF PRACTICE”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is the most effective way to provide differentiated instruction to reach the wide rang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learner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is the most effective way to group students for differentiatio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EACHING PRACTIC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was happen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should happ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fferenti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oup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ssess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FFERENTI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udents chose their “just right” books independently, but this was not monitor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mall groups doing shared reading with teacher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ne-on-one conferences doing guided reading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ole group lesson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classroom library. Books were coded and students were taught the levels of the book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02:42Z</dcterms:created>
  <dc:creator>Mike</dc:creator>
  <dc:description/>
  <dc:language>en-US</dc:language>
  <cp:lastModifiedBy>kwoodrow</cp:lastModifiedBy>
  <dcterms:modified xsi:type="dcterms:W3CDTF">2010-03-13T23:40:56Z</dcterms:modified>
  <cp:revision>39</cp:revision>
  <dc:subject/>
  <dc:title>Instructional Strategies</dc:title>
</cp:coreProperties>
</file>