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FCD0-F5B3-449A-8135-17C4D2305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C78C-88D0-49C4-873D-FB332B174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842-FAD9-4DC2-AE13-A29E4AA5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9AB-D293-4521-A1D3-A42F026A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09E-9CCF-41FC-8D2E-44F2D0F4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70F-D448-4D94-9080-44885105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6BB7-D0FC-43F0-AC64-682BA1F0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ADD-E6DD-4D61-A0FF-24B62497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EA99-0E05-43A0-B46A-5E02B9B0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94F3-81F8-4156-B20C-B8D5E980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20F7-6291-4291-ADB2-2665729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69E-4099-44CB-BBCF-0986193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63A-7169-44F0-8B78-4EC6AF57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795-2494-43D3-B59C-91FBC161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7C4A-5B14-4422-87E2-7470B247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97E7-FABB-42EC-A1B8-88F4B41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FBF8-6DED-457E-8D0B-22FBEA5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A6EB-DABF-41B7-9187-FC93E791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1BA-A88E-49B2-BD98-208D1580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7E8B6-5D35-4762-9CE0-EB79F1AE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BD204-A23C-4BD5-AE81-9659B51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C00E5-6B7A-48C7-A39C-A368321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16BB7-8930-49FF-B2DB-3A54913D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62BE8-FE1B-4A11-A128-93B103CD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531-1FE7-4F6C-9B1B-D3EEE80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AF413-8486-4DCD-9B13-373ABB71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33B6D-5A7F-4AB4-8CBE-1FA05F49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DAA27-6240-467B-A139-F126983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445FD-48C1-43B9-9B24-D1570722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FF573-D2B3-4567-A928-A8AB681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B0C50-8772-4A44-AADF-45445469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81F2F-035C-4F64-A33E-995DFBFD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9D3D-C4A0-4BA6-AE6F-43B53F68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3DE1-9F90-4E7A-A6D2-FD4841CC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F868-120C-471E-A708-3EEECC2A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99E-F43E-4716-879F-23F14B42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BBC6-3A1B-4E2B-AA4B-17D6FC80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3B99-4D7A-4053-8F18-270BA0BD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854B-E60D-4062-BFAC-A7CBB5D1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31ED-1D86-4B93-BEDB-DB6B6B8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34DF-248B-4F23-9BFF-6004995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8A96-319B-4A94-811D-DA9C5B0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1B32-A280-4202-A2F6-257356EF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1CBC-966B-4151-A7A5-C6B36C47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2321-3F14-4F15-8791-DE6F063C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7625F-DA29-4C36-818F-D7FD7109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291-4D13-4C30-A9EC-D7E068F9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0B52E-96FA-4088-8342-C0682CAE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03444-92EC-4C8D-AC2C-61892F20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0110E-47A1-4D08-9B93-1788530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7B8D4-6364-4802-890E-AE2E0977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86F1E-52B8-43CB-BFDC-7A97DC0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07ED6-88F1-4A6C-9BFB-E7139955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F18D7-EBE0-432B-B45E-A0835DB4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49968-F98C-4E20-B4AF-192A2C5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9D761-7ADE-449D-B35B-45748C2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DEF6D-0D05-42B9-87DF-26598666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7A4-ED5C-4D50-AC95-9DABD848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6CB15-63F1-49C0-B055-F5DE6984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CC621-A545-4547-BFEF-FCFE1CE2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85E9A-FA30-4E3B-B951-B9BE132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2729E-3361-4F2E-87C2-12855BB9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DC9DAF-A662-423E-9A14-54CECF7A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78714-010A-4D10-966B-523D078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DB70B-D353-48DF-AF48-677255A8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843EF-DD3E-405C-A85D-56F99E4A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D7E96-0D3B-4F2E-821A-1ADBCF0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EB03D-AD3F-417D-B899-6725E70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5FB-A836-4EE1-9F72-3F68A48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C99AA-8390-414A-B218-DF276845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7B6EF-8B75-469D-A2DD-FABC1F49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D07A3-18C0-4E50-92E3-C3C7B56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617C3-95A3-403A-8B14-36ECB6BA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B9ABA-50F2-4068-9AE5-BC342C53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44211-6D0D-47E8-A571-648A09D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1A41D-074A-42ED-B522-6FA824B7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B0C38-0084-4B1B-B226-83712C75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8851C-339F-4298-A690-EC132372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E816B-F3C1-410C-8ABA-33F57AD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B86-E3C3-44FC-90EE-3134C15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D9399-D396-4C7E-BF69-18A77D4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2E8F6-0F76-4EE7-9290-EE4EB86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51C50-DE8F-4247-8654-D296D20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2E1BA-5DDC-4B64-A95C-F629AF06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3ACD8-A07E-4F4E-9B61-5F9A5A2D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34C-404E-4E4E-9233-4B165DA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1445-6DBA-4323-90B6-030313F91CB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FC7C-ED4B-40A9-A17D-54833509D6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D4D8-CABF-4019-A2A2-C36F6F19ECF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427-2BCF-4BDE-A12D-38E0DD0619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0E2F-0F2E-46AD-8D58-5D4EF6145AE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64A7-D386-42C4-9662-B1958FC6D9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4F8D-A649-463E-94BC-9B365685EF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4000" spc="-1" strike="noStrike" u="sng">
                <a:solidFill>
                  <a:srgbClr val="575f6d"/>
                </a:solidFill>
                <a:uFillTx/>
                <a:latin typeface="Century Schoolbook"/>
              </a:rPr>
              <a:t>INSTRUCTIONAL STRATEG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447920"/>
            <a:ext cx="556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y: Mary B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RS 6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stone in Reflective Tea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bruary 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READ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important to conference with students to guide them in picking out appropriate leveled books for Independent Reading (IR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 routine for working with small groups and meeting one-on-o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le group lessons can consist of choral reading and reader’s thea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rning centers to provide more differentiated learn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ri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ach student could choose what they wanted to write about on a daily basis. (No writing to prompts on a regular basis.) Students bloomed in their ability to write! (The ability to come up with ideas, and the length of writing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hared writing as a whole class. (ie. Dear Santa letter, describing a person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celebrations – a group of students shared their writing every da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WRIT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ha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active writing opportunities where the students can take turns with the tea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aloud – where the teacher explains their thinking and planning before they write and then model their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ivist approach to writing lessons. Provide opportunities for students to have more interaction with writing activ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i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lf River used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Investigation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for mat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 is built into the curriculum, allowing students to discover at their own pace. Students who make breakthroughs in their discovery help support their peers through a strong discussion componen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OUP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reading, student’s were grouped according to similar abilities. Most attention was given to the low read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math, student groups varied. Sometimes students were in groups because of matching ability and other times in groups with varying abilities to help support their pe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writing, students were grouped according to similar abiliti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s were changed as students abilities chang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VE HAPPEN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outine for rotating groups for reading and writing should take place so that all students receive differentiated instruction. Students at every level should have the opportunity to be challeng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 of the classroom spreadsheets to keep assessment data organiz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system was developed to determine level of understanding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= not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= starting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= above a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ID ASSESSMENT DRIVE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facilitated grouping and what the next step was for the student and the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helped determined level of understanding and the need for more pract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THE LARGER SOCIAL CONTEXTS CONSTRAIN OR INFLUENCE THE PRACTI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rate level of parent volunte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irly strong parental support promoted these practices that might not occur in lower SES schoo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ff training to support critical thinking. When a thinking routine is developed, each student is thinking at their level, but they are challenged to see others thinking. There are strategies such as; Headlines, 3-2-1 Bridge, Think-Connect-Reflect, and Think-Puzzle-Exp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BLIOGRAPHY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rooks, J. G., &amp; Brooks, M. G. (1999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In Search of Understanding: The Case For Constructivist Classroom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Alexandria, VA: Association for Supervision and Curriculum Development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uebner, T. A. (2010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hat Research Says About Differentiated Instruction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Educational Leadership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3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Reading Essentials: The Specifics You Need to Teach Reading Well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e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5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riting Essentials: Raising Expectations and Results While Simplifying Teaching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obin, R. &amp; McInnes, A. (2008). Accommodating Differences: Variations in Differentiated Literacy Instruction in Grade 2/3 Classrooms. Literacy 42(1) p. 3-9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KGROUND INFORMA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lf River Elementary in Denver Suburban distri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rollment was 569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was as follows; 3 American Indian or Alaskan Native, 28 Asian or Pacific Islander, 19 Black (Not Hispanic), 27 Hispanic, and 492 White (Not Hispani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 - 26 students (16 boys and 10 girl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 student on ILP, 2 students on IEP’s, 2 students on a behavior plan, and 2 student’s referred to RTI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for first grade was as follows; 4 Asian/Pacific Islander, 5 Black, 4 Hispanic, and 62 Wh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PEND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RA levels on spreadsh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riting/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eck-list/spreadsheet for math task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friendly rubric on the Ideas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+1 traits checkpoint l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hat it means to be an easy, just right or challenging boo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ork from writing jour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ample of what is done in small 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individual reading/writing f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sson plans on the word choice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assessment book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box – “Just Right Book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Jour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vidual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at an Easy, Just Right and Challenging might look lik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riting at beginning and mid ye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small group activiti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 and their and smart goal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other readers and writ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lesson plans on the trait of word cho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show different approaches to teaching the same writing trait. (an example of student work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– GROUPING STRATE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rit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th Group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ed abilities according to # of sight words known and DRA sco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ed abilities or Interests group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ed from mixed to leveled abil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Grouping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S – 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s for m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0 sight w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+ traits of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essment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of tas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with # of words kn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 with each students’ level, and a picture of student friendly rubric o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grade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ZZLES OF PRACTICE”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provide differentiated instruction to reach the wide rang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arn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group students for differentiatio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ACHING PRACT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was happe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should happ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udents chose their “just right” books independently, but this was not monitor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groups doing shared reading with teache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e-on-one conferences doing guided reading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ole group less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classroom library. Books were coded and students were taught the levels of the boo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2:42Z</dcterms:created>
  <dc:creator>Mike</dc:creator>
  <dc:description/>
  <dc:language>en-US</dc:language>
  <cp:lastModifiedBy>kwoodrow</cp:lastModifiedBy>
  <dcterms:modified xsi:type="dcterms:W3CDTF">2010-03-13T23:40:56Z</dcterms:modified>
  <cp:revision>39</cp:revision>
  <dc:subject/>
  <dc:title>Instructional Strategies</dc:title>
</cp:coreProperties>
</file>