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ADEF1-B138-48D0-8DAA-97AEF6E3E0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7E754-1851-44C9-92BE-D3A8FF8F58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5A5EF-F335-4241-8502-C642C27C1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B2764-61B6-40C5-AF90-BC6EA6926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96E8C-6E03-4C17-B2F5-D4FBA1823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4CC53-4DB5-4B1B-9DC7-92C6B7ABD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18029-1659-4659-8FEC-13AE81B0E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EEFCD-A8C3-4F34-8A19-043B406D7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98507-1165-498E-A6C2-5D87E55CB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FCD26-43F2-4B14-92BE-C8D8BC182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20D5B-1AEC-4FC7-AE58-74E3A92BD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C511F-777D-4A36-A3D8-91F7C0320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ACF4F-1736-45FC-A8AA-D24FD5116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1EBC1-0167-452E-909E-0AD19F7D8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03DB6-0D54-4449-8296-5956BE9C7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C9BD9-F047-449A-97DA-245C9AF35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9DC80-602F-4498-BF27-684A358E6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14D84-B4A8-4959-A167-FE3A4E04D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149FC-7997-41EC-9616-0DA7C2739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BE9175D-27C6-40D2-8BA2-868433720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08361F8-17C0-41EF-B2E0-EA70EF93E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438984A-47E3-446D-B827-08103CCF8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796D676-FE6A-4EEE-A81E-5AA18F776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85308BC-94EE-46E9-9138-EDF0FAAE9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34A75-FE74-4F88-AAD6-E07F2CCBF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B209C97-C309-431D-BBA7-98F311586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FE4C162-B89B-407E-8D55-BC79AAFE6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D026034-21D8-40E4-A1B2-391927F9D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43969A6-A4D7-4DE3-8783-1FDBBFCF2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64E1A2-0626-4081-AAE5-DFF10ECC2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0B2E6A5-8565-4FA4-BA49-3B0C8B41E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41187EA-CFEE-4BFB-8C25-BAF8C0FA0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5CE22E-1965-4803-A6DB-7FD9B814D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453983-6CAE-4885-97CA-213FC6FCA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A71366-ADF3-41D0-A16A-6DF897B9B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8BC36-5BB7-4817-9CC2-D9B42A6CB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C72D1D-683E-4C56-98F0-C2E83F25D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0287A8-4A3B-49BD-918C-AEC99F59C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B27D59-F1ED-4F5C-9959-0C63F689D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5DBBCD-141D-417A-A582-ABEF950C3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E43FD1-D80C-4F7B-816C-7A12F68F8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78F2BE-8AFD-4D3D-B7F3-B5A3B7709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980A2F-0018-4493-9B46-AB452642F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5B0E7F-A2B5-45D0-8C41-437E54754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3541DF-1A5A-4413-834B-88F722FF8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0D3CC95-9B56-442C-BE10-DBA5FD1E3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25036-1E52-477A-81AD-D462A77A0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152AA92-F5AE-47EC-A33F-F560168CA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12B0955-B7BA-4C62-B280-085A6EF10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5DB12E0-17E4-4423-B3D5-54138E219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410569D-B932-46BE-A089-23E39AD16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17ABBF8-B342-497B-ABBC-99A27D51D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6549B73-CB4E-4C2F-969A-D63C78021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A654B8B-465C-4E91-B707-92BF52CA3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5EEB925-D4CE-4369-8D93-BE669FEC4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B9A43EB-C18B-4F7A-9505-5AEEAE797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0EDC1F4-6584-4527-AC1B-042EE9FA7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2E36B-D4EB-496B-B4D2-0C5EA5CFB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B832D7F-2F3A-4101-B702-C2F8AE9A7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0A5557B-8740-4C50-A91D-B4FDA5A51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5C8AD9D-5AC0-4A4F-810D-D65F8DD5C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538BAAE-8A1C-4A34-BBD4-FF2481D7F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CD19896-7CFE-4F9F-BD58-9DFE3B8E0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2C5BB68-0840-4BA9-8EA2-B30BE6A37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B75AEDE-1620-4E80-988E-7BC0756D4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13A6513-FF0A-4FD6-860B-8A4F1FD6B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192F657-E1D2-4D6A-9A0B-146B21B2C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829AAE4-9C31-4B0E-98AA-918E80208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8CA63-F76F-4A86-9DCA-FD8E53117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A21FEC0-1BBE-4166-8E51-99F3C0968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5840476-B626-4A4D-801D-753C4EA73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1BFD0FD-B8C8-4F7B-87FF-047507731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7E76736-519F-482F-BA1E-B19570C55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848626A-D6E1-4797-B206-CE0364B0D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D79E482-2AA0-483F-B011-5F5E2758A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367A532-59CD-4D9D-A316-06C361EDD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876201D-C3D1-4F6B-BD20-B7F940DFF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D4868FF-208B-4BD4-A7E2-89E89F225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1FFB2D8-61A3-4278-9938-DBE7827E1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61589-1761-4596-8692-FECAF2DD0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9FA4333-0DFA-4671-9085-05546F9B9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10A4ED2-A42C-4CE9-985A-17398F940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08A58D9-BEA1-4686-8820-04F33584A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09B9AA8-A58A-41C7-AC26-A455EBD10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92DA195-69E7-4ACE-B4CD-2A711065A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662B6-2655-457E-A553-5A3959BDC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0A4C8-F7B9-48B1-A5BF-2914784F9DAF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Straight Connector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Rectangle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Oval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Oval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Oval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Oval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8B690-F7A5-4F0C-8CC4-3D5DC5C8A70B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8A2FD-5D61-4824-BB5A-ED08650E6764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Oval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Oval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Oval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Straight Connector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2EA57-D55D-4DC8-B333-A61E4AB14865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72C6B-3C3D-4DAF-AFB6-04665AF47E5A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Straight Connector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Straight Connector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Straight Connector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Rectangle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Straight Connector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Oval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C6B9C-C218-4A00-92D3-16B6918EECA3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Oval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Straight Connector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Straight Connector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865C2-17AC-4F05-9741-D404A5C4105F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         </a:t>
            </a: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r>
              <a:rPr b="0" lang="en-US" sz="4000" spc="-1" strike="noStrike" u="sng">
                <a:solidFill>
                  <a:srgbClr val="575f6d"/>
                </a:solidFill>
                <a:uFillTx/>
                <a:latin typeface="Century Schoolbook"/>
              </a:rPr>
              <a:t>INSTRUCTIONAL STRATEGIES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0" y="1447920"/>
            <a:ext cx="5562720" cy="50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By: Mary Bate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EDRS 698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apstone in Reflective Teaching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ebruary 2010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WHAT COULD HAPPEN TO ENRICH DIFFERENTIATION FOR READING.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t is important to conference with students to guide them in picking out appropriate leveled books for Independent Reading (IR)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Develop a routine for working with small groups and meeting one-on-one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hole group lessons can consist of choral reading and reader’s theater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Learning centers to provide more differentiated learning opportunities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DIFFERENTIATION, CONT.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hat happened i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writing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Each student could choose what they wanted to write about on a daily basis. (No writing to prompts on a regular basis.) Students bloomed in their ability to write! (The ability to come up with ideas, and the length of writing.)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hared writing as a whole class. (ie. Dear Santa letter, describing a person.)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Writing celebrations – a group of students shared their writing every day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WHAT COULD HAPPEN TO ENRICH DIFFERENTIATION FOR WRITING.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More shared writing opportunities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nteractive writing opportunities where the students can take turns with the teacher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riting aloud – where the teacher explains their thinking and planning before they write and then model their writing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onstructivist approach to writing lessons. Provide opportunities for students to have more interaction with writing activities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aired writing opportunities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DIFFERENTIATION, CON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hat happened for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math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Wolf River used </a:t>
            </a:r>
            <a:r>
              <a:rPr b="0" i="1" lang="en-US" sz="2100" spc="-1" strike="noStrike">
                <a:solidFill>
                  <a:srgbClr val="000000"/>
                </a:solidFill>
                <a:latin typeface="Century Schoolbook"/>
              </a:rPr>
              <a:t>Investigations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 for math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Differentiation is built into the curriculum, allowing students to discover at their own pace. Students who make breakthroughs in their discovery help support their peers through a strong discussion component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GROUPING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hat happened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For reading, student’s were grouped according to similar abilities. Most attention was given to the low readers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For math, student groups varied. Sometimes students were in groups because of matching ability and other times in groups with varying abilities to help support their peers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For writing, students were grouped according to similar abilities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Groups were changed as students abilities changed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WHAT COULD HAVE HAPPENED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 routine for rotating groups for reading and writing should take place so that all students receive differentiated instruction. Students at every level should have the opportunity to be challenged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ASSESSMENT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hat happened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The use of the classroom spreadsheets to keep assessment data organized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A system was developed to determine level of understanding.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. = not understanding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/ = starting to understand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X = understanding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* = above averag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HOW DID ASSESSMENT DRIVE INSTRUCTIO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t facilitated grouping and what the next step was for the student and the group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t helped determined level of understanding and the need for more practice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HOW DO THE LARGER SOCIAL CONTEXTS CONSTRAIN OR INFLUENCE THE PRACTICE?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Moderate level of parent volunteers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airly strong parental support promoted these practices that might not occur in lower SES school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taff training to support critical thinking. When a thinking routine is developed, each student is thinking at their level, but they are challenged to see others thinking. There are strategies such as; Headlines, 3-2-1 Bridge, Think-Connect-Reflect, and Think-Puzzle-Exp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BIBLIOGRAPHY</a:t>
            </a: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	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380880" y="1523880"/>
            <a:ext cx="746784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entury Schoolbook"/>
              </a:rPr>
              <a:t>Brooks, J. G., &amp; Brooks, M. G. (1999). </a:t>
            </a:r>
            <a:r>
              <a:rPr b="0" i="1" lang="en-US" sz="1900" spc="-1" strike="noStrike">
                <a:solidFill>
                  <a:srgbClr val="000000"/>
                </a:solidFill>
                <a:latin typeface="Century Schoolbook"/>
              </a:rPr>
              <a:t>In Search of Understanding: The Case For Constructivist Classrooms</a:t>
            </a:r>
            <a:r>
              <a:rPr b="0" lang="en-US" sz="1900" spc="-1" strike="noStrike">
                <a:solidFill>
                  <a:srgbClr val="000000"/>
                </a:solidFill>
                <a:latin typeface="Century Schoolbook"/>
              </a:rPr>
              <a:t>. Alexandria, VA: Association for Supervision and Curriculum Development.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entury Schoolbook"/>
              </a:rPr>
              <a:t>Huebner, T. A. (2010). </a:t>
            </a:r>
            <a:r>
              <a:rPr b="0" i="1" lang="en-US" sz="1900" spc="-1" strike="noStrike">
                <a:solidFill>
                  <a:srgbClr val="000000"/>
                </a:solidFill>
                <a:latin typeface="Century Schoolbook"/>
              </a:rPr>
              <a:t>What Research Says About Differentiated Instruction</a:t>
            </a:r>
            <a:r>
              <a:rPr b="0" lang="en-US" sz="1900" spc="-1" strike="noStrike">
                <a:solidFill>
                  <a:srgbClr val="000000"/>
                </a:solidFill>
                <a:latin typeface="Century Schoolbook"/>
              </a:rPr>
              <a:t>. Educational Leadership.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entury Schoolbook"/>
              </a:rPr>
              <a:t>Routman, R. (2003). </a:t>
            </a:r>
            <a:r>
              <a:rPr b="0" i="1" lang="en-US" sz="1900" spc="-1" strike="noStrike">
                <a:solidFill>
                  <a:srgbClr val="000000"/>
                </a:solidFill>
                <a:latin typeface="Century Schoolbook"/>
              </a:rPr>
              <a:t>Reading Essentials: The Specifics You Need to Teach Reading Well</a:t>
            </a:r>
            <a:r>
              <a:rPr b="0" lang="en-US" sz="1900" spc="-1" strike="noStrike">
                <a:solidFill>
                  <a:srgbClr val="000000"/>
                </a:solidFill>
                <a:latin typeface="Century Schoolbook"/>
              </a:rPr>
              <a:t>. Portsmouth, NH: Heinemann.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entury Schoolbook"/>
              </a:rPr>
              <a:t>Routman, R. (2005). </a:t>
            </a:r>
            <a:r>
              <a:rPr b="0" i="1" lang="en-US" sz="1900" spc="-1" strike="noStrike">
                <a:solidFill>
                  <a:srgbClr val="000000"/>
                </a:solidFill>
                <a:latin typeface="Century Schoolbook"/>
              </a:rPr>
              <a:t>Writing Essentials: Raising Expectations and Results While Simplifying Teaching</a:t>
            </a:r>
            <a:r>
              <a:rPr b="0" lang="en-US" sz="1900" spc="-1" strike="noStrike">
                <a:solidFill>
                  <a:srgbClr val="000000"/>
                </a:solidFill>
                <a:latin typeface="Century Schoolbook"/>
              </a:rPr>
              <a:t>. Portsmouth, NH: Heinmann.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entury Schoolbook"/>
              </a:rPr>
              <a:t>Tobin, R. &amp; McInnes, A. (2008). Accommodating Differences: Variations in Differentiated Literacy Instruction in Grade 2/3 Classrooms. Literacy 42(1) p. 3-9.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BACKGROUND INFORMATION</a:t>
            </a: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	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olf River Elementary in Denver Suburban distric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Enrollment was 569 student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Population by ethnicity was as follows; 3 American Indian or Alaskan Native, 28 Asian or Pacific Islander, 19 Black (Not Hispanic), 27 Hispanic, and 492 White (Not Hispanic)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entury Schoolbook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grade - 26 students (16 boys and 10 girls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1 student on ILP, 2 students on IEP’s, 2 students on a behavior plan, and 2 student’s referred to RTI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Population by ethnicity for first grade was as follows; 4 Asian/Pacific Islander, 5 Black, 4 Hispanic, and 62 White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APPENDICE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DRA levels on spreadsheet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Picture of writing/reading groups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Check-list/spreadsheet for math tasks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Picture of 1</a:t>
            </a:r>
            <a:r>
              <a:rPr b="0" lang="en-US" sz="2200" spc="-1" strike="noStrike" baseline="30000">
                <a:solidFill>
                  <a:srgbClr val="000000"/>
                </a:solidFill>
                <a:latin typeface="Century Schoolbook"/>
              </a:rPr>
              <a:t>st</a:t>
            </a: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 grade friendly rubric on the Ideas trait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6+1 traits checkpoint list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Picture of what it means to be an easy, just right or challenging book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Sample of student work from writing journal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Example of what is done in small reading groups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Notes from low readers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Notes from individual reading/writing folders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Lesson plans on the word choice trait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1</a:t>
            </a:r>
            <a:r>
              <a:rPr b="0" lang="en-US" sz="2200" spc="-1" strike="noStrike" baseline="30000">
                <a:solidFill>
                  <a:srgbClr val="000000"/>
                </a:solidFill>
                <a:latin typeface="Century Schoolbook"/>
              </a:rPr>
              <a:t>st</a:t>
            </a: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 grade assessment booklet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INSTRUCTIONAL PRACTICE - DIFFERENTIATIO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457200" y="2361960"/>
            <a:ext cx="3657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Book box – “Just Right Books”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riting Journa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mall group work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ndividual work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4371840" y="2361960"/>
            <a:ext cx="3657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What an Easy, Just Right and Challenging might look like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Sample of student writing at beginning and mid year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Notes from small group activities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Notes from low readers and their and smart goals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Notes from other readers and writers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489240" y="1602000"/>
            <a:ext cx="3593520" cy="594720"/>
          </a:xfrm>
          <a:prstGeom prst="rect">
            <a:avLst/>
          </a:prstGeom>
          <a:solidFill>
            <a:srgbClr val="fe8637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entury Schoolbook"/>
              </a:rPr>
              <a:t>Differentiation</a:t>
            </a:r>
            <a:r>
              <a:rPr b="1" lang="en-US" sz="2000" spc="-1" strike="noStrike">
                <a:solidFill>
                  <a:srgbClr val="ffffff"/>
                </a:solidFill>
                <a:latin typeface="Century Schoolbook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375440" y="1602000"/>
            <a:ext cx="3593520" cy="594720"/>
          </a:xfrm>
          <a:prstGeom prst="rect">
            <a:avLst/>
          </a:prstGeom>
          <a:solidFill>
            <a:srgbClr val="fe8637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entury Schoolbook"/>
              </a:rPr>
              <a:t>Data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INSTRUCTIONAL PRACTICE- DIFFERENTIATIO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457200" y="2361960"/>
            <a:ext cx="3657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Lesson Plan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371840" y="2361960"/>
            <a:ext cx="3657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wo lesson plans on the trait of word choice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They show different approaches to teaching the same writing trait. (an example of student work)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489240" y="1602000"/>
            <a:ext cx="3593520" cy="594720"/>
          </a:xfrm>
          <a:prstGeom prst="rect">
            <a:avLst/>
          </a:prstGeom>
          <a:solidFill>
            <a:srgbClr val="fe8637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entury Schoolbook"/>
              </a:rPr>
              <a:t>Differentiation</a:t>
            </a:r>
            <a:r>
              <a:rPr b="1" lang="en-US" sz="2000" spc="-1" strike="noStrike">
                <a:solidFill>
                  <a:srgbClr val="ffffff"/>
                </a:solidFill>
                <a:latin typeface="Century Schoolbook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4375440" y="1602000"/>
            <a:ext cx="3593520" cy="594720"/>
          </a:xfrm>
          <a:prstGeom prst="rect">
            <a:avLst/>
          </a:prstGeom>
          <a:solidFill>
            <a:srgbClr val="fe8637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entury Schoolbook"/>
              </a:rPr>
              <a:t>Data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INSTRUCTIONAL PRACTICE – GROUPING STRATEGIE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457200" y="2361960"/>
            <a:ext cx="3657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Reading Groups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Writing Groups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Math Groups</a:t>
            </a: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4371840" y="2361960"/>
            <a:ext cx="3657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Leveled abilities according to # of sight words known and DRA scores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Mixed abilities or Interests grouped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Varied from mixed to leveled abilities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489240" y="1602000"/>
            <a:ext cx="3593520" cy="594720"/>
          </a:xfrm>
          <a:prstGeom prst="rect">
            <a:avLst/>
          </a:prstGeom>
          <a:solidFill>
            <a:srgbClr val="fe8637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entury Schoolbook"/>
              </a:rPr>
              <a:t>Grouping</a:t>
            </a:r>
            <a:r>
              <a:rPr b="1" lang="en-US" sz="2000" spc="-1" strike="noStrike">
                <a:solidFill>
                  <a:srgbClr val="ffffff"/>
                </a:solidFill>
                <a:latin typeface="Century Schoolbook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4375440" y="1602000"/>
            <a:ext cx="3593520" cy="594720"/>
          </a:xfrm>
          <a:prstGeom prst="rect">
            <a:avLst/>
          </a:prstGeom>
          <a:solidFill>
            <a:srgbClr val="fe8637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entury Schoolbook"/>
              </a:rPr>
              <a:t>Data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INSTRUCTIONAL PRACTICES – ASSESSMENT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457200" y="2361960"/>
            <a:ext cx="3657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DRA’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heck-lists for math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100 sight word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6+ traits of writing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ssessment book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4371840" y="2361960"/>
            <a:ext cx="3657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DRA assessment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ass list of task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ass list with # of words know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heck-list with each students’ level, and a picture of student friendly rubric on ideas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entury Schoolbook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 grade assessment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89240" y="1602000"/>
            <a:ext cx="3593520" cy="594720"/>
          </a:xfrm>
          <a:prstGeom prst="rect">
            <a:avLst/>
          </a:prstGeom>
          <a:solidFill>
            <a:srgbClr val="fe8637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entury Schoolbook"/>
              </a:rPr>
              <a:t>Assessments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4375440" y="1602000"/>
            <a:ext cx="3593520" cy="594720"/>
          </a:xfrm>
          <a:prstGeom prst="rect">
            <a:avLst/>
          </a:prstGeom>
          <a:solidFill>
            <a:srgbClr val="fe8637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entury Schoolbook"/>
              </a:rPr>
              <a:t>Data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“</a:t>
            </a: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PUZZLES OF PRACTICE”</a:t>
            </a: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	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hat is the most effective way to provide differentiated instruction to reach the wide range of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all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learners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hat is the most effective way to group students for differentiation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TEACHING PRACTICE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hat was happening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hat should happen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Differentiation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Grouping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Assessment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DIFFERENTIATIO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hat happened for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reading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tudents chose their “just right” books independently, but this was not monitored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mall groups doing shared reading with teacher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One-on-one conferences doing guided reading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Whole group lessons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A classroom library. Books were coded and students were taught the levels of the books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2T17:02:42Z</dcterms:created>
  <dc:creator>Mike</dc:creator>
  <dc:description/>
  <dc:language>en-US</dc:language>
  <cp:lastModifiedBy>kwoodrow</cp:lastModifiedBy>
  <dcterms:modified xsi:type="dcterms:W3CDTF">2010-03-13T23:40:56Z</dcterms:modified>
  <cp:revision>39</cp:revision>
  <dc:subject/>
  <dc:title>Instructional Strategies</dc:title>
</cp:coreProperties>
</file>