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03B5-C619-41F7-9EB4-C3438CF85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C6AA-593F-409A-8C60-0D5DF8381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08F-2CEA-41AE-B30A-74C60F64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A36-4E6F-44C7-B369-5BFAFE45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7E0-BFDE-4019-A039-2909896D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29C-2B39-4C27-BA18-5E1044C3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D9F2-F931-47CF-AE42-1DFCDBEF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A75E-525C-43EA-9263-F050A095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AB3D-47A1-473A-9F75-19FD6475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5835-2E65-4D4F-848B-003C0C56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DCE6-1126-4B9D-8753-7CDBC375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F4AD-0F4A-4C45-80C8-1F890356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04FF-2555-48EB-A50B-57E34564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AD9-8B25-43FA-ABA4-1E539C7E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41D8-9556-4F34-92D1-EF9691BA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7894-208C-4D5F-8C23-1F834945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88D1-81FD-46D6-BC74-18DA018D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D220-C330-4F4C-A532-6310060C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C288-F994-460C-9A7D-186C1F17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219C5-F0ED-43D0-8929-D257435C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54C9B-432E-4549-9105-6F4B23DF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6E48A-5849-46A3-8C36-0276DD1F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BA1FD-779B-4C2F-8B56-975F7964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2E8F9-57CF-4E19-B7A4-6B7CDD13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975-81E4-4D76-8EA2-FABB0D6B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C8C28-3426-46E4-9604-84F315D5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888E4-18D5-437F-8D6F-16A3A6E2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8224A-EA14-49A5-8EC6-E47A8BA2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C1C36-328E-4C37-850A-2A571543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EC632-8821-43DC-B26B-CF9DF6C4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9E0E3-68BD-4681-BF2E-DDC9396B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55B32-FF92-4D9C-AC78-99D6C35C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D7328-330E-46E2-B3C2-794B8B19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2FBEE-1C04-4E5F-83EA-CB182833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9E6A3-FDC5-460A-8CFE-41C63705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154-5E39-4ED8-AE38-6AAAA94C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977B9-B115-4A6B-BDD7-20A4A3DA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A78BC-E19F-4EE3-B1B4-C5ABD38D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2F611-A3C4-4F4F-92DF-B49A92E9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3563E-190D-4B7C-8170-A89DC9E3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E014C-309F-42A7-9A7B-E53F4D0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8E6D-BA97-4E3A-9642-7299994B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E37FC-6D97-4E4D-B189-A55CFF81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A75A7-1A12-4F53-9332-16C4ABEC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9CD0-9948-4720-8D85-7DB6BA16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9D295-D170-4EEF-BDA9-651C3AEF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628-879C-48D4-A71D-2EABC31B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58CE2-95C4-4ECA-A873-5928D06F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65EE3-F0CF-452C-A7D2-23E48ACB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39BF2-04EA-4019-BF93-AF0E1670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F353A-2FCF-45A9-8888-F422E5C5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6B927-96D0-4558-9969-90D0C6A5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C9845-E98A-4D07-B1A9-C339B6B6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7C520-C8F8-4ECD-BE7B-8A14739E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8A914-BC19-43AF-AE4E-0D73EF54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4CF92-5E95-4175-A36C-67578F4A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F0D5F-1C4E-4A62-A820-DE52C38C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714-24BB-4372-8806-8F7E1C68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43E8A-93FD-4BBA-A4A3-59017FC5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06632-2E60-4CAC-BA97-DE771FD3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47354-5AA6-4064-84C5-30154FD1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CE93F-A2F2-4065-9B52-AE863586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010D3C-40F4-4469-94A6-14D8467C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114248-6072-481D-A335-E1F59097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0F835-6842-41D2-A458-249D41F7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C106F-C206-4F29-952A-F2DA5430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4F902-5516-4631-B032-CA82F7DD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22EF0-5A4A-4627-984E-42478AB1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F51-5AF6-4B61-86F3-5FA6AC6A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55896-8333-4FE2-941C-AFF290A7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C64EB-19E3-4EFD-A1F3-26B62F63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AC2DFE-397E-406D-8FC1-70DD021A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61638-E161-48C1-B1C0-5F8C300E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777C0-97DB-4C2C-AB43-92EBFE8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37AB5-4FDE-4D56-A239-A5707CCD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33732-C737-438C-8942-A1E93868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3F282-95CC-4176-8A72-130DFC5F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96A0E-F930-43DA-BC39-62CDC0F9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93C1D-2C22-409D-A7B9-B45E51B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C94-373E-449A-B55B-E61966E3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1C135-2673-4A13-BD7A-D155AD80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0FB40-E037-490B-8874-8F16F687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713A59-FB05-474C-A6F5-6962549E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342C4-D8BF-44CC-9191-16341EEA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4608E-563C-4921-A9A4-7B1DF5D5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2B8-063F-4DAE-8157-815D77FA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10EB-93DC-47EA-997D-F072A222E7C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85D6-5658-4455-B17E-881C4C0D70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9E39-A80A-4D79-99F5-F3656F720B7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5E3C-8516-426A-AD3F-2F4060B90BD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6F38-6FD7-4A70-910C-EC3A5BEB629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7197-677E-4E02-A274-1BD38B7832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F841-5262-4D6B-8AE1-079F192C096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4000" spc="-1" strike="noStrike" u="sng">
                <a:solidFill>
                  <a:srgbClr val="575f6d"/>
                </a:solidFill>
                <a:uFillTx/>
                <a:latin typeface="Century Schoolbook"/>
              </a:rPr>
              <a:t>INSTRUCTIONAL STRATEGI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447920"/>
            <a:ext cx="5562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y: Mary B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DRS 6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pstone in Reflective Teach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bruary 20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PPEN TO ENRICH DIFFERENTIATION FOR READING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important to conference with students to guide them in picking out appropriate leveled books for Independent Reading (IR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a routine for working with small groups and meeting one-on-o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ole group lessons can consist of choral reading and reader’s theat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arning centers to provide more differentiated learn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, CONT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rit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ach student could choose what they wanted to write about on a daily basis. (No writing to prompts on a regular basis.) Students bloomed in their ability to write! (The ability to come up with ideas, and the length of writing.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hared writing as a whole class. (ie. Dear Santa letter, describing a person.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 celebrations – a group of students shared their writing every day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PPEN TO ENRICH DIFFERENTIATION FOR WRITING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e shared writ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active writing opportunities where the students can take turns with the teach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aloud – where the teacher explains their thinking and planning before they write and then model their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ructivist approach to writing lessons. Provide opportunities for students to have more interaction with writing activ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ired writ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, CO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olf River used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Investigations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for math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iation is built into the curriculum, allowing students to discover at their own pace. Students who make breakthroughs in their discovery help support their peers through a strong discussion component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ROUP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reading, student’s were grouped according to similar abilities. Most attention was given to the low reader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math, student groups varied. Sometimes students were in groups because of matching ability and other times in groups with varying abilities to help support their peer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writing, students were grouped according to similar abiliti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s were changed as students abilities chang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VE HAPPENE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routine for rotating groups for reading and writing should take place so that all students receive differentiated instruction. Students at every level should have the opportunity to be challeng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SSESSM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use of the classroom spreadsheets to keep assessment data organiz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system was developed to determine level of understanding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= not understan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 = starting to underst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understan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 = above aver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ID ASSESSMENT DRIVE INSTR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facilitated grouping and what the next step was for the student and the grou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helped determined level of understanding and the need for more pract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O THE LARGER SOCIAL CONTEXTS CONSTRAIN OR INFLUENCE THE PRACTIC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erate level of parent volunte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irly strong parental support promoted these practices that might not occur in lower SES schoo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ff training to support critical thinking. When a thinking routine is developed, each student is thinking at their level, but they are challenged to see others thinking. There are strategies such as; Headlines, 3-2-1 Bridge, Think-Connect-Reflect, and Think-Puzzle-Exp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IBLIOGRAPHY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8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Brooks, J. G., &amp; Brooks, M. G. (1999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In Search of Understanding: The Case For Constructivist Classrooms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Alexandria, VA: Association for Supervision and Curriculum Development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Huebner, T. A. (2010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What Research Says About Differentiated Instruction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Educational Leadership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man, R. (2003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Reading Essentials: The Specifics You Need to Teach Reading Well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Portsmouth, NH: Heineman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man, R. (2005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Writing Essentials: Raising Expectations and Results While Simplifying Teaching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Portsmouth, NH: Heinman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obin, R. &amp; McInnes, A. (2008). Accommodating Differences: Variations in Differentiated Literacy Instruction in Grade 2/3 Classrooms. Literacy 42(1) p. 3-9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ACKGROUND INFORMATION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lf River Elementary in Denver Suburban distri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rollment was 569 stude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by ethnicity was as follows; 3 American Indian or Alaskan Native, 28 Asian or Pacific Islander, 19 Black (Not Hispanic), 27 Hispanic, and 492 White (Not Hispani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rade - 26 students (16 boys and 10 girl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 student on ILP, 2 students on IEP’s, 2 students on a behavior plan, and 2 student’s referred to RTI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by ethnicity for first grade was as follows; 4 Asian/Pacific Islander, 5 Black, 4 Hispanic, and 62 Whi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PPEND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RA levels on spreadshe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writing/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heck-list/spreadsheet for math task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grade friendly rubric on the Ideas tra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6+1 traits checkpoint li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what it means to be an easy, just right or challenging book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of student work from writing journ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xample of what is done in small 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low rea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individual reading/writing fol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esson plans on the word choice tra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grade assessment bookl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 - 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ok box – “Just Right Book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Journ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mall group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ividual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hat an Easy, Just Right and Challenging might look lik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of student writing at beginning and mid yea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small group activiti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low readers and their and smart goal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other readers and writer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ifferentiation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- 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lesson plans on the trait of word cho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y show different approaches to teaching the same writing trait. (an example of student work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ifferentiation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 – GROUPING STRATEG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rit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th Group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veled abilities according to # of sight words known and DRA sco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xed abilities or Interests group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ried from mixed to leveled abil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Grouping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S – ASSESSM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A’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ck-lists for ma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00 sight wor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+ traits of wri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essment boo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A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list of tas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list with # of words know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ck-list with each students’ level, and a picture of student friendly rubric on ide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grade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ssessmen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UZZLES OF PRACTICE”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most effective way to provide differentiated instruction to reach the wide rang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earner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most effective way to group students for differentiatio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EACHING PRACT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was happen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should happ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i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sess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udents chose their “just right” books independently, but this was not monitor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mall groups doing shared reading with teache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e-on-one conferences doing guided reading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ole group lesson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classroom library. Books were coded and students were taught the levels of the book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02:42Z</dcterms:created>
  <dc:creator>Mike</dc:creator>
  <dc:description/>
  <dc:language>en-US</dc:language>
  <cp:lastModifiedBy>kwoodrow</cp:lastModifiedBy>
  <dcterms:modified xsi:type="dcterms:W3CDTF">2010-03-13T23:40:56Z</dcterms:modified>
  <cp:revision>39</cp:revision>
  <dc:subject/>
  <dc:title>Instructional Strategies</dc:title>
</cp:coreProperties>
</file>