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365B-6C86-4E98-9481-3480C783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36F3-DF2E-4A52-87A6-C238D14C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9D9A-0E6C-4075-908F-F9B4F7387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303E-C247-46A5-A672-1B4C914BC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e Crosswor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 out Paper Plates Ask each student to write his/her first and last name across the middle of the p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people made 5 or more connections/ 6 or more? 10 or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connections did you find with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you surprised by any of the connections you had with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other reactions do you have to this activity?</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D012-231E-49B2-AE0C-C407E144F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3C07-6139-40AC-A65B-DB3A1EDBB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r>
              <a:rPr b="0" lang="en-US" sz="1200" spc="-1" strike="noStrike">
                <a:solidFill>
                  <a:srgbClr val="000000"/>
                </a:solidFill>
                <a:latin typeface="Calibri"/>
              </a:rPr>
              <a:t>--Did the norms work? Which ones felt natural? Which ones will take mor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roduct of the questions or the process have any other guidelines come to mind which we should add to our list to ensure safe-speaking practices?</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F502-1990-4F3E-BF39-453A38602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904C-6F5A-426C-A842-4A25B0246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EC1D-A71C-4CA3-ACD3-4A890E198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CE11-0AE3-4045-A1AA-2714AD15F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9851C-3F11-4990-8E4F-E60BEA94E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0474A-D669-408F-ABC2-BC6E21D8A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6D7E9-BAD1-4495-A250-5014BDE96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78454-E0F2-49D2-B20F-9C3D9AC9A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6A18E-EB09-4D41-9C8E-89658C7B9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C14F5-1856-4E14-835C-E41C869BB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A7184-F2A7-42D1-B966-B9BDC56A2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850BE-969E-49B5-A8BF-96634A34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CF860-2ED2-407A-A69F-F5BCB18BE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CF32B-5556-4E2B-B998-86526E6A8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FA33-F933-44F3-BEF3-47F62BE5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CE2E-6A74-4077-8875-C27E77C89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D26CF-398C-42C4-91A4-7B055E37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81E8-A8B1-4C4F-AA97-1BCB1DC44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26534-773B-4FAB-9E04-1C5189345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225A8-1B11-4AF0-AC67-D045494FC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D3059-5F1E-4171-A606-C891EC918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A6CD53D-8BF3-4D6A-85B8-F7F5C6CC1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9D389C-8FF3-4769-A597-ADF1658D7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5F60C9-FB7E-453B-9F65-35969E117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2463CD-7D36-418F-9BB1-640A0D077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741151-7842-4356-BF9A-64358BD67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A718D-730D-4181-A4D4-8E6CC01B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578B87-71D0-4B85-82B3-F75D535F9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ECDB2F-496F-4773-905D-0A0BF5842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2E3A9E-8466-4587-A653-49248CE96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37EE1A-A590-4838-ADF8-D882EAFAC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353513-8169-4E22-91E2-727EADA34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53CD22-16C0-4C67-843D-242E7458F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4C81037-F8BC-4829-BD17-513169737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6E2E696-7FCD-4E5C-8B79-A7D183E9B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A95E64-8219-4355-A0F9-4CF45F7E7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B5154F-B148-4A2C-8411-068DC4462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43A9-15C0-4BDD-A4C9-8E033917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5D7DDC-0E71-4DA2-BD27-0B66D7F5C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4A4356-19CB-47A6-A2B1-8BF813482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654B6B-8A88-4E9F-AE45-E88FF920A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8B472D-20E9-48C5-9B3F-866B231A2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9EB631-7B5A-465B-9D7E-C8A7A09DD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587BB8-756B-4630-8845-389F90F47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E57DA4-68A4-4154-B679-94A22C7988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BB6890-7187-4A17-8733-7E3DEC044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D03E89-F79C-4BE2-BA01-E42821411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5469F3-FC68-4DC9-BB45-E560F6B00A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660D-854D-44E3-9E5E-F712F0D8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3B9DE8-E300-4EEC-AD4E-01333969B6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F547D0-2896-4721-BFCE-BAC1F5278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15AA0C-E500-4118-8944-CB0B849603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795164-AD4A-48DE-A939-5059C5AFBC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20B215-3793-4802-9FDA-BCC213F82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0CB280-4715-403E-B435-530B44871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232323-81A7-4AB6-B5B0-B208FE2CF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927B15-80EA-4B9E-9296-9ADABB4EC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5D9424-9925-4091-8EDC-321B59663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9D37D3-0C21-496F-8881-FC867384DF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A7408-1C4E-46F1-AD71-271529FF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9AA39BB-4B64-4FED-8586-D44F884C84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A403F4-A77B-420E-B37F-690F0C2BB3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D8D37-FDB0-4F33-A335-2D5A09EF9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108DC-761C-4ACE-95E4-4B178282E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AB022-FB0A-42BF-ADF9-29ED1FAF55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6B961-B35C-44D7-8DB5-20211B4C1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88980-4195-4DC2-9034-0BDAF789B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FE616-1E92-4F02-B46A-E46EFB356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FA6F6-A76D-4B35-A3C9-FC1F62A37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D719E-837F-488C-AACE-BF7FF12AD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3AA4-D52A-4509-AC8A-D28AA3B0F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61FC9-FCA7-42C6-9CBD-3B6B5CC49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26F1E7-BE67-4074-94CB-F3E8488BE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676AA-4E3D-4BED-8891-07AA2FB827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D8CD5E8-AF2A-4E1E-98D9-6DFEA2AD98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409D5ED-D29A-4190-AE94-17B541C42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281165-7317-44A4-A763-95D3C9EF3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34784E-39B6-44CF-95E8-5458BAAFD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C51E18-790A-470A-A97B-B2226CD8E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F3FD4E7-ED1C-4CA7-9846-E459458A2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1F1863-6972-4FC5-BFF2-65C84308B2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DA29-9BF5-4C3D-A832-8A06DC02B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3B5F56-9FAD-429E-AA83-73EF9A13E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3F51B4-75E4-4147-9862-5A0883143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2C2BA2-9B0D-4678-A2A1-D03335C27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10753FE-E448-4A8A-AAF9-470B511B14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AD82A48-6F17-4F29-BDBA-62E780AC59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73FE1D-2535-4D07-BFD2-B93D37A3B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2CC8EC-4511-4971-BA6A-90FF01FD3C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23D945-8726-4408-950F-33169B2F8C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46996F-D54E-4826-9204-FD9A343AF8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9D0722-01F0-4BBA-9F9A-F6A3937EC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2997-025D-4439-848C-CB8FECAD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A3D4F-8FF3-44F7-8C7F-56F36BCD0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19E27-2668-4B96-BBA0-DDE17FC38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4C601B-4334-4D11-B375-EB5A35AB38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E970D-B442-4FCE-8E66-3CF1D38E3B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3B9A7-4243-4005-A991-0E9DDA9BC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B8AD87-5672-4389-B896-D46ACB527D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AE2A4C-940E-43A3-B6F4-502CCAB6250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C0E2-7D64-4755-BD1C-7082877EDB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0763-3C29-446C-A450-B8A3BDF34BC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B4EA-613A-46EA-A6AA-6C2B2D2AC85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971B-D3E9-4925-9C03-4660C1BDDA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2F43-71DF-4CCD-976E-EBBD409BC0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2DBB-7E5B-4652-B2FC-AE9D54EC1DF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AAAC-7D50-4FE4-AE48-E0EDC66A66E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A8CC-2CD7-4EEC-8EDF-9AB936C909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DRS 698</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1                    1/1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2 (40 minutes)</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are some of the things that you do automatically in the classroom without consciously thinking about them? (p. 15) </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3 (30 minutes)</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m up the key points central to our purposes of engaging in reflective practice in this cours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1</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en you think about a classroom problem, do you try to see it from different ‘angles’? (p. 4) Give an example.</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are some of the things that you do automatically in the classroom without consciously thinking about them? (p. 15) </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What is an example of educational theory that you hold about teaching that is based on your own or other teachers’ experiences? How does it relate to the public theories about this issue contained in educational literature? (p. 16)</a:t>
            </a:r>
            <a:endParaRPr b="0" lang="en-US" sz="1300" spc="-1" strike="noStrike">
              <a:solidFill>
                <a:srgbClr val="000000"/>
              </a:solidFill>
              <a:latin typeface="Tw Cen MT"/>
            </a:endParaRPr>
          </a:p>
          <a:p>
            <a:pPr marL="290160" indent="-29016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Israel Scheffler argues that teacher must not only look inward at their own work within the classroom, but outward toward the broader contexts as well (p. 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3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Chapter 3</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um up the key points central to our purposes of engaging in reflective practice in this course.</a:t>
            </a:r>
            <a:endParaRPr b="0" lang="en-US" sz="13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ck to the Agenda</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30-11:40 BREA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1:40-12:15 share out small group responses and observations re: Safe-speaking practices—attribute list for reflective teacher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2:15-1:00 View and discuss the Che che Konnen vide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9:45  Introductions and warm-up</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rosswords Activity</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roduce 7 norms of collaborative work. </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actice using the norms with a Pair/shar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ebrief</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9:45-10 Discuss the course guide; Snacks discussion</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0-11:30 Use 7 norms in small group discussion of responses to a selection of in-text questions</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30-11:40 BREAK</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1:40-12:15 share out small group responses and observations re: Safe-speaking practices—attribute list for reflective teachers </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2:15-1:00 View and discuss the clip from Che che Konnen video</a:t>
            </a: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ross Word Connection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rite your first and last name across the middle of the paper.</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You will have just 5 minutes to connect with as many people as possible. A connection occurs when you find someone who c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1. Write their name on your paper in a way that includes a letter from your name or another name on your shee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2. You write on the back of the sheet one thing that you have in common with that person: Ex, things you both like: food, movie, free time, places you’ve been, family size, etc.</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t the end of the activity we will debrief</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5f55"/>
                </a:solidFill>
                <a:latin typeface="Tw Cen MT"/>
              </a:rPr>
              <a:t>The 7 Norms of Collaborative Work</a:t>
            </a:r>
            <a:br>
              <a:rPr sz="4000"/>
            </a:br>
            <a:endParaRPr b="0" lang="en-US" sz="40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Using the 7 Norms</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think of an example in your own experience where participating in a discussion caused you to rethink and then change your position on an issue?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onversely can you think of a time when group discussion made you feel uncomfortable and caused you to stop examining your beliefs or ideas? </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you begin to describe features or elements of either of these experiences that might help you to understand the enabling and disabling features of those sorts of “critical” conversations? (p. 19)</a:t>
            </a:r>
            <a:endParaRPr b="0" lang="en-US" sz="27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urse Guide</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ny questions? Some activities will be moved around to accommodate the various day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ations—we will have the first one with 3 groups and then each subsequent data session will be 2 group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1</a:t>
            </a:r>
            <a:r>
              <a:rPr b="0" lang="en-US" sz="2900" spc="-1" strike="noStrike" baseline="30000">
                <a:solidFill>
                  <a:srgbClr val="000000"/>
                </a:solidFill>
                <a:latin typeface="Tw Cen MT"/>
              </a:rPr>
              <a:t>st</a:t>
            </a:r>
            <a:r>
              <a:rPr b="0" lang="en-US" sz="2900" spc="-1" strike="noStrike">
                <a:solidFill>
                  <a:srgbClr val="000000"/>
                </a:solidFill>
                <a:latin typeface="Tw Cen MT"/>
              </a:rPr>
              <a:t> Data Presentation—</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gina, Anne, Michelle B.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ohanna, Carrie, Melissa, Lindsay </a:t>
            </a: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ichelle D., Allison, Pearl, Angelina </a:t>
            </a: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ups for Subsequent Data Presentations TBD</a:t>
            </a:r>
            <a:endParaRPr b="0" lang="en-US" sz="29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82120" indent="-2480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nack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we want to do a snack sign-up or do you just want to bring in your own munchi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tributes List for Reflection</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you go through the questions and chapters in small groups, keep a page where your group lists any attributes that are critical for Reflective Teac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pter 1 (20 minutes; Pair/Share)</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9000"/>
          </a:bodyPr>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s your Regis program prepared you to question the educational goals, classroom and school contexts; to play an active role in creating and critiquing curriculum; to consider a variety of instructional strategies? (p. 4)</a:t>
            </a: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you think about a classroom problem, do you try to see it from different ‘angles’? (p. 4) Give an examp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1-12T23:31:33Z</dcterms:modified>
  <cp:revision>82</cp:revision>
  <dc:subject/>
  <dc:title>EDRS 698</dc:title>
</cp:coreProperties>
</file>