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CC81-2566-4049-9681-A95B0C2CB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DC44-DB36-432F-8E51-F0A8E7DE8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0021-9F1F-454A-81F2-79A7BE924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6B0A-77FD-4E11-988F-9DEE30B5D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e Crosswor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Paper Plates Ask each student to write his/her first and last name across the middle of the p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people made 5 or more connections/ 6 or more? 10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connections did you find with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you surprised by any of the connections you had with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reactions do you have to this activity?</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1A9F-275B-465B-854B-B2358E965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8C30-0F52-4C3D-BFEF-D722B9136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a:t>
            </a:r>
            <a:r>
              <a:rPr b="0" lang="en-US" sz="1200" spc="-1" strike="noStrike">
                <a:solidFill>
                  <a:srgbClr val="000000"/>
                </a:solidFill>
                <a:latin typeface="Calibri"/>
              </a:rPr>
              <a:t>--Did the norms work? Which ones felt natural? Which ones will take more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roduct of the questions or the process have any other guidelines come to mind which we should add to our list to ensure safe-speaking practices?</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A36F-B6B0-4308-B9FF-0A86A46BD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5D18-EC43-44DE-8B92-9E1CAC529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29ED-BF4D-42A8-8B9C-3AF32DCDD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2E4C-30EB-43AE-B95A-2F35B8664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62B59-E333-4D59-AC20-65F55420D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BF8CC-338C-4289-B3C6-35FA2E348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C82D4-2D4B-4F24-8E0D-97BF666E1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EDFAB-5358-4BEB-97DE-ECCF3C529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D3C60-B649-42A2-B644-BC2596127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B2132-5C35-4043-B4A7-CF3E5A979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ED53D-6B10-41A1-9C9B-B1C603544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42284-3672-436E-BB80-D49D10517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D4455-756E-41FB-9C1A-2CD35A025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5F928-0CD5-481F-B688-3A97BB413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15F13-D107-474D-881D-602C29FD5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B0885-25EE-4158-B839-25CC38B74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AA5E2-A9E2-4F98-9C44-8F09E6973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A0872-4996-4F2B-B0B8-1EFD450B7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4CC95-2760-4670-ADA2-DCF6DC7EC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06462-5BF4-4851-99CB-9BBE2DA49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09684-C73A-46DE-87A2-C9B69C831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4AF2C09-C701-4BC8-B9E8-9221C3633D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F26495-8529-427A-AC30-CBA3C2143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81CEA9-0282-426E-BEEF-FE40BAAE8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E8CAB82-5144-4162-A00D-F8C9563E51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F964BA-DE1C-4AED-B8C3-24E7A263E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29C87-5076-43CB-AE61-4BE781B8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D128CF6-D4BB-46D8-A8BC-F736616B7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C7B480-3A44-48CF-9A33-7D8A51FF6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A1EA77-9D5B-4160-98DF-188CC90BF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B77699-0E22-4854-9570-412B54919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CAB99E-7B01-47B7-A99C-04CDA8AB1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3EDDABF-7C20-4E1C-BA6B-95D4EC24D3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971A3CE-32BC-4C53-A3D3-75F09E1171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5469C08-92DE-4A3A-99F3-77A00551F2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F86DD9-8420-48CB-BED1-39317176E4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DA6A875-19AE-4530-8D71-900089811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D1D19-E9ED-4FDF-BC1F-6EB0896D6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5EA9C5-EB8E-4772-B961-99AF19F2B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49873E-CB53-47CC-9A5E-0A3E9DB7C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C7AA10-D3AD-4B4E-BEB5-326B02DF0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827445-DC61-4F68-A20B-020F1FF4F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F73CD5-30F2-4AB7-82A3-B6974CC44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46AFAC-EC6E-4A79-92B1-28A7F5201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D74B15-4B24-49AB-8F62-16330D4E2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F672BF-D6D5-4D9A-A167-6E535F4A91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64D3964-1FEF-4C26-8B59-B4F173FC73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AE83CFB-3ADC-4E86-B8F5-3E8BE152F2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1AC39-8310-4CB0-BEC6-939EB5C9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89AFFE-A116-40B5-A7E3-D4B516CB09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0E94391-F723-445C-9508-1B5D3F13D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87AE7B-8E04-42EC-A0F5-4526EEB78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5683CA-CABA-416C-94A8-C12A767741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AB067C-3486-4EC9-B9F5-C0989DD3F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0F795D-0627-483E-BF67-588D3F1098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7CBB49-912F-4D25-9FC9-74D47319D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D02CE9-6670-478A-99A5-3AFB3C940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1BBD3A-7226-4628-9503-E0C1D059E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747F108-2E3C-4E68-8C06-91900F55B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6EA8D-6882-4899-AD9B-D0934200B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95B899C-2D03-496C-AAF1-B24DF6D47C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EC6526-5A0F-41AF-90F1-63190D9ABC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6E808-57E9-4BE9-96C1-455418893A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048E35-8C62-4B66-9DF3-88BC2C6FC0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37F25-3F5E-43E8-BC86-10DFD29AC1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7D329A-69FA-415B-8B49-3347EA03A9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85329A-25FD-49B2-9AAB-3F5F6EC00D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4ED6D-D5DF-4475-9BC1-DC3B252C0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83F3C-90AD-48B4-AD46-76C103A328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28589-25D0-4BF5-8731-B70417572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47D32-B9C4-43C1-BE44-B15A80E57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5AE47-EDA9-4CE9-A30B-C7A466F70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B6F94A-ADF0-4EE3-AB53-871105602A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958E3B-83EB-409D-AF7E-6E53E2BB32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BBF6B7C-0320-4C8C-BA21-BC74F88905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356DD0-1BEC-4FA0-8CF9-342904AFB2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EB97A5F-22A6-4280-8912-116378D42C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67A4703-7742-49B8-96E4-DDE7663B64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3534E0-329F-4049-B793-32F45A9D9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8845D78-E329-4D9C-8267-6C7A85DED8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DA3A12-345A-4D71-948C-01D1E086B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DA54-9BCE-4315-BAAE-D43024517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671D50-4079-4534-B1CC-608B37F55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D373AD-6618-48C7-A575-57CDC52BD7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74BF7D1-FD15-4FB2-B26C-FC0EDD1DBF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C7EBA0C-E23F-446F-9976-14B13FD0A4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69E6914-51BE-4EBE-B3DE-2B51888CF5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7269C0-36AF-417B-9745-09D04D6A1C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039FE3-26A5-4231-9CB2-238BCFD86D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64CBD0-5732-437E-8820-B12CC5470B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6C205C-8170-408F-89B6-D817628F32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7679C5-E5A0-416E-99ED-8C5232A58E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2BE5D-57F0-4E7B-9598-7B55BE298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5D2FC4-F1BD-49E9-8966-25239340E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61C8A-29FE-4355-8B7C-BB79C537B7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EB15A-5C63-4AAF-AF39-FB8A57FDC8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785D2-B3D7-409A-9F7B-726427837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0CAA06-AB68-49C2-96B6-77D4B2A1C9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CAB2A4-EEF6-48A8-9E6F-116428FB19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F96A45-E8AB-4111-B39E-077F37E2B46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E4E0-D28F-40FC-875F-2B4771B443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7C8C-8BAE-4D59-B76E-F620BF629FB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1478-47C9-4BCC-A3FF-60FF1F98387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0C69-3904-4C78-BDDE-C01E4BF6DD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4A00-D3AF-41BF-89E1-C415E54D41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DBF7-1197-4382-BE04-94BEC0DD8716}"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2E1F-4C29-4F4D-B598-D01B2885FCDD}"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AA05-1A58-4413-95A6-96F5F41753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DRS 698</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1                    1/1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2 (40 minutes)</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are some of the things that you do automatically in the classroom without consciously thinking about them? (p. 15) </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3 (30 minutes)</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m up the key points central to our purposes of engaging in reflective practice in this cour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1</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en you think about a classroom problem, do you try to see it from different ‘angles’? (p. 4) Give an example.</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are some of the things that you do automatically in the classroom without consciously thinking about them? (p. 15) </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Israel Scheffler argues that teacher must not only look inward at their own work within the classroom, but outward toward the broader contexts as well (p. 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3</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um up the key points central to our purposes of engaging in reflective practice in this course.</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 to the Agenda</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30-11:40 BREA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40-12:15 share out small group responses and observations re: Safe-speaking practices—attribute list for reflective teacher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2:15-1:00 View and discuss the Che che Konnen vide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9:45  Introductions and warm-up</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rosswords Activity</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troduce 7 norms of collaborative work. </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actice using the norms with a Pair/shar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ebrief</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45-10 Discuss the course guide; Snacks discussion</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0-11:30 Use 7 norms in small group discussion of responses to a selection of in-text questions</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30-11:40 BREAK</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40-12:15 share out small group responses and observations re: Safe-speaking practices—attribute list for reflective teachers </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2:15-1:00 View and discuss the clip from Che che Konnen video</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oss Word Connect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rite your first and last name across the middle of the paper.</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You will have just 5 minutes to connect with as many people as possible. A connection occurs when you find someone who can:</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Write their name on your paper in a way that includes a letter from your name or another name on your shee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You write on the back of the sheet one thing that you have in common with that person: Ex, things you both like: food, movie, free time, places you’ve been, family size, etc.</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the end of the activity we will debrie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5f55"/>
                </a:solidFill>
                <a:latin typeface="Tw Cen MT"/>
              </a:rPr>
              <a:t>The 7 Norms of Collaborative Work</a:t>
            </a:r>
            <a:br>
              <a:rPr sz="4000"/>
            </a:br>
            <a:endParaRPr b="0" lang="en-US" sz="40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Using the 7 Nor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think of an example in your own experience where participating in a discussion caused you to rethink and then change your position on an issue?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onversely can you think of a time when group discussion made you feel uncomfortable and caused you to stop examining your beliefs or ideas?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begin to describe features or elements of either of these experiences that might help you to understand the enabling and disabling features of those sorts of “critical” conversations? (p. 19)</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urse Guid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ny questions? Some activities will be moved around to accommodate the various day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ations—we will have the first one with 3 groups and then each subsequent data session will be 2 group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1</a:t>
            </a:r>
            <a:r>
              <a:rPr b="0" lang="en-US" sz="2900" spc="-1" strike="noStrike" baseline="30000">
                <a:solidFill>
                  <a:srgbClr val="000000"/>
                </a:solidFill>
                <a:latin typeface="Tw Cen MT"/>
              </a:rPr>
              <a:t>st</a:t>
            </a:r>
            <a:r>
              <a:rPr b="0" lang="en-US" sz="2900" spc="-1" strike="noStrike">
                <a:solidFill>
                  <a:srgbClr val="000000"/>
                </a:solidFill>
                <a:latin typeface="Tw Cen MT"/>
              </a:rPr>
              <a:t> Data Presentation—</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gina, Anne, Michelle B.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ohanna, Carrie, Melissa, Lindsay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ichelle D., Allison, Pearl, Angelina </a:t>
            </a: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Subsequent Data Presentations TBD</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nacks???</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we want to do a snack sign-up or do you just want to bring in your own munchi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tributes List for Reflection</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you go through the questions and chapters in small groups, keep a page where your group lists any attributes that are critical for Reflective Teach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1 (20 minutes; Pair/Share)</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fontScale="99000"/>
          </a:bodyPr>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you think about a classroom problem, do you try to see it from different ‘angles’? (p. 4) Give an examp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1-12T23:31:33Z</dcterms:modified>
  <cp:revision>82</cp:revision>
  <dc:subject/>
  <dc:title>EDRS 698</dc:title>
</cp:coreProperties>
</file>