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A250-E023-427D-8C34-895CD7F70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E2AA-A460-450F-89BA-621FEE5B6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FB5C-8436-4DB7-9499-A5B1F8D26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2D74-C4DF-42C6-8146-81E505886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e Crosswor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Paper Plates Ask each student to write his/her first and last name across the middle of the p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people made 5 or more connections/ 6 or more? 10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connections did you find with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you surprised by any of the connections you had with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reactions do you have to this activity?</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19D7-8D2B-45BB-BA3A-593C77549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10FA-61B0-492E-A0C1-1B16D6AFF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a:t>
            </a:r>
            <a:r>
              <a:rPr b="0" lang="en-US" sz="1200" spc="-1" strike="noStrike">
                <a:solidFill>
                  <a:srgbClr val="000000"/>
                </a:solidFill>
                <a:latin typeface="Calibri"/>
              </a:rPr>
              <a:t>--Did the norms work? Which ones felt natural? Which ones will take more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roduct of the questions or the process have any other guidelines come to mind which we should add to our list to ensure safe-speaking practices?</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D4D5-3D87-492C-A2E9-1301C1D5E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D817-6647-4D71-AD0C-6D24B6D0F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C5CF-5420-4605-9D6D-7087AA10F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7533-891F-4CC0-9A28-B996489E3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F5FBC-AFC6-4CFE-997C-A8623F55C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AE699-873E-4FF0-BFEF-30FC23DB0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C3561-A5C8-4ED8-9B50-9BF19143F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00C7C-027B-4886-93CF-1412D76F5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E569D-0674-4CED-A9DF-4D1C09142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FEFC7-33D4-429F-8779-57D2DF062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7C1B3-B16E-4332-93BA-26ACDC81E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3E0C4-F5ED-4151-8804-202A5C78B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A7F3B-FCAB-4341-B366-93B41F792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C5A2F-CF87-43F6-B26B-F6BD6AB0E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DEB20-B7DA-4CA6-A6D9-D58DC8ECB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CB5CB-7979-40F9-8DEA-11F0BDE5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71129-89D7-4BF2-B052-C87667E11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ED324-3E7B-4DA1-AB23-E9E43A0D0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21BA5-06DE-4CF7-BE32-CF863C34D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84B18-E9F5-4788-95DE-F2D32BA6E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BB363-A09B-4AC8-98EA-0C0DAF8BF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0744A93-53D4-4F7C-AECD-E6FFC4BAD2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6ED42D-3E85-413C-B2E5-4C4FEFE51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04B411-AADE-4F20-9659-8E86D43F1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F2DA2B-341F-488A-A963-B97B6C58B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C6AB9D-F72B-4DFB-9681-A9A567303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EED76-E295-4857-A555-6865F9DB9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0B4F208-067F-4253-8731-B45587B02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3975D3-52C5-4FB8-ACAD-AAC48AB4C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0BDB66-787D-451F-9C4E-6983C6AA3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9ACF89-76EF-4178-A501-482725677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22F4352-9DC8-44B3-9135-53B589BD5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7447B1D-00CD-48D6-AAB0-8BB5C53288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A88C980-13C6-4A70-B90F-845976308A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007B4E3-AF5F-4C6D-9515-3B37B9C674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50BF2D-EE37-4807-8C3F-D6CC296D8B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9DC1EE0-F6EE-43C0-9C85-EE8A5FD5A3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6BB58-815E-43B4-8926-042DAFC66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FD4661-8E8D-46D0-9CB4-79673E60A2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AEC68A-BA2B-452D-96C5-DA36A14DF6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9B2918C-5933-478D-9783-DF689F38BD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3D208A-45F6-4B58-ADB2-38696FFE9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4E96EC-BF5F-4123-9C60-40955731A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242C87-D921-491C-89B7-CCA811B7C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E9599E-3FB2-4468-9303-34898DD4A9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4B8AB1A-803E-490D-9FDB-E0AACFD61E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1BDAA21-F112-4C87-9CAB-AC7722E943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5B75C2B-0D0B-44D4-87D6-93FE026ECB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8A9B4-E0CA-4586-A517-F4AFD23EE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996120-81F6-4E3E-8926-64F1F2AC96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7D7DF1-5B0E-4838-A5F9-8855B7F2C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9E0C2E-6889-4F67-B521-988B34A83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0447A1-8411-4085-95FB-9B26911F1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4E3446-4988-4616-8BFB-013C88324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A920AE-CB91-4678-A096-BA08D594F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5C5427-7E9A-4119-B800-6BD4CC80E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9AA635-35F2-4F4B-AE90-0FFA661F8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00F387-917F-4831-A62D-667ECC9ED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D453918-ADE9-4E52-A8DD-1BEF15115E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7F4E9-ACAA-42C9-9279-CC7FD8A61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03B962B-A570-49E2-99A9-4762F5ACB5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97B7FA-EBEA-4D5E-828B-D87BCA5018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D1D73C-1743-469B-8324-57A17D3130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6C6137-D2EF-455A-BA9E-7453F3466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FFD73A-3D0F-41FE-8FE7-95368EBF29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EDAC4A-9661-4BDC-8F47-F4A3D9A78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B6C9A-86B2-406B-90F1-0F4EEACCA7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8666B-3696-41D4-A272-88E7B1945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9B3AD-93BE-4B46-A1C2-56818BCCE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288B0-D764-4F64-8CA7-4883AD9D7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4264-4852-448F-A572-213C8B0FE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FB44ED-6444-459B-931F-CB1B25D64E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80BA00-5289-4EE0-A9AA-7393D63013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250D0A-FA52-4F69-8B8E-7A8B5AB3EE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4639E6F-602F-4FF0-B9B2-7FC15B99C3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1737217-57DD-4910-82BC-1AC9AA7EE8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CE5B924-38A1-409F-8BF0-B45FC028A0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90C22B4-20EB-4EDF-ACC6-9EE23870D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BC8D51-AF45-47D0-814B-1F09307F0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0EA040-FFB9-4118-B9F1-709721DC1B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9790DF-497F-4067-B4FA-113E71224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1A1E0-1066-4073-8359-CA4428DD9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C37D789-4519-48CB-A415-3632D0EC40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F31374A-1B0C-4D10-B3E3-665B3F139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85CD358-5884-44E8-B275-A378886513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2420FCB-4B3C-4FBA-9FD5-FDB00DE6B1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1AD7FB5-9501-4680-8108-50AFE75944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A3705C-FF4E-41EC-96F7-6C0561FF67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EF5D6C-7921-4F65-8A2C-DFB054193C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EE0E07-3FBC-4132-A9F2-B21DC38255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BE2AAA-61D6-46F2-8D89-29DE40E78A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73614-EB3F-4BBF-822E-541F7FDCE8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F4C76-7012-499B-A41B-D6D68576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181000-DE1C-4FF3-9910-2A51D2F62B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104EAC-28EF-449A-9F4F-22CC7710F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0BF980-633A-4F22-B317-D6114C228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26E76-ADE6-4A2E-9F33-4A880EBFDD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A3F15E-9A30-430D-858B-EC7E24B90C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0F8EC7-2B79-4046-85E6-C6B460F2A7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D6CDEF-FF19-482D-8043-7E831BB0EEF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5A9E-26BC-4FE8-9FF9-8689DD62D5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0BB3-B835-4A67-B375-5809C6481E0E}"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474A-0A62-4899-B125-0A5D26039A3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36AC-416B-4785-B1F8-9C4077C62A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1906-2AAD-4E09-882F-3A2374D6A2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1C4E-A2E2-4ED7-8AB3-AB210E7CE00E}"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EC62-A5E3-4A27-B785-F1C38642659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A067-7B37-4369-AD47-6C0E0BE5E3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DRS 698</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1                    1/1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2 (40 minutes)</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are some of the things that you do automatically in the classroom without consciously thinking about them? (p. 15) </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3 (30 minutes)</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m up the key points central to our purposes of engaging in reflective practice in this cour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1</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en you think about a classroom problem, do you try to see it from different ‘angles’? (p. 4) Give an example.</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are some of the things that you do automatically in the classroom without consciously thinking about them? (p. 15) </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Israel Scheffler argues that teacher must not only look inward at their own work within the classroom, but outward toward the broader contexts as well (p. 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3</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um up the key points central to our purposes of engaging in reflective practice in this course.</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 to the Agenda</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30-11:40 BREA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40-12:15 share out small group responses and observations re: Safe-speaking practices—attribute list for reflective teacher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2:15-1:00 View and discuss the Che che Konnen vide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9:45  Introductions and warm-up</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rosswords Activity</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troduce 7 norms of collaborative work. </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actice using the norms with a Pair/shar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ebrief</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45-10 Discuss the course guide; Snacks discussion</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0-11:30 Use 7 norms in small group discussion of responses to a selection of in-text questions</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30-11:40 BREAK</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40-12:15 share out small group responses and observations re: Safe-speaking practices—attribute list for reflective teachers </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2:15-1:00 View and discuss the clip from Che che Konnen video</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oss Word Connect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rite your first and last name across the middle of the paper.</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You will have just 5 minutes to connect with as many people as possible. A connection occurs when you find someone who can:</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Write their name on your paper in a way that includes a letter from your name or another name on your shee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You write on the back of the sheet one thing that you have in common with that person: Ex, things you both like: food, movie, free time, places you’ve been, family size, etc.</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the end of the activity we will debrie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5f55"/>
                </a:solidFill>
                <a:latin typeface="Tw Cen MT"/>
              </a:rPr>
              <a:t>The 7 Norms of Collaborative Work</a:t>
            </a:r>
            <a:br>
              <a:rPr sz="4000"/>
            </a:br>
            <a:endParaRPr b="0" lang="en-US" sz="40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Using the 7 Nor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think of an example in your own experience where participating in a discussion caused you to rethink and then change your position on an issue?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onversely can you think of a time when group discussion made you feel uncomfortable and caused you to stop examining your beliefs or ideas?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begin to describe features or elements of either of these experiences that might help you to understand the enabling and disabling features of those sorts of “critical” conversations? (p. 19)</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urse Guid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ny questions? Some activities will be moved around to accommodate the various day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ations—we will have the first one with 3 groups and then each subsequent data session will be 2 group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1</a:t>
            </a:r>
            <a:r>
              <a:rPr b="0" lang="en-US" sz="2900" spc="-1" strike="noStrike" baseline="30000">
                <a:solidFill>
                  <a:srgbClr val="000000"/>
                </a:solidFill>
                <a:latin typeface="Tw Cen MT"/>
              </a:rPr>
              <a:t>st</a:t>
            </a:r>
            <a:r>
              <a:rPr b="0" lang="en-US" sz="2900" spc="-1" strike="noStrike">
                <a:solidFill>
                  <a:srgbClr val="000000"/>
                </a:solidFill>
                <a:latin typeface="Tw Cen MT"/>
              </a:rPr>
              <a:t> Data Presentation—</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gina, Anne, Michelle B.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ohanna, Carrie, Melissa, Lindsay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ichelle D., Allison, Pearl, Angelina </a:t>
            </a: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Subsequent Data Presentations TBD</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nacks???</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we want to do a snack sign-up or do you just want to bring in your own munchi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tributes List for Reflection</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you go through the questions and chapters in small groups, keep a page where your group lists any attributes that are critical for Reflective Teach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1 (20 minutes; Pair/Share)</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fontScale="99000"/>
          </a:bodyPr>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you think about a classroom problem, do you try to see it from different ‘angles’? (p. 4) Give an examp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1-12T23:31:33Z</dcterms:modified>
  <cp:revision>82</cp:revision>
  <dc:subject/>
  <dc:title>EDRS 698</dc:title>
</cp:coreProperties>
</file>