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E2E1-3B3F-49A5-AB22-7E3E03FC4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06C7-6370-4D61-98B2-1A4570622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0CA0-2C65-45DC-BDA9-C82FE790F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E8AB-C5EF-4962-9B44-86054F838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e Crosswor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Paper Plates Ask each student to write his/her first and last name across the middle of the p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people made 5 or more connections/ 6 or more? 10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connections did you find with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you surprised by any of the connections you had with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reactions do you have to this activity?</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88F9-6353-4D2E-A8D3-87F56B549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AC2C-4B58-40B6-B20C-A232B4675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a:t>
            </a:r>
            <a:r>
              <a:rPr b="0" lang="en-US" sz="1200" spc="-1" strike="noStrike">
                <a:solidFill>
                  <a:srgbClr val="000000"/>
                </a:solidFill>
                <a:latin typeface="Calibri"/>
              </a:rPr>
              <a:t>--Did the norms work? Which ones felt natural? Which ones will take more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roduct of the questions or the process have any other guidelines come to mind which we should add to our list to ensure safe-speaking practices?</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1696-B9C6-4133-B9B2-673B5F6F0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C636-D93C-425A-9A4E-2760752F3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40EC-1299-4ECF-99C3-0409FE774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8D07-DCE8-408A-B4BE-180A23275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371D4-342A-4AB8-ABC9-B421CDA32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77F66-0D12-4F68-AD83-018BC51FA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CF111-F98D-46AF-889D-E856565DB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156B8-CD27-4787-813A-1BDF21976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3B13A-FA03-4CC0-8DDB-C99E8F879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31CD9-06F7-4BDC-9271-A04F621F9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D3F46-756B-43D5-BDD8-A18A7F6A6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E89D8-C96B-4192-B6A2-479E4A02B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5BB98-5485-4996-9189-1F5D1FB28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1B33E-E4A9-451E-B758-936B2850F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5C53D-A4AE-43A6-AD7A-4B11774A6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D7B17-D6CA-42E0-A759-BA5D34EF3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846F1-E7BE-4BCC-BC41-0B776F61A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A537C-BFD4-4576-B8B8-2A4070034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D6678-2606-44C0-B3A6-1EDA07791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06D53-8DAE-44BC-B819-0DAEC9110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428D6-CF62-4B1D-AE0C-14EBF3A4F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4F45042-6CD0-40B4-925F-53D4B44218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7159FB-E937-4E77-ACE6-7506FD0EB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B7B12A8-D4FE-4060-9F78-A8E51BC07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CFBADB-EE95-4657-AE38-FA7564524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9BD94C-C4AC-4E46-B480-424684DD5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455FF-8B38-4B9F-AE32-F6E380DC0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69346E-8E33-4271-9A4C-9177383C81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D525A2-2541-4773-BF9D-E83BF6405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D737F3-CAE8-4EC9-B01E-BB2624E62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A6E80B-0D76-42BC-BD33-C3A93C1AB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799B1B-10F6-4EFE-AC57-8D994AAC2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DCEACF8-ABFA-4CC4-8352-EE21A5858A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CBFE37-F1AA-4E2F-9539-1D51C38F64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7B16B94-6BE0-4BD7-A06D-2417567570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E847A0-CA73-4BF7-96F8-3C8153FF1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91A9589-B7B9-49FA-B57B-8E473DD6E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83F8F-BB06-4DCE-AA40-0E2D4A17B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D1655D-7F94-4C9B-8461-64A56C1002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94AEDE-A079-455B-965B-2DA4257148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F520E1E-9CA5-4BAF-BA2F-9EAA34EA03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3E6013-8505-4AD1-9CFD-E3055AA9D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25BCAD-7386-4686-8AF9-161613769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5D7E74-A373-46A0-808D-9114C3217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0DD555-5051-4640-8C6B-762C3DC5A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E46D8B0-E225-4941-9A30-6713D6A2C6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0D81F98-3345-4505-AEE7-99EEF16CB4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5D19BDA-CB74-4DD5-B211-E8BF41E092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74418-1020-4B86-BDEA-AE55582A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38C0E1-58E2-44EE-95C3-AA84AABA3D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82467C-A52D-4F68-895B-5A945D82A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922A98-00C0-4D29-8485-16DBEE9082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51EC01-EAFA-4EA8-82BC-2EC71416F5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6FBA9CD-655B-4F07-AFCF-6C09E9A45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EFAE96-975C-4B39-B272-6F63EF05E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A3DF9C-763C-461B-9BDD-8C91C38EC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61E20E-A43E-4CD8-B823-631F0CDA1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DD390D-744C-4B76-9FB6-DA0447078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A30640-2253-49E5-8BBE-E4CD8AAF5B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6A877-455C-4F94-97B0-FC7809790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1AA3E8D-FE0B-4C5E-9218-453AEA948D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6FCF7B-B5E3-4C8D-896F-47E5AB0656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DC9192-CF9F-4E0D-993C-D941E63CD3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33140A-EC9E-4301-8167-070B70CAB2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23942-ED7C-45EA-9D86-466165A171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0CE2F4-710F-4EF8-8D6F-F353406EF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3EA377-5391-467B-AC19-B4CFA29FBD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9200E-9932-4AEC-A344-34B2553C5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3A0FF-D05B-4E88-832E-2778978A1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61547E-05F1-40B7-AF3C-A851EA70DB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5DFC-4ED1-4A15-A8DD-35890C689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88B291-F62A-407C-8E0F-0327759C5B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307FE6-1578-4B7F-9D50-3FB9C92A2D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8B17A7-141E-4B74-81C1-A90D3ABFA3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8B99F87-E35A-4155-9CD0-84C122A2D9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E4E1F94-B9FC-46FD-B6CD-D0A7CDAF5B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B5B84B6-EBD1-4EB5-8F23-046CD30C2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5C51E73-8651-4200-BDA5-5363A6BB17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D8B15B7-D883-4190-ADFB-9F845CFF9D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1F6704-9CAA-4039-8B4A-6167EE9688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4CC8EF-C847-498F-8C80-2235C6188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10495-E72E-4ECE-A441-03C3153DA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8D31A9-E330-4046-A3E6-7364F9EA6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5F4AA7-76AD-4B58-92D2-A89F9C54F0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8B74FAB-829B-46BB-AB87-79E6C6FA16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BA4751B-B6DB-4E2A-9599-06B37F8EAF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B39C693-AB13-4F7F-9CCF-8E65A1506D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49FC59-7C31-4B4E-A60F-DB928EB9A5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088CA5-3768-41B1-967C-410D8AF8E1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0F4A60-CE4B-4435-B776-5E80F35A54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0158BA-8B5E-4DD9-AF80-0CB5F5454D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B7733F-88DF-4633-A89A-CF64A241F2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6C7B-E283-4ACD-91C0-9523B6BF1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21785-50D3-4ED4-A741-E45FBDF40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9FB93-41D9-4E44-A104-C7D5F57F73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2DF3D-B6B8-4430-9E77-8FC9E4285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5B3C8-00BD-4C06-826E-EAD3FE77D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A0C6F2-0643-4F0D-8649-90537E0E4C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C85B96-F639-4EBD-A476-3A5D784146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C37EE2-280C-4AE2-BD02-840A534A3D6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296C-F3AC-48F8-837C-85324A2141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07AD-7742-4AB2-A520-B97F0BCC8B27}"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49FF-F24B-4180-93A1-06C6F997B68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A3E8-29E5-4BC7-9B95-1AF1534702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106B-321D-4282-A5C0-7A644F9127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3906-D06E-46F0-BDE4-F9F55D852FAF}"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2864-DB8B-40D4-84E5-8E885E95EDD7}"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0243-9AE3-4E09-B637-831C0495523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DRS 698</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1                    1/1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2 (40 minutes)</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are some of the things that you do automatically in the classroom without consciously thinking about them? (p. 15) </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3 (30 minutes)</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m up the key points central to our purposes of engaging in reflective practice in this cour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1</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en you think about a classroom problem, do you try to see it from different ‘angles’? (p. 4) Give an example.</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are some of the things that you do automatically in the classroom without consciously thinking about them? (p. 15) </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Israel Scheffler argues that teacher must not only look inward at their own work within the classroom, but outward toward the broader contexts as well (p. 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3</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um up the key points central to our purposes of engaging in reflective practice in this course.</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 to the Agenda</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30-11:40 BREA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40-12:15 share out small group responses and observations re: Safe-speaking practices—attribute list for reflective teacher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2:15-1:00 View and discuss the Che che Konnen vide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9:45  Introductions and warm-up</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rosswords Activity</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troduce 7 norms of collaborative work. </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actice using the norms with a Pair/shar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ebrief</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45-10 Discuss the course guide; Snacks discussion</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0-11:30 Use 7 norms in small group discussion of responses to a selection of in-text questions</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30-11:40 BREAK</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40-12:15 share out small group responses and observations re: Safe-speaking practices—attribute list for reflective teachers </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2:15-1:00 View and discuss the clip from Che che Konnen video</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oss Word Connect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rite your first and last name across the middle of the paper.</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You will have just 5 minutes to connect with as many people as possible. A connection occurs when you find someone who can:</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Write their name on your paper in a way that includes a letter from your name or another name on your shee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You write on the back of the sheet one thing that you have in common with that person: Ex, things you both like: food, movie, free time, places you’ve been, family size, etc.</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the end of the activity we will debrie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5f55"/>
                </a:solidFill>
                <a:latin typeface="Tw Cen MT"/>
              </a:rPr>
              <a:t>The 7 Norms of Collaborative Work</a:t>
            </a:r>
            <a:br>
              <a:rPr sz="4000"/>
            </a:br>
            <a:endParaRPr b="0" lang="en-US" sz="40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Using the 7 Nor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think of an example in your own experience where participating in a discussion caused you to rethink and then change your position on an issue?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onversely can you think of a time when group discussion made you feel uncomfortable and caused you to stop examining your beliefs or ideas?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begin to describe features or elements of either of these experiences that might help you to understand the enabling and disabling features of those sorts of “critical” conversations? (p. 19)</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urse Guid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ny questions? Some activities will be moved around to accommodate the various day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ations—we will have the first one with 3 groups and then each subsequent data session will be 2 group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1</a:t>
            </a:r>
            <a:r>
              <a:rPr b="0" lang="en-US" sz="2900" spc="-1" strike="noStrike" baseline="30000">
                <a:solidFill>
                  <a:srgbClr val="000000"/>
                </a:solidFill>
                <a:latin typeface="Tw Cen MT"/>
              </a:rPr>
              <a:t>st</a:t>
            </a:r>
            <a:r>
              <a:rPr b="0" lang="en-US" sz="2900" spc="-1" strike="noStrike">
                <a:solidFill>
                  <a:srgbClr val="000000"/>
                </a:solidFill>
                <a:latin typeface="Tw Cen MT"/>
              </a:rPr>
              <a:t> Data Presentation—</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gina, Anne, Michelle B.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ohanna, Carrie, Melissa, Lindsay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ichelle D., Allison, Pearl, Angelina </a:t>
            </a: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Subsequent Data Presentations TBD</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nacks???</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we want to do a snack sign-up or do you just want to bring in your own munchi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tributes List for Reflection</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you go through the questions and chapters in small groups, keep a page where your group lists any attributes that are critical for Reflective Teach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1 (20 minutes; Pair/Share)</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fontScale="99000"/>
          </a:bodyPr>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you think about a classroom problem, do you try to see it from different ‘angles’? (p. 4) Give an examp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1-12T23:31:33Z</dcterms:modified>
  <cp:revision>82</cp:revision>
  <dc:subject/>
  <dc:title>EDRS 698</dc:title>
</cp:coreProperties>
</file>